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2.png" ContentType="image/png"/>
  <Override PartName="/ppt/media/image23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E48B-37AC-4917-941F-E9B3DD06DF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D5F2-261C-46A8-B8E7-AB6A41FEE3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C5B1-85BB-45CF-9B2C-1536F189D1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004C-9D58-419F-A549-98CA5F2D14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2DB4-BF31-4783-8832-46B6549A9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BE7C-0B6D-448D-8BFF-D771A20E1E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3C10-7B04-49DC-B63F-1523213AB7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CA41-7605-4CE1-85D8-90259ED91E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827C-BFE4-47D6-A00B-BF72031009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B104-0E0B-4614-ABFC-07D0F51632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64A7-CF48-4150-A5A5-FFC732F7A3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4A2B-2EDE-41A2-B564-F7359EB423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BB0-F9AE-46DB-A9DE-FEFFD941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466-B4E3-4489-9DB9-BC26F63E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AE7-7AF9-4752-95D2-6F85A749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97C-4A8C-4AF5-96A5-1101B73B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FD1-24B6-4B1F-A770-29A4DB39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77D8-BC46-4953-B040-28690A8B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5225-997C-48A0-9DDA-3ECF82E6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F54-B94F-4DA8-8898-9897CD09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0AD4-8D17-441A-882F-CC9F454A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C69-FB61-4FBE-82BB-8452FE84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8CE-FF90-44B6-8C18-5124D377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46F-1C50-48CD-9C32-D398546A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4C54-BCCF-41A0-B7E9-35D74B1230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.ua/imgres?imgurl=http://www.doktor-analis.ru/grip/mocha2.jpg&amp;imgrefurl=http://www.doktor-analis.ru/analis.php&amp;h=80&amp;w=70&amp;sz=2&amp;hl=uk&amp;start=42&amp;tbnid=ARsh9RY_w7T0ZM:&amp;tbnh=74&amp;tbnw=65&amp;prev=/images%3Fq%3D%25D0%25BC%25D0%25BE%25D1%2587%25D0%25B0%2B%252B%2B%25D0%25BE%25D1%2581%25D0%25B0%25D0%25B4%25D0%25BE%25D0%25BA%26start%3D40%26gbv%3D2%26ndsp%3D20%26hl%3Duk%26sa%3DN" TargetMode="External"/><Relationship Id="rId2" Type="http://schemas.openxmlformats.org/officeDocument/2006/relationships/image" Target="../media/image22.png"/><Relationship Id="rId3" Type="http://schemas.openxmlformats.org/officeDocument/2006/relationships/hyperlink" Target="http://www.globe-netter.com/photo/belgique/bruxelles/20.JPG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s.google.com.ua/imgres?imgurl=http://www.menshealth.com.ru/upload/menshealth/Mart_07/duma1.jpg&amp;imgrefurl=http://www.menshealth.com.ru/technics/technogid/181087/&amp;h=313&amp;w=250&amp;sz=25&amp;hl=uk&amp;start=38&amp;tbnid=gI51Jhyx2hsyAM:&amp;tbnh=117&amp;tbnw=93&amp;prev=/images%3Fq%3D%25D0%25B0%25D0%25BD%25D0%25B0%25D0%25BB%25D0%25B8%25D0%25B7%2B%25D0%25BC%25D0%25BE%25D1%2587%25D0%25B8%26start%3D20%26gbv%3D2%26ndsp%3D20%26hl%3Duk%26sa%3DN" TargetMode="Externa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0/0c/Creatinine.png/120px-Creatinine.pn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s.google.ru/imgres?imgurl=http://content.answers.com/main/content/wp/en-commons/thumb/9/90/250px-Uric_acid.png&amp;imgrefurl=http://forums.hypography.com/medical-science/9926-alzheimers-why-4.html&amp;h=174&amp;w=250&amp;sz=11&amp;hl=ru&amp;start=6&amp;tbnid=V1ld8B4tWytOrM:&amp;tbnh=77&amp;tbnw=111&amp;prev=/images%3Fq%3Duric%2Bacid%26gbv%3D2%26hl%3Dru%26newwindow%3D1%26sa%3DX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hyperlink" Target="http://images.google.ru/imgres?imgurl=http://upload.wikimedia.org/wikipedia/commons/thumb/f/f5/Hippuric_acid.png/800px-Hippuric_acid.png&amp;imgrefurl=http://commons.wikimedia.org/wiki/Image:Hippuric_acid.png&amp;h=406&amp;w=800&amp;sz=24&amp;hl=ru&amp;start=1&amp;um=1&amp;tbnid=47Bc5RyKPiKc_M:&amp;tbnh=73&amp;tbnw=143&amp;prev=/images%3Fq%3Dhippuric%2Bacid%26um%3D1%26hl%3Dru%26newwindow%3D1%26sa%3DX" TargetMode="Externa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aboratories.com.ua/biohimicheskiy-analiz-krovi/" TargetMode="External"/><Relationship Id="rId2" Type="http://schemas.openxmlformats.org/officeDocument/2006/relationships/hyperlink" Target="http://laboratories.com.ua/analiz-mochi.html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042920" y="260280"/>
            <a:ext cx="71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ПАТОХИМИЯ ПОЧЕК И МОЧЕВЫВОДЯЩИХ ПУТ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Kidneys2"/>
          <p:cNvPicPr/>
          <p:nvPr/>
        </p:nvPicPr>
        <p:blipFill>
          <a:blip r:embed="rId1"/>
          <a:stretch/>
        </p:blipFill>
        <p:spPr>
          <a:xfrm>
            <a:off x="2022480" y="2133720"/>
            <a:ext cx="4421160" cy="44193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222120" y="27000"/>
            <a:ext cx="8748720" cy="69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Нефроз</a:t>
            </a:r>
            <a:r>
              <a:rPr b="0" i="1" lang="ru-RU" sz="2800" spc="-1" strike="noStrike">
                <a:solidFill>
                  <a:srgbClr val="993300"/>
                </a:solidFill>
                <a:latin typeface="Times New Roman"/>
              </a:rPr>
              <a:t> -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болевание почек с преимущественно дегенеративными изменениями эпителия почечных канальцев и базальной мембраны капиллярных петель клубочков и нарушением обменных процессов – водно-солевого, белкового, холестеролового и др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Основные причины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– инфекционные, септические процессы, отравления солями тяжелых металлов, обширные ожоги и др. происходит некроз клубочка, в результате – анурия, массивная протеинурия и гипопротеинем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Характерно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уменьшени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иуреза, белок в моче, гипопротеинемия, липидемия с липидурией и цилиндрурией и отеками. В сыворотке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снижаетс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уровень альбуминов и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глобулинов из-за малых размеров этих фракций.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овышаетс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одержание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глобулинов и липидов. Меняется коллоидно-осмотическое давление плазмы, усиливается секреция альдостерона, повышается реабсорбция Н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ае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гиалуронидазная активность 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полимеризация основного веществ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пиллярной стенки, обширные отеки, н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ункция выведения азотистых шлако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храняется. Симптомы нефрозов сочетаютс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 симптомами основного заболе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180120" y="5013360"/>
            <a:ext cx="2790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68120" y="88920"/>
            <a:ext cx="728352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Нефросклероз</a:t>
            </a:r>
            <a:r>
              <a:rPr b="0" i="1" lang="ru-RU" sz="2800" spc="-1" strike="noStrike">
                <a:solidFill>
                  <a:srgbClr val="993300"/>
                </a:solidFill>
                <a:latin typeface="Times New Roman"/>
              </a:rPr>
              <a:t> -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тологический процесс в почках, обусловленный склеротическими поражениями почечных артериол, разрастанием соединительной ткани, атрофией паренхимы часто после нефрита или нефроза. Часть клубочков выключается, а часть – гиперфункционирует. Нарушение и спазм сосудов способствует повышению в крови ренина и ангиотензи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сюда гипертония и гипертрофия сердц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иливается диурез, сердечно-сосудистая недостаточность, отеки вплоть до водян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з время диурез снижается, белок в моче определяется в небольшом количеств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ки плохо выделяют кислые продукты,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рата способности синтезировать аммиак приводят к ацидозу, а затем и к уремии. В крови повышается остаточный азот и хлор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610320" y="5013360"/>
            <a:ext cx="25336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Нефроптоз (опущение почки)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это избыточная подвижность и ротация 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8920" y="107784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Причины: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резкое похудание, снижение мышечного тонуса брюшной стенки, травму поясничной области, постоянное ношение тяжестей, осложненную беременность, врождённые особенности строения сосудистой ножки почки и так называемого почечного лож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результате натяжения почечных сосудов ухудшается кровоснабжение почки, перегибается мочеточник, способствуя развитию воспаления в лоханке и образованию камней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Ключевой метод диагностики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— это внутривенная экскреторная урография.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Биохимический анализ мочи и крови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являются дополнительны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5549760" y="4149720"/>
            <a:ext cx="339264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Ключевые клинико-биохимические показатели при патологиях по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570880" cy="58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БЕЛОК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уточная экскреция белка с мочей выше 80-100 мг – патологична и свидетельствует о поражении почек  (при остром и хроническом гломерулонефрите, пиелонефрите, амилоидной дистрофии почек, почечной недостаточности, поликистозе поче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КРЕАТИНИН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еатинемия отмечается у больных с острыми и хроническими поражениями почек, при закупорке мочевыводящих пу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ГЛЮКОЗА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люкозурия отмечается при нарушении функции по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МОЧЕВИНА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иперуремия наблюдается при анурии, вызванной нарушением выделения мочи (камни, опухоли мочевых путей), при почечной недостато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КАЛЬЦИЙ</a:t>
            </a:r>
            <a:r>
              <a:rPr b="1" lang="ru-RU" sz="1600" spc="-1" strike="noStrike">
                <a:solidFill>
                  <a:srgbClr val="3333cc"/>
                </a:solidFill>
                <a:latin typeface="Comic Sans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нижение содержания кальция в плазме крови отмечается при хронических заболеваниях по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МАГНИЙ</a:t>
            </a:r>
            <a:r>
              <a:rPr b="1" lang="ru-RU" sz="1600" spc="-1" strike="noStrike">
                <a:solidFill>
                  <a:srgbClr val="3333cc"/>
                </a:solidFill>
                <a:latin typeface="Comic Sans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вышение концентрации – при хронической почечной недостаточности; снижение – при заболеваниях почек со значительным диуре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ЩЕЛОЧНАЯ ФОСФАТАЗА </a:t>
            </a:r>
            <a:r>
              <a:rPr b="1" lang="ru-RU" sz="1600" spc="-1" strike="noStrike">
                <a:solidFill>
                  <a:srgbClr val="3333cc"/>
                </a:solidFill>
                <a:latin typeface="Comic Sans MS"/>
              </a:rPr>
              <a:t>(ЩФ)</a:t>
            </a:r>
            <a:r>
              <a:rPr b="0" lang="ru-RU" sz="1400" spc="-1" strike="noStrike">
                <a:solidFill>
                  <a:srgbClr val="3333cc"/>
                </a:solidFill>
                <a:latin typeface="Comic Sans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вышение активности ЩФ в сыворотке крови отмечается при хронической уремии; снижение – при хроническом гломерулонефр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Comic Sans MS"/>
              </a:rPr>
              <a:t>Аланинаминопептидаза </a:t>
            </a: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(АПП3)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вышение активности АПП-3 в сыворотке крови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фический признак поражения ткани по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ФОСФАТ НЕОРГАНИЧЕСКИЙ</a:t>
            </a:r>
            <a:r>
              <a:rPr b="1" lang="ru-RU" sz="1600" spc="-1" strike="noStrike">
                <a:solidFill>
                  <a:srgbClr val="3333cc"/>
                </a:solidFill>
                <a:latin typeface="Comic Sans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иперфосфатемия отмечается при хронической почечной недостаточности.</a:t>
            </a:r>
            <a:r>
              <a:rPr b="1" lang="ru-RU" sz="18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5742000"/>
            <a:ext cx="435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У Р О Л И Т И А 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594"/>
          <p:cNvPicPr/>
          <p:nvPr/>
        </p:nvPicPr>
        <p:blipFill>
          <a:blip r:embed="rId1"/>
          <a:stretch/>
        </p:blipFill>
        <p:spPr>
          <a:xfrm>
            <a:off x="6372360" y="4497480"/>
            <a:ext cx="2482560" cy="2054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1116000" y="22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81080" y="27000"/>
            <a:ext cx="86738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Уролитиаз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(нефролитиаз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болевание мочевых путей, при котором в почках образуются камни (часто ураты, оксалаты, фосфаты, соли кальция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Comic Sans MS"/>
              </a:rPr>
              <a:t>Причины: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нарушение (возможно, наследственное) метаболизма пуринов и накопление мочевой кислоты (МК); алкоголь блокирует выведение МК почками; кофеин повышает образование МК; онкологические и гематологические заболевания – цитостатическая и лучевая терапия; прием лекарственных препаратов – мочегонных, антибиотиков, кортикостероидных гормонов. Нарушение утилизации щавелевой кислот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Развитию болезни способствует неправильное питание, сидячий образ жизни, хронический недостаток воды в организме, жаркий климат, и други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989000"/>
            <a:ext cx="5184720" cy="274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Клиническая картина мочекаменной болезн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чинается болезнь зачастую без симптомов, но могут появляться ноющие или резкие боли в пояснице. Если камень перекрывает путь оттока мочи, внезапно появляется острая боль — почечная колика (повышение температуры, озноб, тошнота, повышение артериального давления). Приступ проявляется и частыми болезненными позывами мочеиспускания. После сильного приступа или после физической нагрузки в моче может появиться кровь.</a:t>
            </a:r>
            <a:br>
              <a:rPr sz="2200"/>
            </a:br>
            <a:br>
              <a:rPr sz="2200"/>
            </a:b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111640" y="2708280"/>
            <a:ext cx="4032360" cy="4010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40"/>
          <p:cNvPicPr/>
          <p:nvPr/>
        </p:nvPicPr>
        <p:blipFill>
          <a:blip r:embed="rId2"/>
          <a:stretch/>
        </p:blipFill>
        <p:spPr>
          <a:xfrm>
            <a:off x="5508720" y="263520"/>
            <a:ext cx="35496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Лабораторная диагностика мочекаменной боле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Общий анализ крови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часто наблюдаются нормальные показатели, но при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почечной колик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или атаке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пиелонефрита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ыявляются лейкоцитоз, повышение СОЭ, возможно, сопутствует анеми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Общий анализ мочи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незначительная протеинурия – 0,03-0,3 г/л, микрогематурия, немного цилиндров; иногда – лейкоцитурия и бактериурия. Клиническое значение имеют рН и удельный вес моч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Биохимические исследования крови и мочи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креатинин, мочевина, Са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органический фосфат, мочевая кислота и др. Гиперкальцемия, снижение неорг. фосфата 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рассматриваются как факторы риска камнеобразов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Гиперурикеми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блюдается при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уратном нефролитиаз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 Гиперурикемия и гиперурикурия характеризуют сдвиг в образовании мочевой кислоты при мочекислом диатезе, подагре и почечной недостаточ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Гиперфосфатури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ожет быть свидетельством фосфатного диатеза, врожденного или приобретенного. Часто фосфатурия ложная (рН 7.0 и выше), что зависит от щелочеобразующих бактерий –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про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Исследование уровня гормонов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кальцитонин, паратгормон) проводится при обнаружении у больного парных коралловидных камней при повышенном уровне кальция в сыворотке крови при диагностике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гиперпаратиреоид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Проба Зимницкого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оценка функционального состояния почек на основании динамики плотности мочи (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1005-1025) в течение суток в 8 порциях мочи. Снижение относит. плотности мочи и монотонность показателей – нарушение функции поче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Comic Sans MS"/>
              </a:rPr>
              <a:t>Бактериологические исследован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(посев) мочи – идентификация микрофлоры и определение титра бактериурии. Такие посевы позволяют проводить этиотропное лечение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пиелонефрит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являющегося одной из причин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камнеобразования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Цистит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— это инфекционно-воспалительный процесс в стенке мочевого пузыря, протекающий в основном в его слизистой оболоч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являются частые позывы к мочеиспусканию, иногда эти позывы могут возникать через каждые 15-20 минут, причем количество мочи бывает достаточно скудным, вплоть до нескольких капель. Само мочеиспускание становится болезненным, пациенты отмечают резь или жжение, особенно в конце акта мочеиспускания, выделение крови в последней порции мочи, беспокоят боли в области мочевого пузыря и промеж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оча может быть мутной. Температур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ела обычно остается нормаль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095880" y="4653000"/>
            <a:ext cx="29019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471600" y="1440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ВОЙСТВА МОЧИ В НОРМ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50920" y="360360"/>
            <a:ext cx="583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Объем моч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от 600 до 2 500 мл в сут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величение объема мочи – полиурия, уменьшение – олигур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Цвет моч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соломенно-желтый или янтарны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Нормальные осад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Свежевыделенная моча – прозрачна. При стоянии иногда образуются осадки нуклеопротеинов, мукопротеинов, эпителиальных клеток. В щелочной среде – фосфаты, оксалаты, ураты. Из кислой мочи – мочевая кисло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рН моч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варьирует от 4,6 до 8,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9" descr="mocha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97800" y="333360"/>
            <a:ext cx="1896840" cy="21589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2"/>
          <p:cNvSpPr/>
          <p:nvPr/>
        </p:nvSpPr>
        <p:spPr>
          <a:xfrm>
            <a:off x="250920" y="3645000"/>
            <a:ext cx="418284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СТА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6% воды + 200 веществ (1,5% неорганических и 2,5% органических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Анионы и катионы моч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хлориды (до 340 мэкв/л), фосфаты, сульфаты; главные катионы – натрий (2,0-4,0 г/сут) и калий (1,5-2, 0 г/сут). Выделение кальция и магния колеблется от 0,1 до 0,3 г. Аммоний (0,5-1,0 г/сут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33760" y="3897360"/>
            <a:ext cx="2264040" cy="2951280"/>
          </a:xfrm>
          <a:prstGeom prst="rect">
            <a:avLst/>
          </a:prstGeom>
          <a:ln w="19080">
            <a:solidFill>
              <a:srgbClr val="993300"/>
            </a:solidFill>
            <a:miter/>
          </a:ln>
        </p:spPr>
      </p:pic>
      <p:pic>
        <p:nvPicPr>
          <p:cNvPr id="108" name="Picture 9" descr="duma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48480" y="2781360"/>
            <a:ext cx="2484360" cy="3456000"/>
          </a:xfrm>
          <a:prstGeom prst="rect">
            <a:avLst/>
          </a:prstGeom>
          <a:ln w="1908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755640" y="6480"/>
            <a:ext cx="71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ОРГАНИЧЕСКИЕ КОМПОНЕНТЫ НОРМАЛЬНОЙ МО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50920" y="620640"/>
            <a:ext cx="590544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Азотист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Мочеви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333-583 ммоль/сут (60-80% общего азота мочи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Мочевая кисло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2,35-5,90 ммоль/су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Креатин и креатин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4,4-17,6 ммоль креатинина. Креатин выделяется у младенцев, у женщин при беременности, у стари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Гиппуровая кисло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бензоилглицин) –образуется в печени и является показателем «функции химической защиты печени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Индика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5-25 мг/с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Аминокисло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0,29-5,35 ммоль/сут. Больше всего глицина, гистидина, алан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Безазотист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Молочная и пировиноградная кисло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1,1 и 0,11 ммоль/сут, соответственн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Щавелевая, глюкуроновая, янтарная кислоты, фенолы, ароматические соединения, беззазотистые витамины, нейтральная сера и др.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ьше 0,1 ммоль/с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120px-Creatin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8720" y="2013120"/>
            <a:ext cx="1800360" cy="130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250px-Uric_aci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08720" y="765000"/>
            <a:ext cx="1835280" cy="1273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indican"/>
          <p:cNvPicPr/>
          <p:nvPr/>
        </p:nvPicPr>
        <p:blipFill>
          <a:blip r:embed="rId5"/>
          <a:stretch/>
        </p:blipFill>
        <p:spPr>
          <a:xfrm>
            <a:off x="6156360" y="4724280"/>
            <a:ext cx="2987640" cy="1490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800px-Hippuric_aci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02520" y="3367080"/>
            <a:ext cx="28796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904680" y="7308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ОСНОВНЫЕ ФУНКЦИИ ПОЧ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95280" y="574560"/>
            <a:ext cx="5256360" cy="66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Выделительная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(выделение конечных продуктов метаболизм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Гомеостатическая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(поддержание состава, осмоляльности и объема внеклеточных жидкостей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Контроль кислотно-основного состояния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(кровь, лимфа, внеклеточная жидкость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Регуляторная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(продуцируют ренин, кальцитриол, эритропоэтин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7"/>
          <p:cNvGraphicFramePr/>
          <p:nvPr/>
        </p:nvGraphicFramePr>
        <p:xfrm>
          <a:off x="6629400" y="0"/>
          <a:ext cx="2433600" cy="44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0"/>
                    <a:ext cx="2433600" cy="44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8"/>
          <p:cNvGraphicFramePr/>
          <p:nvPr/>
        </p:nvGraphicFramePr>
        <p:xfrm>
          <a:off x="5508720" y="4149720"/>
          <a:ext cx="2190600" cy="24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4149720"/>
                    <a:ext cx="21906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9"/>
          <p:cNvSpPr/>
          <p:nvPr/>
        </p:nvSpPr>
        <p:spPr>
          <a:xfrm>
            <a:off x="7095240" y="508464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ритропоэт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720360" y="136440"/>
            <a:ext cx="75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АТОЛОГИЧЕСКИЕ КОМПОНЕНТЫ МО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24000" y="644400"/>
            <a:ext cx="5832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Белок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сывороточный альбумин, но могут быть и глобулины, а также белок Бенс-Джон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Глюкоза и другие моносахарид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(в норме 0,3-1,1 ммоль/л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шается при сахарном диабете, после анестезии или асфиксии, при эмоциональных стрессах, тяжелом гипертиреозе, почечном диабете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Кетоновые те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в норме не обнаруживаются. Кетонурия наблюдается при сахарном диабете, голодании, стероидном диабе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орфирины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нормальной моче до 300 мкг/су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ипа; при патологиях возрастают в 10-20 раз. Выделяются уропорфирин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копропорфирин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Желчные пигмен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в норме выделяется уробилиноген (стеркобилиноген), концентрация которого возрастает при гемолитической, паренхиматозной желтухах, при отравлениях;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Билирубин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является при паренхиматозной и механической желтух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Мочевые камни и пес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7" descr="Urinanalyse-2-600"/>
          <p:cNvPicPr/>
          <p:nvPr/>
        </p:nvPicPr>
        <p:blipFill>
          <a:blip r:embed="rId1"/>
          <a:stretch/>
        </p:blipFill>
        <p:spPr>
          <a:xfrm>
            <a:off x="6372360" y="5253120"/>
            <a:ext cx="2592360" cy="1604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prophyria_sick_urine"/>
          <p:cNvPicPr/>
          <p:nvPr/>
        </p:nvPicPr>
        <p:blipFill>
          <a:blip r:embed="rId2"/>
          <a:stretch/>
        </p:blipFill>
        <p:spPr>
          <a:xfrm>
            <a:off x="6372360" y="3281400"/>
            <a:ext cx="2447640" cy="1803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mn4y"/>
          <p:cNvPicPr/>
          <p:nvPr/>
        </p:nvPicPr>
        <p:blipFill>
          <a:blip r:embed="rId3"/>
          <a:stretch/>
        </p:blipFill>
        <p:spPr>
          <a:xfrm>
            <a:off x="6804000" y="9079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539640" y="260280"/>
            <a:ext cx="62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АНАЛИЗ МОЧИ В КЛИНИЧЕСКИХ ЛАБОРАТ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137840" y="127476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ЕС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324000" y="1484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Присутствие бел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684360" y="2276640"/>
            <a:ext cx="16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Присутствие глюкоз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2987640" y="270828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Кетоновые те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4500720" y="2781360"/>
            <a:ext cx="164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Присутствие билируб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6153840" y="285588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Уробилиноге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6732720" y="206064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mic Sans MS"/>
              </a:rPr>
              <a:t>Присутствие следов кров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5"/>
          <p:cNvSpPr/>
          <p:nvPr/>
        </p:nvSpPr>
        <p:spPr>
          <a:xfrm flipH="1">
            <a:off x="1908000" y="1557360"/>
            <a:ext cx="215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6"/>
          <p:cNvSpPr/>
          <p:nvPr/>
        </p:nvSpPr>
        <p:spPr>
          <a:xfrm flipH="1">
            <a:off x="2268000" y="1700280"/>
            <a:ext cx="201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7"/>
          <p:cNvSpPr/>
          <p:nvPr/>
        </p:nvSpPr>
        <p:spPr>
          <a:xfrm flipH="1">
            <a:off x="3635280" y="1700280"/>
            <a:ext cx="865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4643280" y="1773360"/>
            <a:ext cx="4334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5003640" y="1773360"/>
            <a:ext cx="1440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5364000" y="1557360"/>
            <a:ext cx="1440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1"/>
          <p:cNvSpPr/>
          <p:nvPr/>
        </p:nvSpPr>
        <p:spPr>
          <a:xfrm>
            <a:off x="468360" y="1484280"/>
            <a:ext cx="1511280" cy="57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2"/>
          <p:cNvSpPr/>
          <p:nvPr/>
        </p:nvSpPr>
        <p:spPr>
          <a:xfrm>
            <a:off x="684360" y="2349360"/>
            <a:ext cx="1512720" cy="57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3081240" y="2708280"/>
            <a:ext cx="1274760" cy="649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4500720" y="2781360"/>
            <a:ext cx="1584000" cy="718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6300720" y="2852640"/>
            <a:ext cx="1656000" cy="433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6659640" y="2131920"/>
            <a:ext cx="1873080" cy="57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3419640" y="3716280"/>
            <a:ext cx="54003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циальные исследования включают </a:t>
            </a:r>
            <a:r>
              <a:rPr b="1" i="1" lang="ru-RU" sz="2000" spc="-1" strike="noStrike">
                <a:solidFill>
                  <a:srgbClr val="3333cc"/>
                </a:solidFill>
                <a:latin typeface="Comic Sans MS"/>
              </a:rPr>
              <a:t>анализ аминокисло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Моча также проверяется на присутствие лейкоцитов, различных кристаллов и осад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моляль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очи проверяется с целью оценки концентрирующей способности поч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9" descr="LauraSmartSmallFull"/>
          <p:cNvPicPr/>
          <p:nvPr/>
        </p:nvPicPr>
        <p:blipFill>
          <a:blip r:embed="rId1"/>
          <a:stretch/>
        </p:blipFill>
        <p:spPr>
          <a:xfrm>
            <a:off x="7164360" y="71280"/>
            <a:ext cx="1828800" cy="1989360"/>
          </a:xfrm>
          <a:prstGeom prst="rect">
            <a:avLst/>
          </a:prstGeom>
          <a:ln w="25560">
            <a:solidFill>
              <a:srgbClr val="99ccff"/>
            </a:solidFill>
            <a:miter/>
          </a:ln>
        </p:spPr>
      </p:pic>
      <p:pic>
        <p:nvPicPr>
          <p:cNvPr id="142" name="Picture 31" descr="m3"/>
          <p:cNvPicPr/>
          <p:nvPr/>
        </p:nvPicPr>
        <p:blipFill>
          <a:blip r:embed="rId2"/>
          <a:stretch/>
        </p:blipFill>
        <p:spPr>
          <a:xfrm>
            <a:off x="108000" y="3068640"/>
            <a:ext cx="2817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497040" y="3333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КЛИРЕ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0" descr="img1302"/>
          <p:cNvPicPr/>
          <p:nvPr/>
        </p:nvPicPr>
        <p:blipFill>
          <a:blip r:embed="rId1"/>
          <a:stretch/>
        </p:blipFill>
        <p:spPr>
          <a:xfrm>
            <a:off x="2411280" y="3357720"/>
            <a:ext cx="3600720" cy="16538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1"/>
          <p:cNvSpPr/>
          <p:nvPr/>
        </p:nvSpPr>
        <p:spPr>
          <a:xfrm>
            <a:off x="468360" y="4903200"/>
            <a:ext cx="799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де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клирен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концентрация данного соединения в моч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к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концентрация в плазме кров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объем мочи в  мл/ми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39640" y="1125360"/>
            <a:ext cx="819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роцесс удаления какого-либо вещества из крови при прохождении его через почки  характеризуется </a:t>
            </a:r>
            <a:r>
              <a:rPr b="1" i="1" lang="ru-RU" sz="2200" spc="-1" strike="noStrike">
                <a:solidFill>
                  <a:srgbClr val="3333cc"/>
                </a:solidFill>
                <a:latin typeface="Comic Sans MS"/>
              </a:rPr>
              <a:t>клиренсом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 (коэффициентом очищения). Он соответствует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объему плазмы крови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, в котором содержится такое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количество данного вещества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, которое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выделяется с мочой за 1 минуту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179280" y="14400"/>
            <a:ext cx="8856720" cy="65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3300"/>
                </a:solidFill>
                <a:latin typeface="Times New Roman"/>
              </a:rPr>
              <a:t>Ферментативная активность моч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Лизоци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– возрастает при нефротическом синдроме, гломерулонефрите, пиелонефрите, инфаркте почки, некрозах, опухоля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Трансаминидаз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содержится в почках и поджелудочной железе. Выявляется при острых нефритах, хроническое почечной недостаточности, мочекаменной болезн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Symbol"/>
                <a:ea typeface="Symbol"/>
              </a:rPr>
              <a:t></a:t>
            </a: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-глюкуронидаз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– при заболеваниях печени, раке почек, остром нефрозе, вирусном гепатите, обтурации печеночных ход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Лейцинаминопептидаз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– при болезнях поче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Symbol"/>
                <a:ea typeface="Symbol"/>
              </a:rPr>
              <a:t></a:t>
            </a: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-глутамилтранспептидаз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– снижается при нефритах, нефросклероз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АлАТ, АсАТ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– повышается при инфарктах почек, опухолевом некрозе, гломерулонефри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ЩФ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– повышается при неоплазии почек, мочевого пузыря, лоханок и др., уменьшается при нефрозах, инфаркте поче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КФ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– увеличивается при неоплазм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Урокиназ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снижается при заболеваниях почек разной этиолог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ЛДГ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– в норме ее почти нет, повышается при гематурии и протеинурии, злокачественной опухоли почек, предстательной железы, мочевого пузыря, нефрозе, остром гломерулонефрите. ЛДГ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увеличивается при остром нефрите, хроническом пиелонефри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Сукцинатдегидрогеназ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повышается при остром и хроническом гломерулонефри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Аминополипептидаз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повышается при остром гломерулонефрите, некрозе канальцев, инфаркте почки, закупорке желчных протоков опухоля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Липаз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– повышается при остром панкреатите, раке молочной железы, после операц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-амилаз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вышаетс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при остром панкреатите, дисфункции почечных клубочков, диабетическом кетоацидозе, остром холецистите, непроходимости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нижаетс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– при раке поджелудочной железы, гепатитах, циррозе печени, ожогах, диабете, кахекс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Трипсин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вышаетс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при панкреатите, язвенной болезни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нижаетс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при раке поджелудочной желез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0" y="981000"/>
          <a:ext cx="914400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6"/>
          <p:cNvSpPr/>
          <p:nvPr/>
        </p:nvSpPr>
        <p:spPr>
          <a:xfrm>
            <a:off x="1552320" y="26028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ОСНОВНЫЕ ФУНКЦИИ ПОЧ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6"/>
          <p:cNvGraphicFramePr/>
          <p:nvPr/>
        </p:nvGraphicFramePr>
        <p:xfrm>
          <a:off x="0" y="668160"/>
          <a:ext cx="9144000" cy="618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8160"/>
                    <a:ext cx="9144000" cy="618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7"/>
          <p:cNvSpPr/>
          <p:nvPr/>
        </p:nvSpPr>
        <p:spPr>
          <a:xfrm>
            <a:off x="539640" y="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РЕНИН-АНГИОТЕНЗИНОВАЯ СИСТЕ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image003"/>
          <p:cNvPicPr/>
          <p:nvPr/>
        </p:nvPicPr>
        <p:blipFill>
          <a:blip r:embed="rId1"/>
          <a:stretch/>
        </p:blipFill>
        <p:spPr>
          <a:xfrm>
            <a:off x="2627280" y="0"/>
            <a:ext cx="6264360" cy="61038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2627280" y="2924280"/>
            <a:ext cx="3095640" cy="50472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0" y="333360"/>
            <a:ext cx="2987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3300"/>
                </a:solidFill>
                <a:latin typeface="Arial"/>
              </a:rPr>
              <a:t>РЕГУЛЯЦИЯ КРОВЯНОГО ДАВЛЕНИЯ С УЧАСТИЕМ АНГИОТЕНЗИ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Poshka_ris_1"/>
          <p:cNvPicPr/>
          <p:nvPr/>
        </p:nvPicPr>
        <p:blipFill>
          <a:blip r:embed="rId1"/>
          <a:stretch/>
        </p:blipFill>
        <p:spPr>
          <a:xfrm>
            <a:off x="0" y="614520"/>
            <a:ext cx="5086440" cy="62434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1476360" y="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АНАТОМИЯ ПОЧКИ.        НЕФР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Object 7"/>
          <p:cNvGraphicFramePr/>
          <p:nvPr/>
        </p:nvGraphicFramePr>
        <p:xfrm>
          <a:off x="5076720" y="907920"/>
          <a:ext cx="4067280" cy="595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907920"/>
                    <a:ext cx="406728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347920" y="73080"/>
            <a:ext cx="53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ОБМЕН ВЕЩЕСТВ В ПОЧК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74680" y="574560"/>
            <a:ext cx="858204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очк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одержат много воды (около 84%), характеризуются интенсивным метаболизмом, поглощают около 10% всего кислорода, необходимого организму.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ора поче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аэробный тип обмена,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мозговое веще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анаэробны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энергетический материал – углеводы, но гликогена мало. Интенсивно протекают гликолиз, кетолиз, аэробное окисление и фосфорилирова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тивно протекают трансаминирование и дезаминирование с образованием аммиака (главный источник – глутамин). Аммиак в канальцах образует ионы аммония. Это путь обезвреживания аммиака, который экскретируется в составе мочи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0% энергетических субстратов израсходуется на выделительную функуции, оставшиеся 10% - на всё остальн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Патологии почек и мочевыводящих пу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264960" y="692280"/>
            <a:ext cx="77788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спалительные, преимущественно сосудистые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(нефри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острый и хронический, диффузный и очаговый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гломерулонефри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пиелонефри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пиелит, цисти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истрофические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нефроз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острый и хронический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клеротически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(нефросклероз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чекаменная болезн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1" i="1" lang="ru-RU" sz="2200" spc="-1" strike="noStrike">
                <a:solidFill>
                  <a:srgbClr val="993300"/>
                </a:solidFill>
                <a:latin typeface="Times New Roman"/>
              </a:rPr>
              <a:t>симптом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заболеваний мочевой системы могут быть сведены в следующие </a:t>
            </a:r>
            <a:r>
              <a:rPr b="1" lang="ru-RU" sz="2200" spc="-1" strike="noStrike">
                <a:solidFill>
                  <a:srgbClr val="993300"/>
                </a:solidFill>
                <a:latin typeface="Times New Roman"/>
              </a:rPr>
              <a:t>си</a:t>
            </a:r>
            <a:r>
              <a:rPr b="1" lang="uk-UA" sz="2200" spc="-1" strike="noStrike">
                <a:solidFill>
                  <a:srgbClr val="993300"/>
                </a:solidFill>
                <a:latin typeface="Times New Roman"/>
              </a:rPr>
              <a:t>ндро</a:t>
            </a:r>
            <a:r>
              <a:rPr b="1" lang="ru-RU" sz="2200" spc="-1" strike="noStrike">
                <a:solidFill>
                  <a:srgbClr val="993300"/>
                </a:solidFill>
                <a:latin typeface="Times New Roman"/>
              </a:rPr>
              <a:t>м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очево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инд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течны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инд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ердечн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судисты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индр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ровяно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индр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ремическ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индр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индр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чеч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едостаточ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7524720" y="2492280"/>
            <a:ext cx="1611360" cy="1743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7000920" y="4437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4915080" y="4667400"/>
            <a:ext cx="2085840" cy="2190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2109960" y="5238720"/>
            <a:ext cx="28191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840" y="2230560"/>
            <a:ext cx="5977080" cy="43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биохимическом анализе кров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отмеча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овышени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альфа-2- и гамма-глобулинов, в т.ч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елков острой фаз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 креатинин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 мочевины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сни­жени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одержания натрия, калия, хлоридов. Изменение показателей кислотно-щелочного состояния — смещение в сторону ацидоз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анализе моч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небольшая протеинурия, микрогема­турия, снижение плотности мочи, возможна пиурия и эозинофилурия. При тяжелом течении возможна олигурия и даже анурия – полное отсутствие мочи. В анализе моче выявляются гиалиновые цилиндры. Повыша­ется выделение с мочой кальция, оксалатов, калия и глюк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227640" y="4416480"/>
            <a:ext cx="2646360" cy="227016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179280" y="0"/>
            <a:ext cx="8694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3300"/>
                </a:solidFill>
                <a:latin typeface="Comic Sans MS"/>
              </a:rPr>
              <a:t>Нефрит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- диффузное воспаление почек с преимущественным воспалением клубочкового аппарата и нарушением выделения азотистых шлаков.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Природа заболевания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– инфекционно аллергическая. Заболевание проявляется болью в пояснице, резким повышением температуры, слабостью, головной болью, возможно потерей аппетита и тошното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2:57:40Z</dcterms:created>
  <dc:creator>Biochemistry</dc:creator>
  <dc:description/>
  <dc:language>en-US</dc:language>
  <cp:lastModifiedBy>Оператор</cp:lastModifiedBy>
  <dcterms:modified xsi:type="dcterms:W3CDTF">2016-11-02T13:05:14Z</dcterms:modified>
  <cp:revision>123</cp:revision>
  <dc:subject/>
  <dc:title>Слайд 1</dc:title>
</cp:coreProperties>
</file>