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.jpeg" ContentType="image/jpeg"/>
  <Override PartName="/ppt/media/image20.png" ContentType="image/png"/>
  <Override PartName="/ppt/media/image17.jpeg" ContentType="image/jpeg"/>
  <Override PartName="/ppt/media/image3.png" ContentType="image/png"/>
  <Override PartName="/ppt/media/image35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12.png" ContentType="image/png"/>
  <Override PartName="/ppt/media/image34.jpeg" ContentType="image/jpeg"/>
  <Override PartName="/ppt/media/image18.png" ContentType="image/png"/>
  <Override PartName="/ppt/media/image33.jpeg" ContentType="image/jpeg"/>
  <Override PartName="/ppt/media/image39.jpeg" ContentType="image/jpeg"/>
  <Override PartName="/ppt/media/image41.jpeg" ContentType="image/jpeg"/>
  <Override PartName="/ppt/media/image45.jpeg" ContentType="image/jpeg"/>
  <Override PartName="/ppt/media/image40.jpeg" ContentType="image/jpeg"/>
  <Override PartName="/ppt/media/image44.jpeg" ContentType="image/jpeg"/>
  <Override PartName="/ppt/media/image9.png" ContentType="image/png"/>
  <Override PartName="/ppt/media/image28.png" ContentType="image/png"/>
  <Override PartName="/ppt/media/image7.jpeg" ContentType="image/jpeg"/>
  <Override PartName="/ppt/media/image38.jpeg" ContentType="image/jpeg"/>
  <Override PartName="/ppt/media/image43.jpeg" ContentType="image/jpeg"/>
  <Override PartName="/ppt/media/image11.png" ContentType="image/png"/>
  <Override PartName="/ppt/media/image19.jpeg" ContentType="image/jpeg"/>
  <Override PartName="/ppt/media/image36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2.png" ContentType="image/png"/>
  <Override PartName="/ppt/media/image8.wmf" ContentType="image/x-wmf"/>
  <Override PartName="/ppt/media/image4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5EAA-5D28-4E81-86AF-37072A2ED9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1640-533B-4F63-BC5A-47A3A6135B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9940-C80D-4B2A-8B3F-D1B1837881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5F2E-090F-433D-94C9-F800A04B64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667B-8B35-42F9-BD3F-43E4449E95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2BB1-D902-4C07-B464-1DDD557CC7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5EBF-9ACF-4023-BE97-64CB4C8A16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A153-D4DB-4F68-8479-656D91312A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C226-1DC4-40FC-A5F6-B9F7E917AB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35B5-E11E-43A7-AEE4-C1C744341E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C4B0-0625-47DB-86EC-2979BB4B27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9D87-2B3B-4396-BF41-6F661E7E8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4611-38B7-485E-909C-5119FB47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33B6-6442-499E-8C55-B58106DE2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337A-EC3F-4A89-8094-E519EA32A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4A16-D007-46AB-83AA-5F568642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422D-0EE1-4C9D-8AEB-910379B8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6D0A-09B4-4B45-BBC7-2CF34169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8756-5BEA-4F72-96F9-AC38145F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9DFE-05DC-497A-A3E2-828BEB0C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A4B4-8932-4BF2-B810-BBCDF4E3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0BB0-48F4-49A3-BACD-B2D303E8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3840-2939-41BD-A4FE-B57BAD10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8f61"/>
            </a:gs>
            <a:gs pos="50000">
              <a:srgbClr val="8181d5"/>
            </a:gs>
            <a:gs pos="100000">
              <a:srgbClr val="f58f6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D875-633B-4ED8-9282-F1C3874803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google.ru/imgres?imgurl=http://www.7ya.ru/pub/pregn-med/img/bighart.jpg&amp;imgrefurl=http://www.7ya.ru/pub/article.aspx%3Fid%3D5505&amp;h=462&amp;w=378&amp;sz=35&amp;hl=ru&amp;start=9&amp;um=1&amp;tbnid=EsIbc6PlwtJphM:&amp;tbnh=128&amp;tbnw=105&amp;prev=/images%3Fq%3D%25D1%2581%25D0%25B5%25D1%2580%25D0%25B4%25D1%2586%25D0%25B5%26um%3D1%26hl%3Dru%26lr%3D%26newwindow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ru/imgres?imgurl=http://galka.ru/i/anatomy/29_sistmaLimfi.jpg&amp;imgrefurl=http://galka.ru/articles/9/0/483/elektroterapy.html&amp;h=498&amp;w=352&amp;sz=22&amp;hl=ru&amp;start=2&amp;um=1&amp;tbnid=SauAYBn1Sb6YgM:&amp;tbnh=130&amp;tbnw=92&amp;prev=/images%3Fq%3D%25D0%25BB%25D0%25B8%25D0%25BC%25D1%2584%25D0%25B0%25D1%2582%25D0%25B8%25D1%2587%25D0%25B5%25D1%2581%25D0%25BA%25D0%25B0%25D1%258F%2B%25D1%2581%25D0%25B8%25D1%2581%25D1%2582%25D0%25B5%25D0%25BC%25D0%25B0%26gbv%3D2%26um%3D1%26complete%3D1%26hl%3Dru%26lr%3D%26newwindow%3D1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hyperlink" Target="http://images.google.ru/imgres?imgurl=http://familyheal.com/pics/medostatin.jpg&amp;imgrefurl=http://familyheal.com/care/online-3727.html&amp;h=400&amp;w=400&amp;sz=38&amp;hl=ru&amp;start=6&amp;tbnid=cCInXPtGFWO4WM:&amp;tbnh=124&amp;tbnw=124&amp;prev=/images%3Fq%3D%25D0%25BB%25D0%25BE%25D0%25B2%25D0%25B0%25D1%2581%25D1%2582%25D0%25B0%25D1%2582%25D0%25B8%25D0%25BD%26gbv%3D2%26hl%3Dru%26newwindow%3D1" TargetMode="External"/><Relationship Id="rId3" Type="http://schemas.openxmlformats.org/officeDocument/2006/relationships/image" Target="../media/image30.png"/><Relationship Id="rId4" Type="http://schemas.openxmlformats.org/officeDocument/2006/relationships/hyperlink" Target="http://images.google.ru/imgres?imgurl=http://www.lakewoodconferences.com/direct/dbimage/50138364/Lovastatin.jpg&amp;imgrefurl=http://www.lakewoodconferences.com/catalog/41/546/page4/&amp;h=360&amp;w=360&amp;sz=8&amp;hl=ru&amp;start=2&amp;tbnid=qjcza5AYZeVtoM:&amp;tbnh=121&amp;tbnw=121&amp;prev=/images%3Fq%3D%25D0%25BB%25D0%25BE%25D0%25B2%25D0%25B0%25D1%2581%25D1%2582%25D0%25B0%25D1%2582%25D0%25B8%25D0%25BD%26gbv%3D2%26hl%3Dru%26newwindow%3D1" TargetMode="External"/><Relationship Id="rId5" Type="http://schemas.openxmlformats.org/officeDocument/2006/relationships/image" Target="../media/image31.png"/><Relationship Id="rId6" Type="http://schemas.openxmlformats.org/officeDocument/2006/relationships/hyperlink" Target="http://images.google.ru/imgres?imgurl=http://familyheal.com/pics/simgal.jpg&amp;imgrefurl=http://familyheal.com/care/online-10487.html&amp;h=400&amp;w=400&amp;sz=21&amp;hl=ru&amp;start=15&amp;tbnid=hCRHKHO-75BeIM:&amp;tbnh=124&amp;tbnw=124&amp;prev=/images%3Fq%3D%25D1%2581%25D0%25B8%25D0%25BC%25D0%25B2%25D0%25B0%25D1%2581%25D1%2582%25D0%25B0%25D1%2582%25D0%25B8%25D0%25BD%26gbv%3D2%26hl%3Dru%26newwindow%3D1" TargetMode="External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hyperlink" Target="http://images.google.ru/imgres?imgurl=http://i.i.ua/prikol/thumb/4/0/47804.jpg&amp;imgrefurl=http://prikol.i.ua/lenta/picture/2675/&amp;h=500&amp;w=373&amp;sz=29&amp;hl=ru&amp;start=18&amp;um=1&amp;tbnid=8sYq1hSyEEDd4M:&amp;tbnh=130&amp;tbnw=97&amp;prev=/images%3Fq%3D%25D0%25B4%25D0%25B8%25D0%25B5%25D1%2582%25D0%25B0%26um%3D1%26complete%3D1%26hl%3Dru%26lr%3D%26newwindow%3D1" TargetMode="External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sportfamily.ru/pics/www.sportfamily.ru/Image/fruits_and_vegetables.jpg&amp;imgrefurl=http://www.sportfamily.ru/doshkolnik/zozh&amp;h=300&amp;w=340&amp;sz=49&amp;hl=ru&amp;start=5&amp;um=1&amp;tbnid=heB2mVTUsgcUqM:&amp;tbnh=105&amp;tbnw=119&amp;prev=/images%3Fq%3D%25D0%2597%25D0%2594%25D0%259E%25D0%25A0%25D0%259E%25D0%2592%25D0%25AB%25D0%2599%2B%25D0%259E%25D0%2591%25D0%25A0%25D0%2590%25D0%2597%2B%25D0%2596%25D0%2598%25D0%2597%25D0%259D%25D0%2598%26um%3D1%26complete%3D1%26hl%3Dru%26lr%3D%26newwindow%3D1" TargetMode="External"/><Relationship Id="rId2" Type="http://schemas.openxmlformats.org/officeDocument/2006/relationships/image" Target="../media/image36.png"/><Relationship Id="rId3" Type="http://schemas.openxmlformats.org/officeDocument/2006/relationships/hyperlink" Target="http://images.google.ru/imgres?imgurl=http://www.onbeauty.ru/images_news/3e21f8a0c1ca113893904c431e2cb35d_h_013c21e2abc289150c87c147821380a0&amp;imgrefurl=http://www.onbeauty.ru/life/3626.html&amp;h=334&amp;w=500&amp;sz=33&amp;hl=ru&amp;start=30&amp;um=1&amp;tbnid=wsQumhraYaSWIM:&amp;tbnh=87&amp;tbnw=130&amp;prev=/images%3Fq%3D%25D0%2597%25D0%2594%25D0%259E%25D0%25A0%25D0%259E%25D0%2592%25D0%25AB%25D0%2599%2B%25D0%259E%25D0%2591%25D0%25A0%25D0%2590%25D0%2597%2B%25D0%2596%25D0%2598%25D0%2597%25D0%259D%25D0%2598%26start%3D20%26ndsp%3D20%26um%3D1%26complete%3D1%26hl%3Dru%26lr%3D%26newwindow%3D1%26sa%3DN" TargetMode="External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hyperlink" Target="http://images.google.ru/imgres?imgurl=http://www.matrix-sport.ru/img/fitnes4646b.jpg&amp;imgrefurl=http://www.matrix-sport.ru/fitnes46.html&amp;h=276&amp;w=300&amp;sz=44&amp;hl=ru&amp;start=1&amp;um=1&amp;tbnid=0zpLffSw7leDoM:&amp;tbnh=107&amp;tbnw=116&amp;prev=/images%3Fq%3D%25D1%2584%25D0%25B8%25D0%25B7%25D0%25BA%25D1%2583%25D0%25BB%25D1%258C%25D1%2582%25D1%2583%25D1%2580%25D0%25B0%26um%3D1%26complete%3D1%26hl%3Dru%26lr%3D%26newwindow%3D1" TargetMode="External"/><Relationship Id="rId8" Type="http://schemas.openxmlformats.org/officeDocument/2006/relationships/image" Target="../media/image40.jpeg"/><Relationship Id="rId9" Type="http://schemas.openxmlformats.org/officeDocument/2006/relationships/hyperlink" Target="http://images.google.ru/imgres?imgurl=http://www.ladyfitness.ru/photo/157/02.jpg&amp;imgrefurl=http://ladyfitness.ru/php/articles.php3%3Fid%3D157&amp;h=150&amp;w=211&amp;sz=11&amp;hl=ru&amp;start=17&amp;um=1&amp;tbnid=5fPcYI50LGaagM:&amp;tbnh=75&amp;tbnw=106&amp;prev=/images%3Fq%3D%25D1%2584%25D1%2580%25D1%2583%25D0%25BA%25D1%2582%25D1%258B%2B%25D0%25B0%25D0%25BD%25D1%2582%25D0%25B8%25D0%25BE%25D0%25BA%25D1%2581%25D0%25B8%25D0%25B4%25D0%25B0%25D0%25BD%25D1%2582%25D1%258B%26ndsp%3D20%26um%3D1%26complete%3D1%26hl%3Dru%26lr%3D%26newwindow%3D1%26sa%3DN" TargetMode="External"/><Relationship Id="rId10" Type="http://schemas.openxmlformats.org/officeDocument/2006/relationships/image" Target="../media/image41.jpeg"/><Relationship Id="rId11" Type="http://schemas.openxmlformats.org/officeDocument/2006/relationships/image" Target="../media/image42.png"/><Relationship Id="rId12" Type="http://schemas.openxmlformats.org/officeDocument/2006/relationships/image" Target="../media/image43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sportfamily.ru/pics/www.sportfamily.ru/Image/smoker.jpg&amp;imgrefurl=http://www.sportfamily.ru/danger/smokers&amp;h=314&amp;w=365&amp;sz=28&amp;hl=ru&amp;start=3&amp;um=1&amp;tbnid=4ChUp7zX8mz7NM:&amp;tbnh=104&amp;tbnw=121&amp;prev=/images%3Fq%3D%25D0%259A%25D0%25A3%25D0%25A0%25D0%2595%25D0%259D%25D0%2598%25D0%2595%2B%26um%3D1%26hl%3Dru%26lr%3D%26newwindow%3D1" TargetMode="External"/><Relationship Id="rId2" Type="http://schemas.openxmlformats.org/officeDocument/2006/relationships/image" Target="../media/image6.png"/><Relationship Id="rId3" Type="http://schemas.openxmlformats.org/officeDocument/2006/relationships/hyperlink" Target="http://images.google.ru/imgres?imgurl=http://newsimg.bbc.co.uk/media/images/41448000/jpg/_41448802_1603day08.jpg&amp;imgrefurl=http://news.bbc.co.uk/hi/russian/photo_galleries/newsid_4813000/4813966.stm&amp;h=300&amp;w=416&amp;sz=40&amp;hl=ru&amp;start=4&amp;um=1&amp;tbnid=2dRluTlEnfgZ0M:&amp;tbnh=90&amp;tbnw=125&amp;prev=/images%3Fq%3D%25D0%259E%25D0%2596%25D0%2598%25D0%25A0%25D0%2595%25D0%259D%25D0%2598%25D0%2595%26um%3D1%26hl%3Dru%26lr%3D%26newwindow%3D1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0"/>
          <p:cNvSpPr/>
          <p:nvPr/>
        </p:nvSpPr>
        <p:spPr>
          <a:xfrm>
            <a:off x="2484360" y="1485000"/>
            <a:ext cx="698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АТОЛОГ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ЕРДЕЧНО-СОСУДИСТ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ИСТ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4" descr="angiopl6"/>
          <p:cNvPicPr/>
          <p:nvPr/>
        </p:nvPicPr>
        <p:blipFill>
          <a:blip r:embed="rId1"/>
          <a:stretch/>
        </p:blipFill>
        <p:spPr>
          <a:xfrm>
            <a:off x="324000" y="260280"/>
            <a:ext cx="3240000" cy="2309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6" descr="pnevmonia"/>
          <p:cNvPicPr/>
          <p:nvPr/>
        </p:nvPicPr>
        <p:blipFill>
          <a:blip r:embed="rId2"/>
          <a:stretch/>
        </p:blipFill>
        <p:spPr>
          <a:xfrm>
            <a:off x="395280" y="4492800"/>
            <a:ext cx="295272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468360" y="926280"/>
            <a:ext cx="813924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нижается уровень АТФ и креатинфосфата, активность К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АТФазы, накопление ионов каль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рушается мембранная проницаемость кардиомиоцитов, активация ПОЛ,  из них выходят ионы калия и ферменты, что является одним из первых признаков ишемии. В сыворотке крови возрастает уровень: миоглобина, активност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В КФК, ЛДГ1,2,  АсАТ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постоянные и важные диагностические те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рмозится функциональная активность клеток мышц, они начинают гибнуть. Из сердечной мышцы выходит миоглобин – это один из первых признаков ишем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нижается количество миофибриллярных белков, и накапливаются белки стро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рушается обмен углеводов, белков и липидов (свободные жирные кислоты не окисляются, а включаются в триглицериды). Наблюдается жировая инфильтрация миокарда, наступает инфаркт – некроз, угнетение сердечной мышц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395280" y="33336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ТРЫЙ ИНФАРКТ МИОКАР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348000" y="943560"/>
            <a:ext cx="5478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острое сердечно-сосудистое заболевание, характеризующееся гибелью (некрозом) клеточных структур в одном или нескольких участках сердечной мышцы в результате нарушения коронарного кровообращения. Главная причина болезни – атеросклероз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инфаркт"/>
          <p:cNvPicPr/>
          <p:nvPr/>
        </p:nvPicPr>
        <p:blipFill>
          <a:blip r:embed="rId1"/>
          <a:stretch/>
        </p:blipFill>
        <p:spPr>
          <a:xfrm>
            <a:off x="539640" y="981000"/>
            <a:ext cx="2525760" cy="30243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0"/>
          <p:cNvSpPr/>
          <p:nvPr/>
        </p:nvSpPr>
        <p:spPr>
          <a:xfrm>
            <a:off x="4384800" y="2867040"/>
            <a:ext cx="45720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6699ff"/>
                </a:solidFill>
                <a:uFillTx/>
                <a:latin typeface="Comic Sans MS"/>
              </a:rPr>
              <a:t>Некроз клеток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риводит к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Клетка теряет внутриклеточные ионы (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, Zn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, Mg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неорганический фосфат) вследствие нарушения энергетически зависимой работы ионных насо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оявляются внутриклеточные метаболиты (лактат, аденозин) вследствие нарушения регуляции внутриклеточного метаболизм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отеря внутриклеточных макромолекул (миоглобина, тропонина Т, ферментов и других белков) вследствие функциональной и структурной дезинтеграции мембр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2"/>
          <a:stretch/>
        </p:blipFill>
        <p:spPr>
          <a:xfrm>
            <a:off x="7883640" y="5759280"/>
            <a:ext cx="1260360" cy="1098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mi-01"/>
          <p:cNvPicPr/>
          <p:nvPr/>
        </p:nvPicPr>
        <p:blipFill>
          <a:blip r:embed="rId3"/>
          <a:stretch/>
        </p:blipFill>
        <p:spPr>
          <a:xfrm>
            <a:off x="468360" y="4292640"/>
            <a:ext cx="380988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533520" y="380880"/>
            <a:ext cx="78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447920" y="1522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Comic Sans MS"/>
              </a:rPr>
              <a:t>Биохимическая диагностика инфаркта миокар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4800600" y="1371600"/>
            <a:ext cx="4343400" cy="44863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266760" y="1046160"/>
            <a:ext cx="44197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ретинкиназа и её изоформа М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арбоангидраза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Гликогенфосфорилаза В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ердечный белок, связывающий жирные кислоты (сБСЖК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ороткие фрагменты цепи миоз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иоглоб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ардиотроп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380880" y="60948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Ферменты и  тканевые белки миокар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380880" y="4648320"/>
            <a:ext cx="4191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Маркеры воспа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-реактивный бел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нтерлейкин-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иелопероксид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3"/>
          <p:cNvSpPr/>
          <p:nvPr/>
        </p:nvSpPr>
        <p:spPr>
          <a:xfrm>
            <a:off x="0" y="309240"/>
            <a:ext cx="905508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язательные лабораторные тесты при инфаркте –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миоглоби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креатинфосфокиназ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и ее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М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фермент,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АсАТ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ЛД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(и ее ЛДГ1 и ЛДГ2), С-реактивный белок, общий белок, белковые фракции, глюкоза, фибриноген, серомукоид, сиаловые кислоты. Дополнительно: холестерол, триглицериды, коагулограмма, креатинин, остаточный азот, иммуноглобулины, электроли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моче: активность амилазы, уровень глюкозы, бел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4"/>
          <p:cNvSpPr/>
          <p:nvPr/>
        </p:nvSpPr>
        <p:spPr>
          <a:xfrm>
            <a:off x="0" y="23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50920" y="3103560"/>
          <a:ext cx="8424720" cy="2990880"/>
        </p:xfrm>
        <a:graphic>
          <a:graphicData uri="http://schemas.openxmlformats.org/drawingml/2006/table">
            <a:tbl>
              <a:tblPr/>
              <a:tblGrid>
                <a:gridCol w="1795320"/>
                <a:gridCol w="1416240"/>
                <a:gridCol w="1782720"/>
                <a:gridCol w="1968480"/>
                <a:gridCol w="1461960"/>
              </a:tblGrid>
              <a:tr h="40968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Ферм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Ферментный 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повышения актив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ая актив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становление нормальной ак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в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ь максим. увеличения актив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атинкин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Д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4 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12 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24 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24 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14 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-36 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-48 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-72 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4 д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5 дн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14 дн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12 дн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ра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30 ра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20 ра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10 ра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609480" y="15228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Comic Sans MS"/>
              </a:rPr>
              <a:t>Кинетика высвобождения в плазму крови биохимических маркеров при остром инфаркте миокар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38188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214200" y="1270080"/>
            <a:ext cx="8853480" cy="52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4852080" y="260280"/>
            <a:ext cx="428796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ИСТРОФИЧЕСКИЕ ЗАБОЛЕ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259920" y="907920"/>
            <a:ext cx="480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ОКАРДИОДИСТРО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3059280" y="1484280"/>
            <a:ext cx="54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невоспалительное поражение ткани миокарда, которое сопровождается нарушением общего обмена веществ. Может быть вызвано различными фактор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971640" y="3643560"/>
            <a:ext cx="7129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неполноценное одностороннее пита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микроэлементоз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физическое перенапряжени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алиментарная дистроф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анемические состоя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аутоинтоксикация при заболеваниях ЖК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хронические инфекционные, инвазионные; гинекологические заболева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микозы и микотоксикоз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253800" y="32130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1909800" y="260280"/>
            <a:ext cx="77756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рушение трофики сердечной мыш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рушение обменных процесс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менение структуры мышечных волоко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структивные изменения в серд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1446840" y="3356640"/>
            <a:ext cx="645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небольшое повышение уровня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 – и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- глобулин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547640" y="385992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снижается или повышается количество калия и кальция в сыворотке кров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900000" y="4651920"/>
            <a:ext cx="741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 миокардиодистрофии относят также отложение в миокарде патологических продуктов обмена или нормальных метаболитов - амилоида, железа (при гемохроматозе), гликогена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иокардиопатии - алкогольная, климактерическа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милоидн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2917800" y="620640"/>
            <a:ext cx="1008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9"/>
          <p:cNvSpPr/>
          <p:nvPr/>
        </p:nvSpPr>
        <p:spPr>
          <a:xfrm>
            <a:off x="4284720" y="1052640"/>
            <a:ext cx="1008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0"/>
          <p:cNvSpPr/>
          <p:nvPr/>
        </p:nvSpPr>
        <p:spPr>
          <a:xfrm>
            <a:off x="5581800" y="1557360"/>
            <a:ext cx="10792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2" descr="microscopic_fibrosisR"/>
          <p:cNvPicPr/>
          <p:nvPr/>
        </p:nvPicPr>
        <p:blipFill>
          <a:blip r:embed="rId1"/>
          <a:stretch/>
        </p:blipFill>
        <p:spPr>
          <a:xfrm>
            <a:off x="250920" y="692280"/>
            <a:ext cx="2665440" cy="26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395280" y="1452960"/>
            <a:ext cx="7488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теросклероз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отложение холестерола в интиме сосудов с последующим перерождением и уплотнением стен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2539080" y="2375640"/>
            <a:ext cx="611532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d551f"/>
                </a:solidFill>
                <a:latin typeface="Arial"/>
              </a:rPr>
              <a:t>МЕТАБОЛИЧЕСКИЕ ФАКТОРЫ, ПРИВОДЯ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d551f"/>
                </a:solidFill>
                <a:latin typeface="Arial"/>
              </a:rPr>
              <a:t>К ВОЗНИКНОВЕНИЮ АТЕРОСКЛЕРО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693720" y="257040"/>
            <a:ext cx="7521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ЛЕЗНИ СОСУДОВ. АРТЕРИОСКЛЕРО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ТЕРОСКЛЕРО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24000" y="2899080"/>
            <a:ext cx="540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куре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сниженная физическая активн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повышенное питание (включая ожирение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способ пита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способ жизни (стрессы, жизненные трудности, страх и т.п.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395280" y="4967280"/>
            <a:ext cx="83520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58f61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58f61"/>
                </a:solidFill>
                <a:latin typeface="Times New Roman"/>
              </a:rPr>
              <a:t>В сыворотке кров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щие липиды, холестерол (общий, этерифицированный, свободный), фосфолипиды, триглицериды, липопротеины (α–липопротеины,  β – липопротеины,  пре-β-липопротеины, хиломикроны), отношение лецитин/холестерол, протеинограмма, мочевая кисло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1"/>
          <p:cNvPicPr/>
          <p:nvPr/>
        </p:nvPicPr>
        <p:blipFill>
          <a:blip r:embed="rId1"/>
          <a:stretch/>
        </p:blipFill>
        <p:spPr>
          <a:xfrm>
            <a:off x="6300720" y="3141720"/>
            <a:ext cx="215424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1" descr="4_8"/>
          <p:cNvPicPr/>
          <p:nvPr/>
        </p:nvPicPr>
        <p:blipFill>
          <a:blip r:embed="rId1"/>
          <a:stretch/>
        </p:blipFill>
        <p:spPr>
          <a:xfrm>
            <a:off x="1258920" y="4005360"/>
            <a:ext cx="7273800" cy="25430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2"/>
          <p:cNvSpPr/>
          <p:nvPr/>
        </p:nvSpPr>
        <p:spPr>
          <a:xfrm>
            <a:off x="4211640" y="836640"/>
            <a:ext cx="4645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чальная стадия образования атеросклеротической бляшки (формирование липидных пятен и полосок). В интиме присутствуют пенистые клетки, Т-лимфоцит и гладкомышечные клетки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4575960" y="259560"/>
            <a:ext cx="40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ьная стадия атеросклеро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5" descr="Atherosclerosis"/>
          <p:cNvPicPr/>
          <p:nvPr/>
        </p:nvPicPr>
        <p:blipFill>
          <a:blip r:embed="rId2"/>
          <a:stretch/>
        </p:blipFill>
        <p:spPr>
          <a:xfrm>
            <a:off x="611280" y="333360"/>
            <a:ext cx="33336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Grafik_blutkreislauf"/>
          <p:cNvPicPr/>
          <p:nvPr/>
        </p:nvPicPr>
        <p:blipFill>
          <a:blip r:embed="rId1"/>
          <a:stretch/>
        </p:blipFill>
        <p:spPr>
          <a:xfrm>
            <a:off x="395280" y="333360"/>
            <a:ext cx="1901880" cy="3240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3995640" y="412560"/>
            <a:ext cx="475308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ДЕЧНО-СОСУДИСТ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ое значение сердечно-сосудистой системы состоит в снабжении кровью органов и тканей. Кровь непрерывно движется по сосудам, что дает ей возможность выполнять все жизненно важные функции. К системе кровообращения относя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ердц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суды — кровеносные и лимфатическ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bighar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0360" y="3933720"/>
            <a:ext cx="2162160" cy="2635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29_sistmaLimfi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5280" y="3716280"/>
            <a:ext cx="20480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4_9"/>
          <p:cNvPicPr/>
          <p:nvPr/>
        </p:nvPicPr>
        <p:blipFill>
          <a:blip r:embed="rId1"/>
          <a:stretch/>
        </p:blipFill>
        <p:spPr>
          <a:xfrm>
            <a:off x="2124000" y="1268280"/>
            <a:ext cx="6728040" cy="4491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3930840" y="692280"/>
            <a:ext cx="46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хема начальной стадии атерогенеза.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Atherosclerosis"/>
          <p:cNvPicPr/>
          <p:nvPr/>
        </p:nvPicPr>
        <p:blipFill>
          <a:blip r:embed="rId2"/>
          <a:stretch/>
        </p:blipFill>
        <p:spPr>
          <a:xfrm>
            <a:off x="0" y="0"/>
            <a:ext cx="22478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1252440" y="475200"/>
            <a:ext cx="57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азование атеросклеротической бляш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46040" y="2386080"/>
          <a:ext cx="8253360" cy="2087640"/>
        </p:xfrm>
        <a:graphic>
          <a:graphicData uri="http://schemas.openxmlformats.org/drawingml/2006/table">
            <a:tbl>
              <a:tblPr/>
              <a:tblGrid>
                <a:gridCol w="8253360"/>
              </a:tblGrid>
              <a:tr h="1888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10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Рис. 4.10. Стадия образования фиброзной бляшки. Объяснение в тексте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3" name="Picture 7" descr="4_10"/>
          <p:cNvPicPr/>
          <p:nvPr/>
        </p:nvPicPr>
        <p:blipFill>
          <a:blip r:embed="rId1"/>
          <a:stretch/>
        </p:blipFill>
        <p:spPr>
          <a:xfrm>
            <a:off x="539640" y="1197000"/>
            <a:ext cx="7704360" cy="32115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8"/>
          <p:cNvSpPr/>
          <p:nvPr/>
        </p:nvSpPr>
        <p:spPr>
          <a:xfrm>
            <a:off x="179280" y="4483440"/>
            <a:ext cx="871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теросклеротическая бляшка – инкапсулированный холестерол сосудистой стенки. Не имея возможности его метаболизировать и вывести, организм вынужден использовать механизм инкапсуляции. Бляшка – это липидное ядро в соединительнотканной оболочке. Оболочка – продукт воспаления и представлена основным веществом, коллагеновыми и другими волокнами, клеточными элемен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4_11"/>
          <p:cNvPicPr/>
          <p:nvPr/>
        </p:nvPicPr>
        <p:blipFill>
          <a:blip r:embed="rId1"/>
          <a:stretch/>
        </p:blipFill>
        <p:spPr>
          <a:xfrm>
            <a:off x="468360" y="595440"/>
            <a:ext cx="8207280" cy="58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2189160" y="318240"/>
            <a:ext cx="48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ирование «осложненной» бляш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7920" y="2125800"/>
          <a:ext cx="9129600" cy="2606400"/>
        </p:xfrm>
        <a:graphic>
          <a:graphicData uri="http://schemas.openxmlformats.org/drawingml/2006/table">
            <a:tbl>
              <a:tblPr/>
              <a:tblGrid>
                <a:gridCol w="9129600"/>
              </a:tblGrid>
              <a:tr h="260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15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6" descr="4_12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84360" y="1268280"/>
            <a:ext cx="7416720" cy="39592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5"/>
          <p:cNvSpPr/>
          <p:nvPr/>
        </p:nvSpPr>
        <p:spPr>
          <a:xfrm>
            <a:off x="250920" y="5455080"/>
            <a:ext cx="83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ледствием формирования “осложненной” атеросклеротической бляшки является образование пристеночного тромба, который внезапно и резко ограничивает кровоток в артер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18050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2998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Sosud2"/>
          <p:cNvPicPr/>
          <p:nvPr/>
        </p:nvPicPr>
        <p:blipFill>
          <a:blip r:embed="rId2"/>
          <a:stretch/>
        </p:blipFill>
        <p:spPr>
          <a:xfrm>
            <a:off x="0" y="0"/>
            <a:ext cx="4067280" cy="308628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6"/>
          <p:cNvSpPr/>
          <p:nvPr/>
        </p:nvSpPr>
        <p:spPr>
          <a:xfrm>
            <a:off x="2666880" y="1905120"/>
            <a:ext cx="38102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18020"/>
          <p:cNvPicPr/>
          <p:nvPr/>
        </p:nvPicPr>
        <p:blipFill>
          <a:blip r:embed="rId3"/>
          <a:stretch/>
        </p:blipFill>
        <p:spPr>
          <a:xfrm>
            <a:off x="4716360" y="3211560"/>
            <a:ext cx="4427640" cy="3543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"/>
          <p:cNvPicPr/>
          <p:nvPr/>
        </p:nvPicPr>
        <p:blipFill>
          <a:blip r:embed="rId4"/>
          <a:stretch/>
        </p:blipFill>
        <p:spPr>
          <a:xfrm>
            <a:off x="0" y="3500280"/>
            <a:ext cx="40672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8"/>
          <p:cNvSpPr/>
          <p:nvPr/>
        </p:nvSpPr>
        <p:spPr>
          <a:xfrm>
            <a:off x="324000" y="332640"/>
            <a:ext cx="55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татины (ингибиторы ГМГ-КоА-редуктазы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0" descr="4_54"/>
          <p:cNvPicPr/>
          <p:nvPr/>
        </p:nvPicPr>
        <p:blipFill>
          <a:blip r:embed="rId1"/>
          <a:stretch/>
        </p:blipFill>
        <p:spPr>
          <a:xfrm>
            <a:off x="0" y="981000"/>
            <a:ext cx="6156360" cy="49928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9"/>
          <p:cNvSpPr/>
          <p:nvPr/>
        </p:nvSpPr>
        <p:spPr>
          <a:xfrm>
            <a:off x="5925600" y="1265760"/>
            <a:ext cx="335988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ловастатин (мевакор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имвастатин (зокор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авастатин (липостат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флювастатин (лескол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0"/>
          <p:cNvSpPr/>
          <p:nvPr/>
        </p:nvSpPr>
        <p:spPr>
          <a:xfrm>
            <a:off x="6266160" y="328392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spergillus terreus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enicillium brevicompactu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2" descr="medostati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20000" y="5043600"/>
            <a:ext cx="1814400" cy="1814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4" descr="Lovastati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56360" y="5200560"/>
            <a:ext cx="1657440" cy="1657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6" descr="simgal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236000" y="0"/>
            <a:ext cx="167004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5"/>
          <p:cNvSpPr/>
          <p:nvPr/>
        </p:nvSpPr>
        <p:spPr>
          <a:xfrm>
            <a:off x="1773720" y="333360"/>
            <a:ext cx="561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АБОЛИЧЕСКИЙ СИНД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Obesity is Separate Risk factor for Death – Weight Control and Diet Very Important"/>
          <p:cNvPicPr/>
          <p:nvPr/>
        </p:nvPicPr>
        <p:blipFill>
          <a:blip r:embed="rId1"/>
          <a:stretch/>
        </p:blipFill>
        <p:spPr>
          <a:xfrm>
            <a:off x="395280" y="836640"/>
            <a:ext cx="2303640" cy="21542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Diet and Exercise Techniques for Lowering High Blood Pressure"/>
          <p:cNvPicPr/>
          <p:nvPr/>
        </p:nvPicPr>
        <p:blipFill>
          <a:blip r:embed="rId2"/>
          <a:stretch/>
        </p:blipFill>
        <p:spPr>
          <a:xfrm>
            <a:off x="6516720" y="981000"/>
            <a:ext cx="2160720" cy="163836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8"/>
          <p:cNvSpPr/>
          <p:nvPr/>
        </p:nvSpPr>
        <p:spPr>
          <a:xfrm>
            <a:off x="468360" y="3068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бдоминальное ожир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6948360" y="292428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ртериальная гипертен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250920" y="3954600"/>
            <a:ext cx="8569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четание АГ (АД &gt; 140/90 мм рт.ст.) с избыточной массой тела, даже умеренно выраженной при окружности талии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94 см у мужчин и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80 см у женщин, или с выраженным ожирением (ИМТ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30 кг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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²) и хотя бы одним из проявлений гиперлипидемии (ХС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5,0 ммоль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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 или ТГ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2,0 ммоль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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четание избыточной массы тела (ИМТ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25 кг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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м²) с АГ и комбинированной дислипидемией ( ХС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5,0 ммоль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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, ТГ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2,0 ммоль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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; ХС ЛВП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1,0 ммоль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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четание ИНСД или НТГ с абдоминальным ожирением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4780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64000" y="1268280"/>
            <a:ext cx="1827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826920" y="33336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РЕКЦИЯ МЕТАБОЛИЧЕСКОГО СИНДР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fruits_and_vegetabl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1268280"/>
            <a:ext cx="2016360" cy="1779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3e21f8a0c1ca113893904c431e2cb35d_h_013c21e2abc289150c87c147821380a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4175280"/>
            <a:ext cx="2059200" cy="1377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fastfood-1"/>
          <p:cNvPicPr/>
          <p:nvPr/>
        </p:nvPicPr>
        <p:blipFill>
          <a:blip r:embed="rId5"/>
          <a:stretch/>
        </p:blipFill>
        <p:spPr>
          <a:xfrm>
            <a:off x="395280" y="1197000"/>
            <a:ext cx="2521080" cy="22525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1176075897_ojirenie"/>
          <p:cNvPicPr/>
          <p:nvPr/>
        </p:nvPicPr>
        <p:blipFill>
          <a:blip r:embed="rId6"/>
          <a:stretch/>
        </p:blipFill>
        <p:spPr>
          <a:xfrm>
            <a:off x="539640" y="3789360"/>
            <a:ext cx="2367000" cy="2367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6" descr="fitnes4646b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940360" y="5451480"/>
            <a:ext cx="1525680" cy="1406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0" descr="0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948360" y="2421000"/>
            <a:ext cx="1873440" cy="1325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2" descr="20050413_1"/>
          <p:cNvPicPr/>
          <p:nvPr/>
        </p:nvPicPr>
        <p:blipFill>
          <a:blip r:embed="rId11"/>
          <a:stretch/>
        </p:blipFill>
        <p:spPr>
          <a:xfrm>
            <a:off x="7093080" y="1052640"/>
            <a:ext cx="1434960" cy="1195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4" descr="IMG_0173"/>
          <p:cNvPicPr/>
          <p:nvPr/>
        </p:nvPicPr>
        <p:blipFill>
          <a:blip r:embed="rId12"/>
          <a:stretch/>
        </p:blipFill>
        <p:spPr>
          <a:xfrm>
            <a:off x="7020000" y="4005360"/>
            <a:ext cx="18730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"/>
          <p:cNvSpPr/>
          <p:nvPr/>
        </p:nvSpPr>
        <p:spPr>
          <a:xfrm>
            <a:off x="1979640" y="333360"/>
            <a:ext cx="56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ИКАМЕНТОЗНАЯ КОРРЕКЦИЯ МЕТАБОЛИЧЕСКОГО СИНДР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3492360" y="1989000"/>
            <a:ext cx="30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хароснижающ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тигипертенз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ипидснижаю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34920" y="3714840"/>
            <a:ext cx="5545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еняются препараты, регулирующие уровень ожирения посредством усиления термогенеза и энергозатрат -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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- адреномиметики (их называют "сжигателями жира"): фентермин, мазиндол и диэтилпропион. Кроме того, используются препараты нецентрального действия (ингибиторы желудочно-кишечных липаз, например орлиста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orlistat"/>
          <p:cNvPicPr/>
          <p:nvPr/>
        </p:nvPicPr>
        <p:blipFill>
          <a:blip r:embed="rId1"/>
          <a:stretch/>
        </p:blipFill>
        <p:spPr>
          <a:xfrm>
            <a:off x="6516720" y="3500280"/>
            <a:ext cx="1871640" cy="2725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Шугар Бэланс (Sugar Balance)"/>
          <p:cNvPicPr/>
          <p:nvPr/>
        </p:nvPicPr>
        <p:blipFill>
          <a:blip r:embed="rId2"/>
          <a:stretch/>
        </p:blipFill>
        <p:spPr>
          <a:xfrm>
            <a:off x="468360" y="1413000"/>
            <a:ext cx="21589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3492360" y="2275200"/>
            <a:ext cx="5183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куре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артериальной гипертенз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гиперхолестеролем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гиперинсулинемия/гипергликем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гипертриглицеридем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сниженный уровень холестерола липопротеинов высокой плотности (ЛПВП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избыточная масса тела (ожирение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повышенное тромбообраз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2843280" y="404640"/>
            <a:ext cx="54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КТОРЫ РИСКА РАЗВИТИЯ ЗАБОЛЕВАНИЙ СЕРДЕЧНО-СОСУДИСТОЙ СИТЕМ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smok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341360"/>
            <a:ext cx="1942920" cy="1670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_41448802_1603day0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5640" y="3716280"/>
            <a:ext cx="223200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1403280" y="115920"/>
            <a:ext cx="6050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ОБЕННОСТИ ХИМИЧЕСКОГО СОСТАВА СЕРДЕЧНОЙ МЫШ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0" y="1557360"/>
            <a:ext cx="8893080" cy="52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межуточное положение между поперечно-полосатой и гладкой мускулатур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держание креатина ниже, чем в поперечно-полосатой, но выше, чем в гладкой мускулатуре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еатинкиназа (креатинфосфокиназа) катализирует образование фосфокреатина. В сердечной мышце содержится КФК – М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офор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держится меньше белков стро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же содержания АТФ, гликогена, карнозина, ансерина, выше – фосфолипи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700360" y="3789360"/>
            <a:ext cx="3600360" cy="13809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7"/>
          <p:cNvSpPr/>
          <p:nvPr/>
        </p:nvSpPr>
        <p:spPr>
          <a:xfrm>
            <a:off x="1551240" y="522864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еатинфосфа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4790520" y="515700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еа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1403280" y="260280"/>
            <a:ext cx="605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ОБЕННОСТИ МЕТАБОЛИЗМА В СЕРДЕЧНОЙ МЫШ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1557360"/>
            <a:ext cx="7236000" cy="50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работы сердечной мышцы необходимо постоянное присутствие кислорода. Основной источник АТФ – окислительное фосфорилир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субстрат биологического окисления в миокарде используются жирные кислоты. Важна роль карнит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физической нагрузке увеличивается окисление глюкозы и использование молочной кисл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ердечной мышце высокий уровень глутаминовой кислоты и глутамина, которые участвуют в обезвреживания аммиа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ым источником Са2+ является внеклеточный кальций, который поступает через плазматическую мембра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10440" y="404640"/>
            <a:ext cx="91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АТОЛОГИИ СЕРДЕЧНО-СОСУДИСТОЙ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250920" y="1341000"/>
            <a:ext cx="39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стрые воспалитель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5514840" y="1556640"/>
            <a:ext cx="325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58f61"/>
                </a:solidFill>
                <a:latin typeface="Arial"/>
              </a:rPr>
              <a:t>Дистрофические</a:t>
            </a:r>
            <a:r>
              <a:rPr b="1" lang="ru-RU" sz="2000" spc="-1" strike="noStrike">
                <a:solidFill>
                  <a:srgbClr val="f58f6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250920" y="23493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окард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шемическая болезнь сердц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трый инфаркт миокар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5398920" y="2349360"/>
            <a:ext cx="374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окардиодистр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401400" y="4507200"/>
            <a:ext cx="39405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58f61"/>
                </a:solidFill>
                <a:latin typeface="Arial"/>
              </a:rPr>
              <a:t>БОЛЕЗНИ СОСУД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ТЕРИОСКЛЕР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ТЕРОСКЛЕР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4573080" y="5515560"/>
            <a:ext cx="42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аболический синдр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1"/>
          <p:cNvSpPr/>
          <p:nvPr/>
        </p:nvSpPr>
        <p:spPr>
          <a:xfrm>
            <a:off x="3203640" y="5589720"/>
            <a:ext cx="1224000" cy="144360"/>
          </a:xfrm>
          <a:prstGeom prst="line">
            <a:avLst/>
          </a:prstGeom>
          <a:ln w="2232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545400" y="260280"/>
            <a:ext cx="243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ОКАРД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203640" y="331920"/>
            <a:ext cx="561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это воспалительное поражение сердечной мышц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зывают в большинстве случаев вирусы, бактерии, но могут быть также осложнением прививок, введения лечебных сывороток и применения некоторых лекар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1" descr="dfhg"/>
          <p:cNvPicPr/>
          <p:nvPr/>
        </p:nvPicPr>
        <p:blipFill>
          <a:blip r:embed="rId1"/>
          <a:stretch/>
        </p:blipFill>
        <p:spPr>
          <a:xfrm>
            <a:off x="826920" y="836640"/>
            <a:ext cx="2016360" cy="19810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78"/>
          <p:cNvSpPr/>
          <p:nvPr/>
        </p:nvSpPr>
        <p:spPr>
          <a:xfrm>
            <a:off x="250920" y="2997360"/>
            <a:ext cx="856908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ОХИМИЧЕСКИЕ ИЗМЕ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ение активности креатинфосфокиназы-М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ение активности АсАТ, 1- и 2-фракций ЛДГ, и нарушается их соотношение (ЛДГ1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ЛДГ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ается количество острофазовых показателей: гликопротеинов (положительная проба на серомукоид, сиаловые кислоты), изменяется белковый спектр крови уровня гликопротеин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9"/>
          <p:cNvSpPr/>
          <p:nvPr/>
        </p:nvSpPr>
        <p:spPr>
          <a:xfrm>
            <a:off x="426960" y="5733000"/>
            <a:ext cx="302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оэффициент КК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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АсАТ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0"/>
          <p:cNvSpPr/>
          <p:nvPr/>
        </p:nvSpPr>
        <p:spPr>
          <a:xfrm>
            <a:off x="3676680" y="5558400"/>
            <a:ext cx="435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7 при травме скелетной мышц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 при повреждении миокард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614520" y="333360"/>
            <a:ext cx="35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актанты острой фа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250920" y="1197000"/>
            <a:ext cx="8497800" cy="55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ислый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ликопротеин (орозомукоид). Синтезируется в печени, содержит до 40% углеводов. В норме его концентрация  в крови 0,2-0,4 г/л, быстро увеличивается в течение 2-3 часов после воспаления, максимум 2-3 день. Разрушается в печ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антитрипсин. Синтезируется гепатоцитами, содержит  около 12% углеводов. Он ингибирует протеолитическую активность ряда ферментов, особенно трипсина, химотрипсина, плазмина, тромбина и протеаз, освобождающихся при распаде лейкоцитов или чужеродных клеток.  В физиологических условиях его концентрация в плазме крови – 2-4 г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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. Концентрация увеличивается при воспал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-реактивный белок.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глобулин, в присутствии Са способен связывать С-полисахарид клеточной стенки пневмококка. Образуется в печени, активирует систему комплемента, ингибирует процесс агрегации тромбоцитов и активирует фагоцито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аптоглобин, гемопексин, церулоплазмин, сиаловая кислота (тяжелое течение),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и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глобул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3"/>
          <p:cNvSpPr/>
          <p:nvPr/>
        </p:nvSpPr>
        <p:spPr>
          <a:xfrm>
            <a:off x="324000" y="333360"/>
            <a:ext cx="53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ШЕМИЧЕСКАЯ БОЛЕЗНЬ СЕРД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4"/>
          <p:cNvSpPr/>
          <p:nvPr/>
        </p:nvSpPr>
        <p:spPr>
          <a:xfrm>
            <a:off x="3276720" y="832320"/>
            <a:ext cx="525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основе лежит ухудшение кровоснабжения сердечной мышцы - коронарная недостаточность, обусловленная главным образом атеросклерозом венечных артерий серд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6" descr="steno"/>
          <p:cNvPicPr/>
          <p:nvPr/>
        </p:nvPicPr>
        <p:blipFill>
          <a:blip r:embed="rId1"/>
          <a:stretch/>
        </p:blipFill>
        <p:spPr>
          <a:xfrm>
            <a:off x="250920" y="1341360"/>
            <a:ext cx="2808360" cy="20001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7"/>
          <p:cNvSpPr/>
          <p:nvPr/>
        </p:nvSpPr>
        <p:spPr>
          <a:xfrm>
            <a:off x="324000" y="3425760"/>
            <a:ext cx="8424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нижено окислительное фосфорилирование, повышен анаэробный обме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величена внутриклеточная концентрация катехоламинов и цАМФ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ннее увеличение гликогенолиза и гликолиза – вначале усилено поглощается глюкоза и гликоген сердечной мышц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ктивация фосфофруктокиназы – ключевого фермента гликолиза. Это усиливает анаэробный метаболизм, но он не может долго защищать миокард от гипоксии, нарастающий ацидоз тормозит активность фосфофруктокиназ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9:14:08Z</dcterms:created>
  <dc:creator>Oksana</dc:creator>
  <dc:description/>
  <dc:language>en-US</dc:language>
  <cp:lastModifiedBy>Оператор</cp:lastModifiedBy>
  <dcterms:modified xsi:type="dcterms:W3CDTF">2016-09-01T10:30:28Z</dcterms:modified>
  <cp:revision>62</cp:revision>
  <dc:subject/>
  <dc:title>Слайд 1</dc:title>
</cp:coreProperties>
</file>