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17.jpeg" ContentType="image/jpeg"/>
  <Override PartName="/ppt/media/image3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3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3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C46E-42A7-4FAF-953E-6DB61AAC7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909-8ED6-416A-A70A-41E5E22CA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965A-BF75-4C11-BEC5-0EDF21140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DA6-5677-4BDD-AA22-F9DAFB335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864-8C97-4BFA-9E9A-4BD62262D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26D4-283E-45AC-9EF8-A30AAE569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F69A-3985-43F9-944D-7D0CC2568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CD0E-6CEA-443A-B919-8E01AAF38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6170-B623-46EA-8A1C-D8642AC73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1C1-6098-41B3-B7AD-C941A925F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8CE-1BBA-483D-98BF-2E31B9DFA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8AB-3E2A-435C-BF28-195F3555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3D6-5CCE-4CC2-9DA3-8B752BB6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92C-E901-4311-8D89-063D1047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19D-6A45-492C-9C6F-5C5B5C24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CF0-9FB2-476B-85C4-6FB3CAA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3AE-C8F7-4193-B833-606B195B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81E-5E09-4D24-8F11-1841A278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658-E782-4E6F-AD00-2E11882C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ABA-91EF-40C9-88D9-D1C1325D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F1E-71D4-4815-AA06-850BF45B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A0C-C3ED-42E8-8E24-9E0D8204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60B-CC52-403D-911A-5A43F32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8f61"/>
            </a:gs>
            <a:gs pos="50000">
              <a:srgbClr val="8181d5"/>
            </a:gs>
            <a:gs pos="100000">
              <a:srgbClr val="f58f6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0FF5-4335-4A9B-AC9F-7CBB4DF0A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ru/imgres?imgurl=http://www.7ya.ru/pub/pregn-med/img/bighart.jpg&amp;imgrefurl=http://www.7ya.ru/pub/article.aspx%3Fid%3D5505&amp;h=462&amp;w=378&amp;sz=35&amp;hl=ru&amp;start=9&amp;um=1&amp;tbnid=EsIbc6PlwtJphM:&amp;tbnh=128&amp;tbnw=105&amp;prev=/images%3Fq%3D%25D1%2581%25D0%25B5%25D1%2580%25D0%25B4%25D1%2586%25D0%25B5%26um%3D1%26hl%3Dru%26lr%3D%26newwindow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ru/imgres?imgurl=http://galka.ru/i/anatomy/29_sistmaLimfi.jpg&amp;imgrefurl=http://galka.ru/articles/9/0/483/elektroterapy.html&amp;h=498&amp;w=352&amp;sz=22&amp;hl=ru&amp;start=2&amp;um=1&amp;tbnid=SauAYBn1Sb6YgM:&amp;tbnh=130&amp;tbnw=92&amp;prev=/images%3Fq%3D%25D0%25BB%25D0%25B8%25D0%25BC%25D1%2584%25D0%25B0%25D1%2582%25D0%25B8%25D1%2587%25D0%25B5%25D1%2581%25D0%25BA%25D0%25B0%25D1%258F%2B%25D1%2581%25D0%25B8%25D1%2581%25D1%2582%25D0%25B5%25D0%25BC%25D0%25B0%26gbv%3D2%26um%3D1%26complete%3D1%26hl%3Dru%26lr%3D%26newwindow%3D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images.google.ru/imgres?imgurl=http://familyheal.com/pics/medostatin.jpg&amp;imgrefurl=http://familyheal.com/care/online-3727.html&amp;h=400&amp;w=400&amp;sz=38&amp;hl=ru&amp;start=6&amp;tbnid=cCInXPtGFWO4WM:&amp;tbnh=124&amp;tbnw=124&amp;prev=/images%3Fq%3D%25D0%25BB%25D0%25BE%25D0%25B2%25D0%25B0%25D1%2581%25D1%2582%25D0%25B0%25D1%2582%25D0%25B8%25D0%25BD%26gbv%3D2%26hl%3Dru%26newwindow%3D1" TargetMode="External"/><Relationship Id="rId3" Type="http://schemas.openxmlformats.org/officeDocument/2006/relationships/image" Target="../media/image30.png"/><Relationship Id="rId4" Type="http://schemas.openxmlformats.org/officeDocument/2006/relationships/hyperlink" Target="http://images.google.ru/imgres?imgurl=http://www.lakewoodconferences.com/direct/dbimage/50138364/Lovastatin.jpg&amp;imgrefurl=http://www.lakewoodconferences.com/catalog/41/546/page4/&amp;h=360&amp;w=360&amp;sz=8&amp;hl=ru&amp;start=2&amp;tbnid=qjcza5AYZeVtoM:&amp;tbnh=121&amp;tbnw=121&amp;prev=/images%3Fq%3D%25D0%25BB%25D0%25BE%25D0%25B2%25D0%25B0%25D1%2581%25D1%2582%25D0%25B0%25D1%2582%25D0%25B8%25D0%25BD%26gbv%3D2%26hl%3Dru%26newwindow%3D1" TargetMode="External"/><Relationship Id="rId5" Type="http://schemas.openxmlformats.org/officeDocument/2006/relationships/image" Target="../media/image31.png"/><Relationship Id="rId6" Type="http://schemas.openxmlformats.org/officeDocument/2006/relationships/hyperlink" Target="http://images.google.ru/imgres?imgurl=http://familyheal.com/pics/simgal.jpg&amp;imgrefurl=http://familyheal.com/care/online-10487.html&amp;h=400&amp;w=400&amp;sz=21&amp;hl=ru&amp;start=15&amp;tbnid=hCRHKHO-75BeIM:&amp;tbnh=124&amp;tbnw=124&amp;prev=/images%3Fq%3D%25D1%2581%25D0%25B8%25D0%25BC%25D0%25B2%25D0%25B0%25D1%2581%25D1%2582%25D0%25B0%25D1%2582%25D0%25B8%25D0%25BD%26gbv%3D2%26hl%3Dru%26newwindow%3D1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hyperlink" Target="http://images.google.ru/imgres?imgurl=http://i.i.ua/prikol/thumb/4/0/47804.jpg&amp;imgrefurl=http://prikol.i.ua/lenta/picture/2675/&amp;h=500&amp;w=373&amp;sz=29&amp;hl=ru&amp;start=18&amp;um=1&amp;tbnid=8sYq1hSyEEDd4M:&amp;tbnh=130&amp;tbnw=97&amp;prev=/images%3Fq%3D%25D0%25B4%25D0%25B8%25D0%25B5%25D1%2582%25D0%25B0%26um%3D1%26complete%3D1%26hl%3Dru%26lr%3D%26newwindow%3D1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portfamily.ru/pics/www.sportfamily.ru/Image/fruits_and_vegetables.jpg&amp;imgrefurl=http://www.sportfamily.ru/doshkolnik/zozh&amp;h=300&amp;w=340&amp;sz=49&amp;hl=ru&amp;start=5&amp;um=1&amp;tbnid=heB2mVTUsgcUqM:&amp;tbnh=105&amp;tbnw=119&amp;prev=/images%3Fq%3D%25D0%2597%25D0%2594%25D0%259E%25D0%25A0%25D0%259E%25D0%2592%25D0%25AB%25D0%2599%2B%25D0%259E%25D0%2591%25D0%25A0%25D0%2590%25D0%2597%2B%25D0%2596%25D0%2598%25D0%2597%25D0%259D%25D0%2598%26um%3D1%26complete%3D1%26hl%3Dru%26lr%3D%26newwindow%3D1" TargetMode="External"/><Relationship Id="rId2" Type="http://schemas.openxmlformats.org/officeDocument/2006/relationships/image" Target="../media/image36.png"/><Relationship Id="rId3" Type="http://schemas.openxmlformats.org/officeDocument/2006/relationships/hyperlink" Target="http://images.google.ru/imgres?imgurl=http://www.onbeauty.ru/images_news/3e21f8a0c1ca113893904c431e2cb35d_h_013c21e2abc289150c87c147821380a0&amp;imgrefurl=http://www.onbeauty.ru/life/3626.html&amp;h=334&amp;w=500&amp;sz=33&amp;hl=ru&amp;start=30&amp;um=1&amp;tbnid=wsQumhraYaSWIM:&amp;tbnh=87&amp;tbnw=130&amp;prev=/images%3Fq%3D%25D0%2597%25D0%2594%25D0%259E%25D0%25A0%25D0%259E%25D0%2592%25D0%25AB%25D0%2599%2B%25D0%259E%25D0%2591%25D0%25A0%25D0%2590%25D0%2597%2B%25D0%2596%25D0%2598%25D0%2597%25D0%259D%25D0%2598%26start%3D20%26ndsp%3D20%26um%3D1%26complete%3D1%26hl%3Dru%26lr%3D%26newwindow%3D1%26sa%3DN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hyperlink" Target="http://images.google.ru/imgres?imgurl=http://www.matrix-sport.ru/img/fitnes4646b.jpg&amp;imgrefurl=http://www.matrix-sport.ru/fitnes46.html&amp;h=276&amp;w=300&amp;sz=44&amp;hl=ru&amp;start=1&amp;um=1&amp;tbnid=0zpLffSw7leDoM:&amp;tbnh=107&amp;tbnw=116&amp;prev=/images%3Fq%3D%25D1%2584%25D0%25B8%25D0%25B7%25D0%25BA%25D1%2583%25D0%25BB%25D1%258C%25D1%2582%25D1%2583%25D1%2580%25D0%25B0%26um%3D1%26complete%3D1%26hl%3Dru%26lr%3D%26newwindow%3D1" TargetMode="External"/><Relationship Id="rId8" Type="http://schemas.openxmlformats.org/officeDocument/2006/relationships/image" Target="../media/image40.jpeg"/><Relationship Id="rId9" Type="http://schemas.openxmlformats.org/officeDocument/2006/relationships/hyperlink" Target="http://images.google.ru/imgres?imgurl=http://www.ladyfitness.ru/photo/157/02.jpg&amp;imgrefurl=http://ladyfitness.ru/php/articles.php3%3Fid%3D157&amp;h=150&amp;w=211&amp;sz=11&amp;hl=ru&amp;start=17&amp;um=1&amp;tbnid=5fPcYI50LGaagM:&amp;tbnh=75&amp;tbnw=106&amp;prev=/images%3Fq%3D%25D1%2584%25D1%2580%25D1%2583%25D0%25BA%25D1%2582%25D1%258B%2B%25D0%25B0%25D0%25BD%25D1%2582%25D0%25B8%25D0%25BE%25D0%25BA%25D1%2581%25D0%25B8%25D0%25B4%25D0%25B0%25D0%25BD%25D1%2582%25D1%258B%26ndsp%3D20%26um%3D1%26complete%3D1%26hl%3Dru%26lr%3D%26newwindow%3D1%26sa%3DN" TargetMode="External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portfamily.ru/pics/www.sportfamily.ru/Image/smoker.jpg&amp;imgrefurl=http://www.sportfamily.ru/danger/smokers&amp;h=314&amp;w=365&amp;sz=28&amp;hl=ru&amp;start=3&amp;um=1&amp;tbnid=4ChUp7zX8mz7NM:&amp;tbnh=104&amp;tbnw=121&amp;prev=/images%3Fq%3D%25D0%259A%25D0%25A3%25D0%25A0%25D0%2595%25D0%259D%25D0%2598%25D0%2595%2B%26um%3D1%26hl%3Dru%26lr%3D%26newwindow%3D1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ages.google.ru/imgres?imgurl=http://newsimg.bbc.co.uk/media/images/41448000/jpg/_41448802_1603day08.jpg&amp;imgrefurl=http://news.bbc.co.uk/hi/russian/photo_galleries/newsid_4813000/4813966.stm&amp;h=300&amp;w=416&amp;sz=40&amp;hl=ru&amp;start=4&amp;um=1&amp;tbnid=2dRluTlEnfgZ0M:&amp;tbnh=90&amp;tbnw=125&amp;prev=/images%3Fq%3D%25D0%259E%25D0%2596%25D0%2598%25D0%25A0%25D0%2595%25D0%259D%25D0%2598%25D0%2595%26um%3D1%26hl%3Dru%26lr%3D%26newwindow%3D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0"/>
          <p:cNvSpPr/>
          <p:nvPr/>
        </p:nvSpPr>
        <p:spPr>
          <a:xfrm>
            <a:off x="2484360" y="148500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ТОЛОГ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ДЕЧНО-СОСУДИС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ngiopl6"/>
          <p:cNvPicPr/>
          <p:nvPr/>
        </p:nvPicPr>
        <p:blipFill>
          <a:blip r:embed="rId1"/>
          <a:stretch/>
        </p:blipFill>
        <p:spPr>
          <a:xfrm>
            <a:off x="324000" y="260280"/>
            <a:ext cx="3240000" cy="230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pnevmonia"/>
          <p:cNvPicPr/>
          <p:nvPr/>
        </p:nvPicPr>
        <p:blipFill>
          <a:blip r:embed="rId2"/>
          <a:stretch/>
        </p:blipFill>
        <p:spPr>
          <a:xfrm>
            <a:off x="395280" y="4492800"/>
            <a:ext cx="29527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68360" y="926280"/>
            <a:ext cx="81392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ается уровень АТФ и креатинфосфата, активность К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ТФазы, накопление ионов каль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ается мембранная проницаемость кардиомиоцитов, активация ПОЛ,  из них выходят ионы калия и ферменты, что является одним из первых признаков ишемии. В сыворотке крови возрастает уровень: миоглобина, активност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В КФК, ЛДГ1,2,  Ас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постоянные и важные диагностические те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мозится функциональная активность клеток мышц, они начинают гибнуть. Из сердечной мышцы выходит миоглобин – это один из первых признаков иш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ается количество миофибриллярных белков, и накапливаются белки стро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ается обмен углеводов, белков и липидов (свободные жирные кислоты не окисляются, а включаются в триглицериды). Наблюдается жировая инфильтрация миокарда, наступает инфаркт – некроз, угнетение сердечной мыш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95280" y="333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ЫЙ ИНФАРКТ МИОК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348000" y="943560"/>
            <a:ext cx="547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строе сердечно-сосудистое заболевание, характеризующееся гибелью (некрозом) клеточных структур в одном или нескольких участках сердечной мышцы в результате нарушения коронарного кровообращения. Главная причина болезни – атеросклер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инфаркт"/>
          <p:cNvPicPr/>
          <p:nvPr/>
        </p:nvPicPr>
        <p:blipFill>
          <a:blip r:embed="rId1"/>
          <a:stretch/>
        </p:blipFill>
        <p:spPr>
          <a:xfrm>
            <a:off x="539640" y="981000"/>
            <a:ext cx="2525760" cy="3024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4384800" y="2867040"/>
            <a:ext cx="4572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6699ff"/>
                </a:solidFill>
                <a:uFillTx/>
                <a:latin typeface="Comic Sans MS"/>
              </a:rPr>
              <a:t>Некроз клето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иводит к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летка теряет внутриклеточные ионы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органический фосфат) вследствие нарушения энергетически зависимой работы ионных насо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являются внутриклеточные метаболиты (лактат, аденозин) вследствие нарушения регуляции внутриклеточного метаболиз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теря внутриклеточных макромолекул (миоглобина, тропонина Т, ферментов и других белков) вследствие функциональной и структурной дезинтеграции мембр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7883640" y="5759280"/>
            <a:ext cx="1260360" cy="1098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mi-01"/>
          <p:cNvPicPr/>
          <p:nvPr/>
        </p:nvPicPr>
        <p:blipFill>
          <a:blip r:embed="rId3"/>
          <a:stretch/>
        </p:blipFill>
        <p:spPr>
          <a:xfrm>
            <a:off x="468360" y="4292640"/>
            <a:ext cx="38098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3520" y="3808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447920" y="1522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Биохимическая диагностика инфаркта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343400" cy="4486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266760" y="1046160"/>
            <a:ext cx="4419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ретинкиназа и её изоформа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рбоангидраза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ликогенфосфорилаза 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рдечный белок, связывающий жирные кислоты (сБСЖ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роткие фрагменты цепи мио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и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рдиотроп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80880" y="6094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Ферменты и  тканевые белки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0880" y="4648320"/>
            <a:ext cx="41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Маркеры воспа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-реактивный бел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терлейкин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иелопероксид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3"/>
          <p:cNvSpPr/>
          <p:nvPr/>
        </p:nvSpPr>
        <p:spPr>
          <a:xfrm>
            <a:off x="0" y="309240"/>
            <a:ext cx="9055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тельные лабораторные тесты при инфаркте –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миоглоби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креатинфосфокина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ее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М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фермент,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Ас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ЛД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и ее ЛДГ1 и ЛДГ2), С-реактивный белок, общий белок, белковые фракции, глюкоза, фибриноген, серомукоид, сиаловые кислоты. Дополнительно: холестерол, триглицериды, коагулограмма, креатинин, остаточный азот, иммуноглобулины, электр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оче: активность амилазы, уровень глюкозы, бе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0" y="23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3103560"/>
          <a:ext cx="8424720" cy="2990880"/>
        </p:xfrm>
        <a:graphic>
          <a:graphicData uri="http://schemas.openxmlformats.org/drawingml/2006/table">
            <a:tbl>
              <a:tblPr/>
              <a:tblGrid>
                <a:gridCol w="1795320"/>
                <a:gridCol w="1416240"/>
                <a:gridCol w="1782720"/>
                <a:gridCol w="1968480"/>
                <a:gridCol w="1461960"/>
              </a:tblGrid>
              <a:tr h="409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ер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ерментный 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овышения а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ление нормальной ак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максим. увеличения а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нкин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Д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2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6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48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72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4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3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09480" y="152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Кинетика высвобождения в плазму крови биохимических маркеров при остром инфаркте миок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4200" y="1270080"/>
            <a:ext cx="8853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852080" y="260280"/>
            <a:ext cx="4287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СТРОФИЧЕСКИЕ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9920" y="90792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ОКАРДИОДИСТР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059280" y="148428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евоспалительное поражение ткани миокарда, которое сопровождается нарушением общего обмена веществ. Может быть вызвано различными фак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971640" y="3643560"/>
            <a:ext cx="712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неполноценное одностороннее пит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микроэлементоз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физическое перенапря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лиментарная дистроф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немические состоя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утоинтоксикация при заболеваниях Ж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хронические инфекционные, инвазионные; гинекологические заболе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микозы и микотоксико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3800" y="3213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909800" y="260280"/>
            <a:ext cx="7775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ение трофики сердечной мыш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ение обменных процесс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е структуры мышечных волок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структивные изменения в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46840" y="3356640"/>
            <a:ext cx="64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ебольшое повышение уровня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– 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глобули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547640" y="385992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нижается или повышается количество калия и кальция в сыворотке кро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900000" y="4651920"/>
            <a:ext cx="741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миокардиодистрофии относят также отложение в миокарде патологических продуктов обмена или нормальных метаболитов - амилоида, железа (при гемохроматозе), гликогена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окардиопатии - алкогольная, климактерическ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милоид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917800" y="62064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284720" y="105264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5581800" y="1557360"/>
            <a:ext cx="1079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microscopic_fibrosisR"/>
          <p:cNvPicPr/>
          <p:nvPr/>
        </p:nvPicPr>
        <p:blipFill>
          <a:blip r:embed="rId1"/>
          <a:stretch/>
        </p:blipFill>
        <p:spPr>
          <a:xfrm>
            <a:off x="250920" y="692280"/>
            <a:ext cx="26654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95280" y="1452960"/>
            <a:ext cx="748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еросклеро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отложение холестерола в интиме сосудов с последующим перерождением и уплотнением стен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39080" y="2375640"/>
            <a:ext cx="6115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d551f"/>
                </a:solidFill>
                <a:latin typeface="Arial"/>
              </a:rPr>
              <a:t>МЕТАБОЛИЧЕСКИЕ ФАКТОРЫ, ПРИВОДЯ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d551f"/>
                </a:solidFill>
                <a:latin typeface="Arial"/>
              </a:rPr>
              <a:t>К ВОЗНИКНОВЕНИЮ АТЕРОСКЛЕ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93720" y="257040"/>
            <a:ext cx="752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ЗНИ СОСУДОВ. АРТЕРИОСКЛЕ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ЕРОСКЛЕ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24000" y="289908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ур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ниженная физическая актив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повышенное питание (включая ожирени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пособ пит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пособ жизни (стрессы, жизненные трудности, страх и т.п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95280" y="4967280"/>
            <a:ext cx="8352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58f6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58f61"/>
                </a:solidFill>
                <a:latin typeface="Times New Roman"/>
              </a:rPr>
              <a:t>В сыворотке кров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е липиды, холестерол (общий, этерифицированный, свободный), фосфолипиды, триглицериды, липопротеины (α–липопротеины,  β – липопротеины,  пре-β-липопротеины, хиломикроны), отношение лецитин/холестерол, протеинограмма, мочевая кисл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1"/>
          <p:cNvPicPr/>
          <p:nvPr/>
        </p:nvPicPr>
        <p:blipFill>
          <a:blip r:embed="rId1"/>
          <a:stretch/>
        </p:blipFill>
        <p:spPr>
          <a:xfrm>
            <a:off x="6300720" y="3141720"/>
            <a:ext cx="21542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4_8"/>
          <p:cNvPicPr/>
          <p:nvPr/>
        </p:nvPicPr>
        <p:blipFill>
          <a:blip r:embed="rId1"/>
          <a:stretch/>
        </p:blipFill>
        <p:spPr>
          <a:xfrm>
            <a:off x="1258920" y="4005360"/>
            <a:ext cx="7273800" cy="2543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4211640" y="836640"/>
            <a:ext cx="46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ьная стадия образования атеросклеротической бляшки (формирование липидных пятен и полосок). В интиме присутствуют пенистые клетки, Т-лимфоцит и гладкомышечные клетк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575960" y="25956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ая стадия атеросклеро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5" descr="Atherosclerosis"/>
          <p:cNvPicPr/>
          <p:nvPr/>
        </p:nvPicPr>
        <p:blipFill>
          <a:blip r:embed="rId2"/>
          <a:stretch/>
        </p:blipFill>
        <p:spPr>
          <a:xfrm>
            <a:off x="611280" y="333360"/>
            <a:ext cx="3333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Grafik_blutkreislauf"/>
          <p:cNvPicPr/>
          <p:nvPr/>
        </p:nvPicPr>
        <p:blipFill>
          <a:blip r:embed="rId1"/>
          <a:stretch/>
        </p:blipFill>
        <p:spPr>
          <a:xfrm>
            <a:off x="395280" y="333360"/>
            <a:ext cx="190188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995640" y="412560"/>
            <a:ext cx="475308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ДЕЧНО-СОСУДИСТ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значение сердечно-сосудистой системы состоит в снабжении кровью органов и тканей. Кровь непрерывно движется по сосудам, что дает ей возможность выполнять все жизненно важные функции. К системе кровообращения относя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уды — кровеносные и лимф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bigh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3933720"/>
            <a:ext cx="2162160" cy="263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29_sistmaLimf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716280"/>
            <a:ext cx="2048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4_9"/>
          <p:cNvPicPr/>
          <p:nvPr/>
        </p:nvPicPr>
        <p:blipFill>
          <a:blip r:embed="rId1"/>
          <a:stretch/>
        </p:blipFill>
        <p:spPr>
          <a:xfrm>
            <a:off x="2124000" y="1268280"/>
            <a:ext cx="6728040" cy="4491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3930840" y="69228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начальной стадии атерогенеза.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Atherosclerosis"/>
          <p:cNvPicPr/>
          <p:nvPr/>
        </p:nvPicPr>
        <p:blipFill>
          <a:blip r:embed="rId2"/>
          <a:stretch/>
        </p:blipFill>
        <p:spPr>
          <a:xfrm>
            <a:off x="0" y="0"/>
            <a:ext cx="22478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252440" y="47520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е атеросклеротической бля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46040" y="2386080"/>
          <a:ext cx="8253360" cy="2087640"/>
        </p:xfrm>
        <a:graphic>
          <a:graphicData uri="http://schemas.openxmlformats.org/drawingml/2006/table">
            <a:tbl>
              <a:tblPr/>
              <a:tblGrid>
                <a:gridCol w="8253360"/>
              </a:tblGrid>
              <a:tr h="188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0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Рис. 4.10. Стадия образования фиброзной бляшки. Объяснение в текст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7" descr="4_10"/>
          <p:cNvPicPr/>
          <p:nvPr/>
        </p:nvPicPr>
        <p:blipFill>
          <a:blip r:embed="rId1"/>
          <a:stretch/>
        </p:blipFill>
        <p:spPr>
          <a:xfrm>
            <a:off x="539640" y="1197000"/>
            <a:ext cx="7704360" cy="3211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8"/>
          <p:cNvSpPr/>
          <p:nvPr/>
        </p:nvSpPr>
        <p:spPr>
          <a:xfrm>
            <a:off x="179280" y="448344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теросклеротическая бляшка – инкапсулированный холестерол сосудистой стенки. Не имея возможности его метаболизировать и вывести, организм вынужден использовать механизм инкапсуляции. Бляшка – это липидное ядро в соединительнотканной оболочке. Оболочка – продукт воспаления и представлена основным веществом, коллагеновыми и другими волокнами, клеточными эле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4_11"/>
          <p:cNvPicPr/>
          <p:nvPr/>
        </p:nvPicPr>
        <p:blipFill>
          <a:blip r:embed="rId1"/>
          <a:stretch/>
        </p:blipFill>
        <p:spPr>
          <a:xfrm>
            <a:off x="468360" y="595440"/>
            <a:ext cx="820728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189160" y="318240"/>
            <a:ext cx="48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«осложненной» бля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920" y="2125800"/>
          <a:ext cx="9129600" cy="2606400"/>
        </p:xfrm>
        <a:graphic>
          <a:graphicData uri="http://schemas.openxmlformats.org/drawingml/2006/table">
            <a:tbl>
              <a:tblPr/>
              <a:tblGrid>
                <a:gridCol w="9129600"/>
              </a:tblGrid>
              <a:tr h="26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5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6" descr="4_1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4360" y="1268280"/>
            <a:ext cx="7416720" cy="3959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250920" y="545508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ствием формирования “осложненной” атеросклеротической бляшки является образование пристеночного тромба, который внезапно и резко ограничивает кровоток в арте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18050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299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osud2"/>
          <p:cNvPicPr/>
          <p:nvPr/>
        </p:nvPicPr>
        <p:blipFill>
          <a:blip r:embed="rId2"/>
          <a:stretch/>
        </p:blipFill>
        <p:spPr>
          <a:xfrm>
            <a:off x="0" y="0"/>
            <a:ext cx="4067280" cy="30862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2666880" y="1905120"/>
            <a:ext cx="3810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18020"/>
          <p:cNvPicPr/>
          <p:nvPr/>
        </p:nvPicPr>
        <p:blipFill>
          <a:blip r:embed="rId3"/>
          <a:stretch/>
        </p:blipFill>
        <p:spPr>
          <a:xfrm>
            <a:off x="4716360" y="3211560"/>
            <a:ext cx="4427640" cy="354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0" y="3500280"/>
            <a:ext cx="40672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8"/>
          <p:cNvSpPr/>
          <p:nvPr/>
        </p:nvSpPr>
        <p:spPr>
          <a:xfrm>
            <a:off x="324000" y="332640"/>
            <a:ext cx="55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тины (ингибиторы ГМГ-КоА-редуктаз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0" descr="4_54"/>
          <p:cNvPicPr/>
          <p:nvPr/>
        </p:nvPicPr>
        <p:blipFill>
          <a:blip r:embed="rId1"/>
          <a:stretch/>
        </p:blipFill>
        <p:spPr>
          <a:xfrm>
            <a:off x="0" y="981000"/>
            <a:ext cx="6156360" cy="4992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9"/>
          <p:cNvSpPr/>
          <p:nvPr/>
        </p:nvSpPr>
        <p:spPr>
          <a:xfrm>
            <a:off x="5925600" y="1265760"/>
            <a:ext cx="3359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овастатин (мевакор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мвастатин (зокор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авастатин (липостат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лювастатин (лескол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6266160" y="3283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pergillus terreu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nicillium brevicompact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medostat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50436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Lovastat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520056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" descr="simga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6000" y="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773720" y="33336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АБОЛИЧЕСКИЙ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Obesity is Separate Risk factor for Death – Weight Control and Diet Very Important"/>
          <p:cNvPicPr/>
          <p:nvPr/>
        </p:nvPicPr>
        <p:blipFill>
          <a:blip r:embed="rId1"/>
          <a:stretch/>
        </p:blipFill>
        <p:spPr>
          <a:xfrm>
            <a:off x="395280" y="836640"/>
            <a:ext cx="2303640" cy="2154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Diet and Exercise Techniques for Lowering High Blood Pressure"/>
          <p:cNvPicPr/>
          <p:nvPr/>
        </p:nvPicPr>
        <p:blipFill>
          <a:blip r:embed="rId2"/>
          <a:stretch/>
        </p:blipFill>
        <p:spPr>
          <a:xfrm>
            <a:off x="6516720" y="981000"/>
            <a:ext cx="2160720" cy="16383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468360" y="306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бдоминальное ожи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948360" y="29242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териальная гипертен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50920" y="3954600"/>
            <a:ext cx="85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четание АГ (АД &gt; 140/90 мм рт.ст.) с избыточной массой тела, даже умеренно выраженной при окружности тали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94 см у мужчин 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80 см у женщин, или с выраженным ожирением (ИМТ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30 кг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²) и хотя бы одним из проявлений гиперлипидемии (ХС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5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 или ТГ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,0 ммол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четание избыточной массы тела (ИМТ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5 кг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²) с АГ и комбинированной дислипидемией ( ХС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5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, ТГ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; ХС ЛВП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1,0 ммоль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четание ИНСД или НТГ с абдоминальным ожирение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478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268280"/>
            <a:ext cx="1827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МЕТАБОЛИЧЕСКОГО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fruits_and_vegetab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268280"/>
            <a:ext cx="2016360" cy="177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3e21f8a0c1ca113893904c431e2cb35d_h_013c21e2abc289150c87c147821380a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175280"/>
            <a:ext cx="2059200" cy="1377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fastfood-1"/>
          <p:cNvPicPr/>
          <p:nvPr/>
        </p:nvPicPr>
        <p:blipFill>
          <a:blip r:embed="rId5"/>
          <a:stretch/>
        </p:blipFill>
        <p:spPr>
          <a:xfrm>
            <a:off x="395280" y="1197000"/>
            <a:ext cx="2521080" cy="225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1176075897_ojirenie"/>
          <p:cNvPicPr/>
          <p:nvPr/>
        </p:nvPicPr>
        <p:blipFill>
          <a:blip r:embed="rId6"/>
          <a:stretch/>
        </p:blipFill>
        <p:spPr>
          <a:xfrm>
            <a:off x="539640" y="3789360"/>
            <a:ext cx="2367000" cy="2367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fitnes4646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0360" y="5451480"/>
            <a:ext cx="1525680" cy="14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48360" y="2421000"/>
            <a:ext cx="1873440" cy="132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20050413_1"/>
          <p:cNvPicPr/>
          <p:nvPr/>
        </p:nvPicPr>
        <p:blipFill>
          <a:blip r:embed="rId11"/>
          <a:stretch/>
        </p:blipFill>
        <p:spPr>
          <a:xfrm>
            <a:off x="7093080" y="1052640"/>
            <a:ext cx="1434960" cy="1195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IMG_0173"/>
          <p:cNvPicPr/>
          <p:nvPr/>
        </p:nvPicPr>
        <p:blipFill>
          <a:blip r:embed="rId12"/>
          <a:stretch/>
        </p:blipFill>
        <p:spPr>
          <a:xfrm>
            <a:off x="7020000" y="4005360"/>
            <a:ext cx="1873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979640" y="3333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КАМЕНТОЗНАЯ КОРРЕКЦИЯ МЕТАБОЛИЧЕСКОГО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492360" y="198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хароснижающ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тигипертенз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пидсниж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4920" y="371484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яются препараты, регулирующие уровень ожирения посредством усиления термогенеза и энергозатрат 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адреномиметики (их называют "сжигателями жира"): фентермин, мазиндол и диэтилпропион. Кроме того, используются препараты нецентрального действия (ингибиторы желудочно-кишечных липаз, например орлиста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orlistat"/>
          <p:cNvPicPr/>
          <p:nvPr/>
        </p:nvPicPr>
        <p:blipFill>
          <a:blip r:embed="rId1"/>
          <a:stretch/>
        </p:blipFill>
        <p:spPr>
          <a:xfrm>
            <a:off x="6516720" y="3500280"/>
            <a:ext cx="1871640" cy="27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Шугар Бэланс (Sugar Balance)"/>
          <p:cNvPicPr/>
          <p:nvPr/>
        </p:nvPicPr>
        <p:blipFill>
          <a:blip r:embed="rId2"/>
          <a:stretch/>
        </p:blipFill>
        <p:spPr>
          <a:xfrm>
            <a:off x="468360" y="141300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492360" y="2275200"/>
            <a:ext cx="518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ур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ртериальной гипертенз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гиперхолестеролем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гиперинсулинемия/гиперглик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гипертриглицеридем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ниженный уровень холестерола липопротеинов высокой плотности (ЛПВП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избыточная масса тела (ожирени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овышенное тромбо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843280" y="40464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 РИСКА РАЗВИТИЯ ЗАБОЛЕВАНИЙ СЕРДЕЧНО-СОСУДИСТОЙ СИ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smo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1942920" cy="167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_41448802_1603day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716280"/>
            <a:ext cx="22320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403280" y="115920"/>
            <a:ext cx="60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ХИМИЧЕСКОГО СОСТАВА СЕРДЕЧНОЙ МЫШ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1557360"/>
            <a:ext cx="88930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межуточное положение между поперечно-полосатой и гладкой мускулату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креатина ниже, чем в поперечно-полосатой, но выше, чем в гладкой мускулатур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атинкиназа (креатинфосфокиназа) катализирует образование фосфокреатина. В сердечной мышце содержится КФК – М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ится меньше белков стро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е содержания АТФ, гликогена, карнозина, ансерина, выше – фосфолип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700360" y="3789360"/>
            <a:ext cx="3600360" cy="1380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1551240" y="52286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атинфосф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790520" y="5157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403280" y="260280"/>
            <a:ext cx="60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МЕТАБОЛИЗМА В СЕРДЕЧНОЙ МЫШ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1557360"/>
            <a:ext cx="7236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аботы сердечной мышцы необходимо постоянное присутствие кислорода. Основной источник АТФ – окислительное фосфори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субстрат биологического окисления в миокарде используются жирные кислоты. Важна роль карни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физической нагрузке увеличивается окисление глюкозы и использование молоч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дечной мышце высокий уровень глутаминовой кислоты и глутамина, которые участвуют в обезвреживания амми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сточником Са2+ является внеклеточный кальций, который поступает через плазматическую мембра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0440" y="404640"/>
            <a:ext cx="91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ТОЛОГИИ СЕРДЕЧНО-СОСУДИСТ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50920" y="134100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трые воспали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514840" y="155664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58f61"/>
                </a:solidFill>
                <a:latin typeface="Arial"/>
              </a:rPr>
              <a:t>Дистрофические</a:t>
            </a:r>
            <a:r>
              <a:rPr b="1" lang="ru-RU" sz="2000" spc="-1" strike="noStrike">
                <a:solidFill>
                  <a:srgbClr val="f58f6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0920" y="2349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окар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шемическая болезнь серд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ый инфаркт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398920" y="234936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окардиодистр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01400" y="4507200"/>
            <a:ext cx="3940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58f61"/>
                </a:solidFill>
                <a:latin typeface="Arial"/>
              </a:rPr>
              <a:t>БОЛЕЗНИ СОСУ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РИОСКЛЕ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ЕРОСКЛЕ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573080" y="551556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болический син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3203640" y="5589720"/>
            <a:ext cx="1224000" cy="14436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545400" y="260280"/>
            <a:ext cx="24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ОКАР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203640" y="33192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это воспалительное поражение сердечной мыш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зывают в большинстве случаев вирусы, бактерии, но могут быть также осложнением прививок, введения лечебных сывороток и применения некоторых лек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dfhg"/>
          <p:cNvPicPr/>
          <p:nvPr/>
        </p:nvPicPr>
        <p:blipFill>
          <a:blip r:embed="rId1"/>
          <a:stretch/>
        </p:blipFill>
        <p:spPr>
          <a:xfrm>
            <a:off x="826920" y="836640"/>
            <a:ext cx="201636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8"/>
          <p:cNvSpPr/>
          <p:nvPr/>
        </p:nvSpPr>
        <p:spPr>
          <a:xfrm>
            <a:off x="250920" y="2997360"/>
            <a:ext cx="8569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ХИМИЧЕСКИЕ ИЗМЕ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 активности креатинфосфокиназы-М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 активности АсАТ, 1- и 2-фракций ЛДГ, и нарушается их соотношение (ЛДГ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ДГ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ается количество острофазовых показателей: гликопротеинов (положительная проба на серомукоид, сиаловые кислоты), изменяется белковый спектр крови уровня гликопротеи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9"/>
          <p:cNvSpPr/>
          <p:nvPr/>
        </p:nvSpPr>
        <p:spPr>
          <a:xfrm>
            <a:off x="426960" y="573300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эффициент КК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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АсА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0"/>
          <p:cNvSpPr/>
          <p:nvPr/>
        </p:nvSpPr>
        <p:spPr>
          <a:xfrm>
            <a:off x="3676680" y="5558400"/>
            <a:ext cx="43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7 при травме скелетной мыш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при повреждении миокар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1452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танты острой ф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0920" y="1197000"/>
            <a:ext cx="849780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слый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икопротеин (орозомукоид). Синтезируется в печени, содержит до 40% углеводов. В норме его концентрация  в крови 0,2-0,4 г/л, быстро увеличивается в течение 2-3 часов после воспаления, максимум 2-3 день. Разрушается в печ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нтитрипсин. Синтезируется гепатоцитами, содержит  около 12% углеводов. Он ингибирует протеолитическую активность ряда ферментов, особенно трипсина, химотрипсина, плазмина, тромбина и протеаз, освобождающихся при распаде лейкоцитов или чужеродных клеток.  В физиологических условиях его концентрация в плазме крови – 2-4 г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. Концентрация увеличивается при воспа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-реактивный белок.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глобулин, в присутствии Са способен связывать С-полисахарид клеточной стенки пневмококка. Образуется в печени, активирует систему комплемента, ингибирует процесс агрегации тромбоцитов и активирует фагоцито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птоглобин, гемопексин, церулоплазмин, сиаловая кислота (тяжелое течение)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глобу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"/>
          <p:cNvSpPr/>
          <p:nvPr/>
        </p:nvSpPr>
        <p:spPr>
          <a:xfrm>
            <a:off x="324000" y="33336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3276720" y="83232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снове лежит ухудшение кровоснабжения сердечной мышцы - коронарная недостаточность, обусловленная главным образом атеросклерозом венечных артерий серд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6" descr="steno"/>
          <p:cNvPicPr/>
          <p:nvPr/>
        </p:nvPicPr>
        <p:blipFill>
          <a:blip r:embed="rId1"/>
          <a:stretch/>
        </p:blipFill>
        <p:spPr>
          <a:xfrm>
            <a:off x="250920" y="1341360"/>
            <a:ext cx="2808360" cy="2000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7"/>
          <p:cNvSpPr/>
          <p:nvPr/>
        </p:nvSpPr>
        <p:spPr>
          <a:xfrm>
            <a:off x="324000" y="3425760"/>
            <a:ext cx="84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ено окислительное фосфорилирование, повышен анаэробный обм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еличена внутриклеточная концентрация катехоламинов и цАМ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ннее увеличение гликогенолиза и гликолиза – вначале усилено поглощается глюкоза и гликоген сердечной мыш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ивация фосфофруктокиназы – ключевого фермента гликолиза. Это усиливает анаэробный метаболизм, но он не может долго защищать миокард от гипоксии, нарастающий ацидоз тормозит активность фосфофруктокин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9:14:08Z</dcterms:created>
  <dc:creator>Oksana</dc:creator>
  <dc:description/>
  <dc:language>en-US</dc:language>
  <cp:lastModifiedBy>Оператор</cp:lastModifiedBy>
  <dcterms:modified xsi:type="dcterms:W3CDTF">2016-09-01T10:30:28Z</dcterms:modified>
  <cp:revision>62</cp:revision>
  <dc:subject/>
  <dc:title>Слайд 1</dc:title>
</cp:coreProperties>
</file>