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F2A1-8EF4-4EC1-9C55-5D2472586C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6A5D-DE44-4E2F-AD3C-C950A5CCF8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F3BE-8E96-409C-A84F-9E0BB18205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EBD4-4D8B-4E87-8C3E-17A11A117D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7673-0444-487E-B1AE-4228062F12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D21-475A-45BA-88EB-52095C10F5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8680-A2D7-403F-A8CB-BA8FC29C73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BEF6-CC15-48FC-945C-BBAA477105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C69F-53FF-49EC-B4BA-7256955A73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4E60-4EEF-4AC7-AD71-CAC1017EB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68B9-DED7-428B-A2F8-5D7039A41A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2874-F7B7-4B74-B303-EC5B47348A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F7E8-B69D-42FF-8F9E-46CB995F21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C867-A52C-4CA8-848E-AA15985D6D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7CF5-FDF6-40A2-9065-72CD75B535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1AE4-E9C5-4228-8DEA-CC5A2049E8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119-5792-46B7-9AE8-2F52410B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FB1-CFE8-43C0-8800-C4EB3594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C41-5D22-4500-A6B4-A0C8CA8A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BF4-4C8A-4D04-A86D-C5E29D6C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B549-4C1C-41C8-897C-5455D8FC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93E0-2B9C-4DE9-A6E8-7C523F5E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1F3D-4FBA-4492-8A2F-A5588626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5708-3FAD-4EC8-9A77-BD03B8BE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9904-5EA2-4239-9DCB-3E08B494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B74D-B6B3-467D-9DCC-923DAA7A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1C9D-F675-4227-8B87-6365478E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07C-F788-4A78-BA80-DE7AF07E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184A-186A-4E0C-8AFC-D7E9CF8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A2E3-A23D-4F5B-A33F-6893F78B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2A38-97A8-4571-B3E8-5666118D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D7B5-437B-4358-9588-217C0827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E8FF-175C-4564-B14C-DB0EF97B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B80-F629-4982-B45C-86848AA7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9D6-7D73-49C5-A7B3-4D519E74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741-4C20-4026-9C35-42C65ACB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347-D65A-47A4-9D51-F0164CDE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E93-8724-4007-A9A4-F3E5B61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F00-A3AE-4044-B675-8023632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FA2-BC86-4E08-8BD6-10754CD4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5CD-2F83-4B74-B8AA-D7F801AFAA8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1BA-0D7B-4737-B3A2-AC24E1AFE7F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6/Sperm-egg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5"/>
          <p:cNvSpPr/>
          <p:nvPr/>
        </p:nvSpPr>
        <p:spPr>
          <a:xfrm>
            <a:off x="457200" y="2819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аметогенез. Статеві клітини люд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39640" y="260280"/>
            <a:ext cx="8305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ціональний фармацевтичний універс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b3572"/>
                </a:solidFill>
                <a:uFillTx/>
                <a:latin typeface="Times New Roman"/>
              </a:rPr>
              <a:t>Кафедра біології, фізіології та анатомії люди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6576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період розмноже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клітини зачаткового епітелію діляться мітотично з утворенням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овогоніїв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, а потім переходять у період росту, коли відбувається збільшення їх розмірів і накопичення запасних речовин в цитоплазмі. В цей період овогонії перетворюються на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овоцити І порядку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, що переходять потім до мейотичного поділу. Овоцити оточені фолікулярними клітинами і разом з ними утворюють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зачатковий фолікул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 Періоди розмноження і росту майже повністю протікають в ембріональному періоді, потім овоцити затримуються на стадії диплонеми (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диктионем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) профази І мейозу. Після статевого дозрівання протікає решта подій овогенезу. У період дозрівання закінчується мейоз і утворюється яйцеклітина. Особливістю мейозу в процесі овогенезу є утворення одного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овоциту ІІ порядку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першого полярного тільц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 В другому поділі мейозу утворюється яйцеклітина і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друге полярне тільце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, а також ділиться перше полярне тільце. Біологічна роль полярних тілець полягає в тому, що з ними йде надлишок спадкового матеріалу, тоді як весь запас поживних речовин залишається яйцеклітині. Полярні тільця використовуються і в сучасній медицині для діагностики можливих патологій розвитку плод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8218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вогенез – менш продуктивний процес, ніж сперматогенез, оскільки він дає всього лише одну яйцеклітину в 28-29 діб. При цьому парні яєчники працюють поперемінно. Лише в окремих випадках можливий одночасний вихід двох яйцеклітин. Овогенез починається у жінок ще в ембріональному періоді, переривається народженням до статевого дозрівання, а припиняють вироблятися яйцеклітини у віці 50-55 років. До особливостей овогенезу у людини слід віднести той факт, що другий поділ мейозу закінчується, якщо  на стадії метафази ІІ овогенезу в клітину проникає сперматозої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слідження овогенезу у разі відсутності дітей в подружніх пар може дати необхідну інформацію для лікування певних патологій, наприклад, порушення виходу яйцеклітини (овуляції), або попередження можливості появи дитини з відхиленнями в розвит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8000" y="186120"/>
            <a:ext cx="90360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" rIns="792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Сперматозоїд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чоловіч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амета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зазвичай рухома. Рух сперматозоїда відбувається переважно за допомогою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жгут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Довжина сперматозоїда становить від 10 мкм до 800 мкм, хоча інколи може досягати і 8000 мкм (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я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их ракоподіб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рілий сперматозоїд людини має довжину близько 7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к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Передня овальна його частина називається головкою, задня — витягнутої ниткоподібної форми — хвостиком. Хвостик включає зв'язуючу частину (шийку), проміжну, основну та кінцеву (термінальну) части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Файл:Sperm-eg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789360"/>
            <a:ext cx="38102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2682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ісля періоду дозрівання близько 64 днів, сперма може зберігатись біля одного місяця. Сперматозоїд людини виживає на повітрі в залежності від умов навколишнього середовища (світло, температура, вологість) до 24 год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піхві, ситуація інша: слиз, що виділяється на шийці матки, багатий поживними речовинами, такими як цукри і білки, створюючи тим самим оптимальні умови за яких сперма виживає 5 днів, а інколи 7 днів. З іншого боку, у безплідні дні слиз матки має високу щільність консистенції і таким чином блокується доступ сперми в матк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колишнє середовища у вагіні є також кисл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ці дн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і вижити сперма може лише кілька год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7280" y="18900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Тривалість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життя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сперматозої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478080"/>
            <a:ext cx="914400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b3572"/>
                </a:solidFill>
                <a:latin typeface="Times New Roman"/>
              </a:rPr>
              <a:t>Яйцеклітин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— жіноча статева клітина, має гаплоїдний набір хромосом. Людська яйцеклітина вперше описана в 1827 році. Від сперматозоїда відрізняєть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ереважною нерухоміст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повідно, характерною більш чи менш кулястою формо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явністю різноманітних захисних та оболонок-джерел поживних речовин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сутністю функціональних органел чи утворів, притаманних сперматозоїду: хвоста, спеціалізованого мітохондріального комплексу, акросоми тощо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енетичною інформацією (статеві хромосоми - X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собливостями утворення і розвитку, часом житт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начно меншою кількістю в організмі (за життя в жіночому організмі утворюється близько 400 яйцеклітин, тоді як сперматозоїдів у чоловічому - сотні мільйонів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пасом поживних речовин для розвитку майбутнього зародка, локалізованим у цитоплазмі і відповідн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начно більшими розмірами (яйцеклітина людини в 85 000 разів більша від сперматозоїда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Характерною властивістю яйцеклітини є блокування проникності оболонок після контакту з акросомою першого сперматозоїда та її активація - перехід зі стану спокою до розвитку. Яйцеклітини певних видів організмів можуть бути також самодостатніми ланками статевого розмноження (не потребують сперматозоїдів для активації, тобто партеногенезо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6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лацентарні ссавці (зародки живляться від материнського організму через плаценту) — 50 (миші-полівки), 90 (людина), 180 (вівці) м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нші хребетні – риби, плазуни, земноводні, птахи (зародки живляться від жовтка - запасу поживних речовин яйця) — 50 -70 мм (акули), 80 мм (страуси). З урахуванням оболонок яйця африканського страуса можуть досягати 150 мм в довжині та маси 1.5 - 2 к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9000"/>
            <a:ext cx="66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4c27d"/>
                </a:solidFill>
                <a:latin typeface="Times New Roman"/>
              </a:rPr>
              <a:t>Порівняльні діаметри яйцеклітин деяких </a:t>
            </a:r>
            <a:r>
              <a:rPr b="1" lang="ru-RU" sz="3200" spc="-1" strike="noStrike">
                <a:solidFill>
                  <a:srgbClr val="64c27d"/>
                </a:solidFill>
                <a:latin typeface="Times New Roman"/>
              </a:rPr>
              <a:t>тварин (без оболоно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45800" y="764280"/>
            <a:ext cx="74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Гаметогенез 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цес формування зрілих гам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9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Сперматоген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357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Овоген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626920" y="1268280"/>
            <a:ext cx="289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268280"/>
            <a:ext cx="316872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13364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Сперматогенезом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зивається процес утворення зрілих чоловічих гамет – сперматозоїді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рматозоїди утворюються в чоловічих статевих органах – сім’яниках, або яєчк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есь процес їх формування займає 72-74 доб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ізняють чотири періоди сперматогенезу: розмноження, росту, дозрівання і формува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3690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сперматогенез вступають диплоїдні клітини зачаткового епітелію канальців сім’яників. Вони діляться мітотично з утворенням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атогонії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2n). У період росту вони збільшуються в розмірах, стаюч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атоцитами І порядк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мають 46 хромосом. Потім вони вступають в перший розподіл мейозу, в результаті якого вже у період дозрівання утворюються спочатк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атоцити ІІ порядк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1n), а потім, після мейозу ІІ, і сперматиди.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атид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досить великі клітини, що містять достатній запас поживних речовин. Сперматиди в період формування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іогене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перетворюються на сперматозоїди, втрачаючи майже всю цитоплазм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50920" y="18900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Схема сперматогене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14680" y="957240"/>
            <a:ext cx="5414760" cy="56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33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ж сперматидами, що розвиваються, розташовуються крупн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літини Сертол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багаті на елементами агранулярного ендоплазматичного ретикулуму, диктіосоми апарату Гольджі, мітохондрії й лізосоми. Саме клітини Сертолі забезпечують перетворення сперматид в сперматозоїди, рівно як і секрецію рідини, в якій сперматозоїди проходять потім по канальцях сім’яників. Сперматогенез стимулюється тестостероном, який виділяють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літини Лейдиг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що також знаходяться у сіменни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08000" y="3619440"/>
            <a:ext cx="4824720" cy="31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3687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рматогенез може починатися у людини тільки після початку періоду статевого дозрівання (в 10-14-річному віці). Щодоби в нормі у чоловіків виділяється близько 120 млн. сперматозоїдів. Проте цього недостатньо для запліднення, оскільки згідно статистичним даним, цей процес вимагає 350 млн. чоловічих гам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вчення сперматогенезу набуває особливого значення при визначенні причин подружньої безплідності, оскільки різні порушення в ході формування сперматозоїдів можуть привести до переважання патологічних чоловічих гамет із зайвими джгутиками і без головок, а також з порушеною рухливістю. У ряді випадків сперматозоїди в спермі можуть бути навіть абсолютно відсутн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1251000" y="210168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052640"/>
          <a:ext cx="9144000" cy="5691240"/>
        </p:xfrm>
        <a:graphic>
          <a:graphicData uri="http://schemas.openxmlformats.org/drawingml/2006/table">
            <a:tbl>
              <a:tblPr/>
              <a:tblGrid>
                <a:gridCol w="1965240"/>
                <a:gridCol w="7178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л та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 та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ія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млн/мл та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млн та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хомість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 або більше рухомих протягом 60 хв після еякуля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тездатність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 та більше жив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ія лейкоцит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ше 1 млн/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спермальні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ше 50%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547640" y="333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Показники сперматог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13076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b3572"/>
                </a:solidFill>
                <a:latin typeface="Times New Roman"/>
              </a:rPr>
              <a:t>Овогенез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е процес утворення зрілих жіночих статевих клітин (яйцеклітин). Він протікає у жінок в яєчниках. На відміну від сперматогенезу, овогенез – тривалий процес. Він починається ще в ембріональному періоді, але перші яйцеклітини жіночий організм виробляє тільки після статевого дозрівання (в 11-12-річному віці). В цьому процесі виділяють три основні періоди: розмноження, росту і дозріва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6:28:55Z</dcterms:created>
  <dc:creator>DS</dc:creator>
  <dc:description/>
  <dc:language>en-US</dc:language>
  <cp:lastModifiedBy>НФаУ</cp:lastModifiedBy>
  <cp:lastPrinted>2007-09-23T10:43:29Z</cp:lastPrinted>
  <dcterms:modified xsi:type="dcterms:W3CDTF">2010-04-20T10:58:41Z</dcterms:modified>
  <cp:revision>354</cp:revision>
  <dc:subject/>
  <dc:title>Генетика антисоциальных форм поведения</dc:title>
</cp:coreProperties>
</file>