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88E9B-AFA8-4CD1-A414-9BFA574F0C2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D018A-B47A-4826-8C83-A9E2FC9D12F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60205-E509-4918-B78B-2FDE7614482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D4CA8-A380-4090-8A51-8C4BD9BBEA6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AAD4F-1027-4B22-B93B-530F4A30797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EF6E6-41F9-4582-938D-99590514DB4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6B4F8-2349-445C-B188-B48C37A3D5D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B9E9A-DB34-4794-8E61-7C4A53965E9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8E897-A92F-4E2C-8D29-1AA098092C8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C5DDB-9335-4F2F-B2E2-1EF10183922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4CC92-2188-44FF-9171-45F77EB929F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E931C-195E-474C-8142-E7263D1CC10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7A33E-FB17-4DD4-A78B-BD40BE08D17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9730D-284A-4BEA-9DF3-467FB414559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A73A0-494B-4D39-B769-CBC40E51205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67CEA-273D-41B6-8650-ECA46FA9A60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1FCA-E886-4705-8E22-11152BFDB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F360-DC0F-42F7-8FEF-E4AE65953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691D-1992-4E8F-8926-362EB9232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024E-DADB-401F-B2EE-8370FF46D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960F7-ECE6-4361-A8EB-5D412E78D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60A87-F9FC-436F-8929-3BB435268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CCFB6-2D54-4BC9-851A-43C70704F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E36D9-439C-448E-B1EC-F992794EF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B9AF5-1F60-4B4D-87CB-19185625E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9A4A7-8A82-482D-BF1B-1F08D9D03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15EAC-DC49-4EA0-8C37-7A1EC2B8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A975-2CEB-48B4-B899-FA71A2CED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9163C-320B-4698-877A-4AADCD1C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0755E-E0A1-4C32-BC5F-192A57A25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981D6-F28F-40C3-AE69-5A955FDDC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93CE4-F0D9-407F-ADB8-B74E3FCBF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54C36-BC8B-41C3-B40D-5846223FF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6064-4F26-4932-8FFF-F1B78B95D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19FB-8992-47E3-8AD6-006C4BE2A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C37B-1D51-4AE3-9A3F-8A34D7DE9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457C-F33E-4646-931E-65B66582A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DC66-FD62-45EC-A462-87FC13957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6FE3-72AC-4832-8699-C898BB40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87B1-02B7-4564-9444-06A8F6A99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f0f0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528840" y="201960"/>
                <a:ext cx="8397000" cy="646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Picture 5" descr="minispir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Rectangle 6"/>
              <p:cNvSpPr/>
              <p:nvPr/>
            </p:nvSpPr>
            <p:spPr>
              <a:xfrm>
                <a:off x="596880" y="4129920"/>
                <a:ext cx="1041120" cy="45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Picture 7" descr="minispir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Group 8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Line 9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Line 15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Line 19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Line 20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Line 21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Line 22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Line 23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Line 24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Line 25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Line 26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Line 27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Line 28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Line 29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97F73-80A1-4F26-A2B5-C11BE2331C6B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f0f0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1B836-FC68-41F1-AB01-68E661D2BE46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8/86/Sperm-egg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aeaea"/>
            </a:gs>
            <a:gs pos="100000">
              <a:srgbClr val="f0f0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15"/>
          <p:cNvSpPr/>
          <p:nvPr/>
        </p:nvSpPr>
        <p:spPr>
          <a:xfrm>
            <a:off x="457200" y="28195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Гаметогенез. Статеві клітини людин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539640" y="260280"/>
            <a:ext cx="830592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Times New Roman"/>
              </a:rPr>
              <a:t>Національний фармацевтичний університе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b3572"/>
                </a:solidFill>
                <a:uFillTx/>
                <a:latin typeface="Times New Roman"/>
              </a:rPr>
              <a:t>Кафедра біології, фізіології та анатомії люди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aeaea"/>
            </a:gs>
            <a:gs pos="100000">
              <a:srgbClr val="f0f0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365760"/>
            <a:ext cx="91440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У 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</a:rPr>
              <a:t>період розмноження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клітини зачаткового епітелію діляться мітотично з утворенням 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</a:rPr>
              <a:t>овогоніїв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, а потім переходять у період росту, коли відбувається збільшення їх розмірів і накопичення запасних речовин в цитоплазмі. В цей період овогонії перетворюються на 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</a:rPr>
              <a:t>овоцити І порядку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, що переходять потім до мейотичного поділу. Овоцити оточені фолікулярними клітинами і разом з ними утворюють 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</a:rPr>
              <a:t>зачатковий фолікул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. Періоди розмноження і росту майже повністю протікають в ембріональному періоді, потім овоцити затримуються на стадії диплонеми (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</a:rPr>
              <a:t>диктионеми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) профази І мейозу. Після статевого дозрівання протікає решта подій овогенезу. У період дозрівання закінчується мейоз і утворюється яйцеклітина. Особливістю мейозу в процесі овогенезу є утворення одного 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</a:rPr>
              <a:t>овоциту ІІ порядку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і 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</a:rPr>
              <a:t>першого полярного тільця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. В другому поділі мейозу утворюється яйцеклітина і 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</a:rPr>
              <a:t>друге полярне тільце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, а також ділиться перше полярне тільце. Біологічна роль полярних тілець полягає в тому, що з ними йде надлишок спадкового матеріалу, тоді як весь запас поживних речовин залишається яйцеклітині. Полярні тільця використовуються і в сучасній медицині для діагностики можливих патологій розвитку плоду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aeaea"/>
            </a:gs>
            <a:gs pos="100000">
              <a:srgbClr val="f0f0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821880"/>
            <a:ext cx="91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Овогенез – менш продуктивний процес, ніж сперматогенез, оскільки він дає всього лише одну яйцеклітину в 28-29 діб. При цьому парні яєчники працюють поперемінно. Лише в окремих випадках можливий одночасний вихід двох яйцеклітин. Овогенез починається у жінок ще в ембріональному періоді, переривається народженням до статевого дозрівання, а припиняють вироблятися яйцеклітини у віці 50-55 років. До особливостей овогенезу у людини слід віднести той факт, що другий поділ мейозу закінчується, якщо  на стадії метафази ІІ овогенезу в клітину проникає сперматозої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Дослідження овогенезу у разі відсутності дітей в подружніх пар може дати необхідну інформацію для лікування певних патологій, наприклад, порушення виходу яйцеклітини (овуляції), або попередження можливості появи дитини з відхиленнями в розвитк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aeaea"/>
            </a:gs>
            <a:gs pos="100000">
              <a:srgbClr val="f0f0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08000" y="186120"/>
            <a:ext cx="9036000" cy="34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" rIns="7920" tIns="6480" bIns="64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Сперматозоїд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— чоловіча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гамета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зазвичай рухома. Рух сперматозоїда відбувається переважно за допомогою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джгутик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Довжина сперматозоїда становить від 10 мкм до 800 мкм, хоча інколи може досягати і 8000 мкм (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у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еяк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их ракоподібни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рілий сперматозоїд людини має довжину близько 70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мк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Передня овальна його частина називається головкою, задня — витягнутої ниткоподібної форми — хвостиком. Хвостик включає зв'язуючу частину (шийку), проміжну, основну та кінцеву (термінальну) частин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Файл:Sperm-egg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11280" y="3789360"/>
            <a:ext cx="3810240" cy="261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aeaea"/>
            </a:gs>
            <a:gs pos="100000">
              <a:srgbClr val="f0f0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126828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ісля періоду дозрівання близько 64 днів, сперма може зберігатись біля одного місяця. Сперматозоїд людини виживає на повітрі в залежності від умов навколишнього середовища (світло, температура, вологість) до 24 годи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 піхві, ситуація інша: слиз, що виділяється на шийці матки, багатий поживними речовинами, такими як цукри і білки, створюючи тим самим оптимальні умови за яких сперма виживає 5 днів, а інколи 7 днів. З іншого боку, у безплідні дні слиз матки має високу щільність консистенції і таким чином блокується доступ сперми в матку.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вколишнє середовища у вагіні є також кисли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у ці дні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і вижити сперма може лише кілька годи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07280" y="189000"/>
            <a:ext cx="622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Times New Roman"/>
              </a:rPr>
              <a:t>Тривалість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життя</a:t>
            </a:r>
            <a:r>
              <a:rPr b="1" lang="uk-UA" sz="3200" spc="-1" strike="noStrike">
                <a:solidFill>
                  <a:srgbClr val="ff0000"/>
                </a:solidFill>
                <a:latin typeface="Times New Roman"/>
              </a:rPr>
              <a:t> сперматозоїд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aeaea"/>
            </a:gs>
            <a:gs pos="100000">
              <a:srgbClr val="f0f0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478080"/>
            <a:ext cx="9144000" cy="57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b3572"/>
                </a:solidFill>
                <a:latin typeface="Times New Roman"/>
              </a:rPr>
              <a:t>Яйцеклітина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 — жіноча статева клітина, має гаплоїдний набір хромосом. Людська яйцеклітина вперше описана в 1827 році. Від сперматозоїда відрізняється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переважною нерухомістю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відповідно, характерною більш чи менш кулястою формою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наявністю різноманітних захисних та оболонок-джерел поживних речовин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відсутністю функціональних органел чи утворів, притаманних сперматозоїду: хвоста, спеціалізованого мітохондріального комплексу, акросоми тощо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генетичною інформацією (статеві хромосоми - XX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особливостями утворення і розвитку, часом життя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значно меншою кількістю в організмі (за життя в жіночому організмі утворюється близько 400 яйцеклітин, тоді як сперматозоїдів у чоловічому - сотні мільйонів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запасом поживних речовин для розвитку майбутнього зародка, локалізованим у цитоплазмі і відповідно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значно більшими розмірами (яйцеклітина людини в 85 000 разів більша від сперматозоїда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Характерною властивістю яйцеклітини є блокування проникності оболонок після контакту з акросомою першого сперматозоїда та її активація - перехід зі стану спокою до розвитку. Яйцеклітини певних видів організмів можуть бути також самодостатніми ланками статевого розмноження (не потребують сперматозоїдів для активації, тобто партеногенезом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aeaea"/>
            </a:gs>
            <a:gs pos="100000">
              <a:srgbClr val="f0f0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173628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плацентарні ссавці (зародки живляться від материнського організму через плаценту) — 50 (миші-полівки), 90 (людина), 180 (вівці) мк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інші хребетні – риби, плазуни, земноводні, птахи (зародки живляться від жовтка - запасу поживних речовин яйця) — 50 -70 мм (акули), 80 мм (страуси). З урахуванням оболонок яйця африканського страуса можуть досягати 150 мм в довжині та маси 1.5 - 2 кг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9000"/>
            <a:ext cx="667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4c27d"/>
                </a:solidFill>
                <a:latin typeface="Times New Roman"/>
              </a:rPr>
              <a:t>Порівняльні діаметри яйцеклітин деяких </a:t>
            </a:r>
            <a:r>
              <a:rPr b="1" lang="ru-RU" sz="3200" spc="-1" strike="noStrike">
                <a:solidFill>
                  <a:srgbClr val="64c27d"/>
                </a:solidFill>
                <a:latin typeface="Times New Roman"/>
              </a:rPr>
              <a:t>тварин (без оболонок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aeaea"/>
            </a:gs>
            <a:gs pos="100000">
              <a:srgbClr val="f0f0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045800" y="764280"/>
            <a:ext cx="74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Гаметогенез -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процес формування зрілих гаме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03280" y="19890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99"/>
                </a:solidFill>
                <a:latin typeface="Times New Roman"/>
              </a:rPr>
              <a:t>Сперматогене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0" y="335772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Times New Roman"/>
              </a:rPr>
              <a:t>Овогене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2626920" y="1268280"/>
            <a:ext cx="28908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87640" y="1268280"/>
            <a:ext cx="3168720" cy="216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aeaea"/>
            </a:gs>
            <a:gs pos="100000">
              <a:srgbClr val="f0f0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1133640"/>
            <a:ext cx="91440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3399"/>
                </a:solidFill>
                <a:latin typeface="Times New Roman"/>
              </a:rPr>
              <a:t>Сперматогенезом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називається процес утворення зрілих чоловічих гамет – сперматозоїді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Сперматозоїди утворюються в чоловічих статевих органах – сім’яниках, або яєчках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Весь процес їх формування займає 72-74 доб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Розрізняють чотири періоди сперматогенезу: розмноження, росту, дозрівання і формуванн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aeaea"/>
            </a:gs>
            <a:gs pos="100000">
              <a:srgbClr val="f0f0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136908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У сперматогенез вступають диплоїдні клітини зачаткового епітелію канальців сім’яників. Вони діляться мітотично з утворенням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сперматогоніїв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(2n). У період росту вони збільшуються в розмірах, стаючи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сперматоцитами І порядку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, мають 46 хромосом. Потім вони вступають в перший розподіл мейозу, в результаті якого вже у період дозрівання утворюються спочатку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сперматоцити ІІ порядку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(1n), а потім, після мейозу ІІ, і сперматиди.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Сперматиди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це досить великі клітини, що містять достатній запас поживних речовин. Сперматиди в період формування (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сперміогенез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) перетворюються на сперматозоїди, втрачаючи майже всю цитоплазму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aeaea"/>
            </a:gs>
            <a:gs pos="100000">
              <a:srgbClr val="f0f0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050920" y="189000"/>
            <a:ext cx="46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3399"/>
                </a:solidFill>
                <a:latin typeface="Times New Roman"/>
              </a:rPr>
              <a:t>Схема сперматогенез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14680" y="957240"/>
            <a:ext cx="5414760" cy="564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aeaea"/>
            </a:gs>
            <a:gs pos="100000">
              <a:srgbClr val="f0f0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33336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Між сперматидами, що розвиваються, розташовуються крупні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клітини Сертолі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, багаті на елементами агранулярного ендоплазматичного ретикулуму, диктіосоми апарату Гольджі, мітохондрії й лізосоми. Саме клітини Сертолі забезпечують перетворення сперматид в сперматозоїди, рівно як і секрецію рідини, в якій сперматозоїди проходять потім по канальцях сім’яників. Сперматогенез стимулюється тестостероном, який виділяють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клітини Лейдига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, що також знаходяться у сіменник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908000" y="3619440"/>
            <a:ext cx="4824720" cy="310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aeaea"/>
            </a:gs>
            <a:gs pos="100000">
              <a:srgbClr val="f0f0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136872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Сперматогенез може починатися у людини тільки після початку періоду статевого дозрівання (в 10-14-річному віці). Щодоби в нормі у чоловіків виділяється близько 120 млн. сперматозоїдів. Проте цього недостатньо для запліднення, оскільки згідно статистичним даним, цей процес вимагає 350 млн. чоловічих гаме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Вивчення сперматогенезу набуває особливого значення при визначенні причин подружньої безплідності, оскільки різні порушення в ході формування сперматозоїдів можуть привести до переважання патологічних чоловічих гамет із зайвими джгутиками і без головок, а також з порушеною рухливістю. У ряді випадків сперматозоїди в спермі можуть бути навіть абсолютно відсутні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aeaea"/>
            </a:gs>
            <a:gs pos="100000">
              <a:srgbClr val="f0f0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-1251000" y="2101680"/>
            <a:ext cx="914400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0" y="1052640"/>
          <a:ext cx="9144000" cy="5691240"/>
        </p:xfrm>
        <a:graphic>
          <a:graphicData uri="http://schemas.openxmlformats.org/drawingml/2006/table">
            <a:tbl>
              <a:tblPr/>
              <a:tblGrid>
                <a:gridCol w="1965240"/>
                <a:gridCol w="717876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eee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eeee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’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є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мл та більш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2 та більш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центрація сперматозоїді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млн/мл та більш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альна кількість сперматозоїді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млн та більш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хомість сперматозоїді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 або більше рухомих протягом 60 хв після еякуляці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ттездатність сперматозоїді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 та більше живи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центрація лейкоциті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ше 1 млн/м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испермальні антите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ше 50% сперматозоїді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1547640" y="333360"/>
            <a:ext cx="58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3399"/>
                </a:solidFill>
                <a:latin typeface="Times New Roman"/>
              </a:rPr>
              <a:t>Показники сперматогра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aeaea"/>
            </a:gs>
            <a:gs pos="100000">
              <a:srgbClr val="f0f0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1130760"/>
            <a:ext cx="91440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b3572"/>
                </a:solidFill>
                <a:latin typeface="Times New Roman"/>
              </a:rPr>
              <a:t>Овогенез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це процес утворення зрілих жіночих статевих клітин (яйцеклітин). Він протікає у жінок в яєчниках. На відміну від сперматогенезу, овогенез – тривалий процес. Він починається ще в ембріональному періоді, але перші яйцеклітини жіночий організм виробляє тільки після статевого дозрівання (в 11-12-річному віці). В цьому процесі виділяють три основні періоди: розмноження, росту і дозріванн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6T16:28:55Z</dcterms:created>
  <dc:creator>DS</dc:creator>
  <dc:description/>
  <dc:language>en-US</dc:language>
  <cp:lastModifiedBy>НФаУ</cp:lastModifiedBy>
  <cp:lastPrinted>2007-09-23T10:43:29Z</cp:lastPrinted>
  <dcterms:modified xsi:type="dcterms:W3CDTF">2010-04-20T10:58:41Z</dcterms:modified>
  <cp:revision>354</cp:revision>
  <dc:subject/>
  <dc:title>Генетика антисоциальных форм поведения</dc:title>
</cp:coreProperties>
</file>