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jpeg" ContentType="image/jpeg"/>
  <Override PartName="/ppt/media/image6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1FAB-1856-4D80-A720-4E03A7E513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7CCA-967A-4F60-9777-8FEED88A90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C99C-BF2F-4204-BF2D-300182D862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45EC-A521-483B-8BA5-EC46558322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5E28-4237-49F0-9B02-C508788BFF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6DA1-5757-4BB6-B285-BBDBB79746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0464-C36E-4E4C-8B3F-C1759ED226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E581-9EE4-44CE-B643-7DBAF2AE9C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AB63-E87D-47F7-8581-56B6AB962E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1387-9565-4FAB-9F7E-BFAD231D52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1941-8423-460D-9673-5F6C5B1C8D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5A50-21B5-4910-8E5C-ADAE602448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A59C-E4B4-4F0B-9877-3251201630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971D-0DCF-4FC4-98BB-9036F797FE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730B-2678-4A58-8675-D00A9D1956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69E0-93E0-4F61-AAF8-69420EEEC4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153C-091C-4F32-87AA-75523B3B52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DF9-A53F-458E-8569-984E6A63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868-E442-4D89-AC1D-ACA2D78E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D64-CAB1-4D16-9C12-A2095EB4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9D9-0B5E-4B85-A97C-0FC74076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A544-2D62-4868-9F7C-36B00365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18BB-CCED-4034-86BE-3DEC3209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6A18-2F8B-4BDB-83E0-242B0FC9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8CC4-DED9-4DB4-8B28-9F057425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11FD-9E19-4B10-A59F-34B18D0F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17D2-6A52-4518-A185-51E02011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DDA2-10AB-4EAB-90AD-45DFE636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13D-BEBD-4266-97F1-2A5DC5D1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5322-7025-4238-9E67-72A174DC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2DED-A33E-4FDB-A835-58A7DA04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7C46-547B-43CE-AF4C-0871671E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240B-E78E-4C23-B9B3-AB4316E2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2B59-3A91-4630-AC8D-0F4DE22B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BFF-1AD1-4D63-B336-9658DD93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FBB-A146-4DE9-8FEE-FD5E78EE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FED-C579-4125-9A17-2D339B4B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12C-F662-424D-8032-414244CF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022-A487-4DB5-8AE6-284F3D23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BB2-4F0A-4A43-A58F-D73482B7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D5E-B971-4152-B3A3-79D160AD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228B-425E-4564-92E2-A17A2152D7F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6488-11E1-4007-ABF5-716CD6E5837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5"/>
          <p:cNvSpPr/>
          <p:nvPr/>
        </p:nvSpPr>
        <p:spPr>
          <a:xfrm>
            <a:off x="380880" y="3048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Основ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генет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39640" y="260280"/>
            <a:ext cx="8305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Національний фармацевтичний універси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b3572"/>
                </a:solidFill>
                <a:uFillTx/>
                <a:latin typeface="Times New Roman"/>
              </a:rPr>
              <a:t>Кафедра біології, фізіології та анатомії люди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Цитогенетичний мет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Object 7"/>
          <p:cNvGraphicFramePr/>
          <p:nvPr/>
        </p:nvGraphicFramePr>
        <p:xfrm>
          <a:off x="304920" y="914400"/>
          <a:ext cx="8610480" cy="389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61048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8"/>
          <p:cNvSpPr/>
          <p:nvPr/>
        </p:nvSpPr>
        <p:spPr>
          <a:xfrm>
            <a:off x="5306400" y="479736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3572"/>
                </a:solidFill>
                <a:latin typeface="Times New Roman"/>
              </a:rPr>
              <a:t>Цитогенетична символі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6152760" y="5105520"/>
            <a:ext cx="1076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46, Х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46, Х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7431840" y="5105520"/>
            <a:ext cx="1706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, ХХ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, ХХ+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6, ХХ, 2р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5013360"/>
            <a:ext cx="5545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тність: аналіз каріотипу для діагностики хромосомних та геномних хворо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3572"/>
                </a:solidFill>
                <a:latin typeface="Times New Roman"/>
              </a:rPr>
              <a:t>Цитогенетична символіка (приклад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758520" y="1197000"/>
            <a:ext cx="5801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46, ХХ – жінка з нормальним каріотип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46, ХУ – чоловік з нормальним каріотип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756360" y="2421000"/>
            <a:ext cx="8102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, ХХУ – чоловік із зайвою У-хромосомо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, ХХ+21 – жінка із зайвою хромосомою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6, ХХ, 5р- – жінка з делецією короткого плеча хромосоми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Популяційно-генетичний мет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Object 14"/>
          <p:cNvGraphicFramePr/>
          <p:nvPr/>
        </p:nvGraphicFramePr>
        <p:xfrm>
          <a:off x="1054080" y="1752480"/>
          <a:ext cx="267984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752480"/>
                    <a:ext cx="2679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15"/>
          <p:cNvSpPr/>
          <p:nvPr/>
        </p:nvSpPr>
        <p:spPr>
          <a:xfrm>
            <a:off x="610920" y="11430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івняння Харді-Вайнбер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4876920" y="1066680"/>
            <a:ext cx="3429000" cy="3048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тановлення част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нотипів, генотипі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ноз генетичних змі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пуляц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колінн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ff"/>
                </a:solidFill>
                <a:latin typeface="Times New Roman"/>
              </a:rPr>
              <a:t>Дерматогліфічний мет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Object 12"/>
          <p:cNvGraphicFramePr/>
          <p:nvPr/>
        </p:nvGraphicFramePr>
        <p:xfrm>
          <a:off x="304920" y="914400"/>
          <a:ext cx="8610480" cy="441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61048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108000" y="544500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тніст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діагностика спадкових ознак, в тому числі хвороб, та їхня профілактика, за малюнками пальців, долоней та сто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ff"/>
                </a:solidFill>
                <a:latin typeface="Times New Roman"/>
              </a:rPr>
              <a:t>Дерматогліфічний мет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901080" y="1241280"/>
            <a:ext cx="64749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актилоскопія – анал</a:t>
            </a:r>
            <a:r>
              <a:rPr b="0" lang="uk-UA" sz="2400" spc="-1" strike="noStrike">
                <a:solidFill>
                  <a:srgbClr val="333399"/>
                </a:solidFill>
                <a:latin typeface="Times New Roman"/>
              </a:rPr>
              <a:t>із пальцевих малюнків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b357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3572"/>
                </a:solidFill>
                <a:latin typeface="Times New Roman"/>
              </a:rPr>
              <a:t>Пальмоскопія – аналіз малюнків долон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b357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94b6"/>
                </a:solidFill>
                <a:latin typeface="Times New Roman"/>
              </a:rPr>
              <a:t>Плантоскопія – аналіз малюнків стоп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ff"/>
                </a:solidFill>
                <a:latin typeface="Times New Roman"/>
              </a:rPr>
              <a:t>Основні типи пальцевих візерунк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6"/>
          <p:cNvGraphicFramePr/>
          <p:nvPr/>
        </p:nvGraphicFramePr>
        <p:xfrm>
          <a:off x="380880" y="1066680"/>
          <a:ext cx="2021040" cy="221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202104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7"/>
          <p:cNvSpPr/>
          <p:nvPr/>
        </p:nvSpPr>
        <p:spPr>
          <a:xfrm>
            <a:off x="2440080" y="990720"/>
            <a:ext cx="8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у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Object 8"/>
          <p:cNvGraphicFramePr/>
          <p:nvPr/>
        </p:nvGraphicFramePr>
        <p:xfrm>
          <a:off x="3149640" y="1978200"/>
          <a:ext cx="2122560" cy="2288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9640" y="1978200"/>
                    <a:ext cx="212256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 Box 9"/>
          <p:cNvSpPr/>
          <p:nvPr/>
        </p:nvSpPr>
        <p:spPr>
          <a:xfrm>
            <a:off x="5285520" y="19051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т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10"/>
          <p:cNvGraphicFramePr/>
          <p:nvPr/>
        </p:nvGraphicFramePr>
        <p:xfrm>
          <a:off x="5803920" y="3882960"/>
          <a:ext cx="2076480" cy="2289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8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03920" y="3882960"/>
                    <a:ext cx="207648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1"/>
          <p:cNvSpPr/>
          <p:nvPr/>
        </p:nvSpPr>
        <p:spPr>
          <a:xfrm>
            <a:off x="7857360" y="380988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и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ff"/>
                </a:solidFill>
                <a:latin typeface="Times New Roman"/>
              </a:rPr>
              <a:t>Схема топографії доло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Object 12"/>
          <p:cNvGraphicFramePr/>
          <p:nvPr/>
        </p:nvGraphicFramePr>
        <p:xfrm>
          <a:off x="85680" y="838080"/>
          <a:ext cx="299088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838080"/>
                    <a:ext cx="29908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" name="Picture 13" descr="hfaaadf.jpg"/>
          <p:cNvPicPr/>
          <p:nvPr/>
        </p:nvPicPr>
        <p:blipFill>
          <a:blip r:embed="rId3"/>
          <a:stretch/>
        </p:blipFill>
        <p:spPr>
          <a:xfrm>
            <a:off x="7050240" y="4038480"/>
            <a:ext cx="2093760" cy="2819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4" descr="C:\Documents and Settings\OLGA\Рабочий стол\Новая папка444\simiancreaselc6.jpg"/>
          <p:cNvPicPr/>
          <p:nvPr/>
        </p:nvPicPr>
        <p:blipFill>
          <a:blip r:embed="rId4"/>
          <a:stretch/>
        </p:blipFill>
        <p:spPr>
          <a:xfrm>
            <a:off x="3124080" y="1752480"/>
            <a:ext cx="3892680" cy="40942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5"/>
          <p:cNvSpPr/>
          <p:nvPr/>
        </p:nvSpPr>
        <p:spPr>
          <a:xfrm>
            <a:off x="2207880" y="5867280"/>
            <a:ext cx="46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іміанська складка (при синдромі Даун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3048120" y="3506760"/>
            <a:ext cx="2743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ff"/>
                </a:solidFill>
                <a:latin typeface="Times New Roman"/>
              </a:rPr>
              <a:t>Грегор Мендель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ff"/>
                </a:solidFill>
                <a:latin typeface="Times New Roman"/>
              </a:rPr>
              <a:t>засновник генетики</a:t>
            </a:r>
            <a:r>
              <a:rPr b="1" lang="uk-UA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11"/>
          <p:cNvGraphicFramePr/>
          <p:nvPr/>
        </p:nvGraphicFramePr>
        <p:xfrm>
          <a:off x="3086280" y="214200"/>
          <a:ext cx="2323800" cy="30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6280" y="214200"/>
                    <a:ext cx="2323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2"/>
          <p:cNvGraphicFramePr/>
          <p:nvPr/>
        </p:nvGraphicFramePr>
        <p:xfrm>
          <a:off x="5638680" y="222120"/>
          <a:ext cx="3400560" cy="3090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22120"/>
                    <a:ext cx="340056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13"/>
          <p:cNvSpPr/>
          <p:nvPr/>
        </p:nvSpPr>
        <p:spPr>
          <a:xfrm>
            <a:off x="5486400" y="349092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ff"/>
                </a:solidFill>
                <a:latin typeface="Times New Roman"/>
              </a:rPr>
              <a:t>Джеймс Уотсон та Френсис Крик - розшифрували структуру Д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15"/>
          <p:cNvGraphicFramePr/>
          <p:nvPr/>
        </p:nvGraphicFramePr>
        <p:xfrm>
          <a:off x="361800" y="290520"/>
          <a:ext cx="2610000" cy="304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1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800" y="290520"/>
                    <a:ext cx="2610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16"/>
          <p:cNvSpPr/>
          <p:nvPr/>
        </p:nvSpPr>
        <p:spPr>
          <a:xfrm>
            <a:off x="380880" y="3490920"/>
            <a:ext cx="27432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ff"/>
                </a:solidFill>
                <a:latin typeface="Times New Roman"/>
              </a:rPr>
              <a:t>Френсис Гальтон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ff"/>
                </a:solidFill>
                <a:latin typeface="Times New Roman"/>
              </a:rPr>
              <a:t>засновник генеалогічного методу досліджень</a:t>
            </a:r>
            <a:r>
              <a:rPr b="1" lang="uk-UA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1000080" y="47862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Генетика – наука про спадковість та мінливі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500040" y="5286240"/>
            <a:ext cx="3714840" cy="1557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падковість – властивість організмів передавати ознаки потомств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5000760" y="5286240"/>
            <a:ext cx="3714480" cy="1191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інливість – властивість організмів набувати нові озна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Основні поняття гене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832320"/>
            <a:ext cx="87138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Ген</a:t>
            </a:r>
            <a:r>
              <a:rPr b="1" i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ділянка молекули ДНК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, яка  відповідає за синтез певного білка, який в організмі формує ознаку.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Алель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– різновид певного гену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Локус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– місце розташування певного гену в хромосомі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Домінантний ген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– це ген, який повністю пригнічує прояв альтернативного, рецесивного гену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Рецесивний ген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– це ген, прояв якого можливий лише, коли алельні гени однакові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3333ff"/>
                </a:solidFill>
                <a:latin typeface="Times New Roman"/>
              </a:rPr>
              <a:t>Гомозигота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рганізм з однаковими алельними генами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3333ff"/>
                </a:solidFill>
                <a:latin typeface="Times New Roman"/>
              </a:rPr>
              <a:t>Гетерозигота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рганізм з однаковими алельними генами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Генотип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– сукупність усіх генів організму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Фенотип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– сукупність всіх ознак організму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Геном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– сукупність всіх генів гаплоїдного набору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М</a:t>
            </a:r>
            <a:r>
              <a:rPr b="1" i="1" lang="en-US" sz="2300" spc="-1" strike="noStrike">
                <a:solidFill>
                  <a:srgbClr val="3333ff"/>
                </a:solidFill>
                <a:latin typeface="Times New Roman"/>
              </a:rPr>
              <a:t>оногібридне </a:t>
            </a: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схрещування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– це вид схрещування, при якому 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аналізують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успадкування тільки однієї ознаки.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Полі</a:t>
            </a:r>
            <a:r>
              <a:rPr b="1" i="1" lang="en-US" sz="2300" spc="-1" strike="noStrike">
                <a:solidFill>
                  <a:srgbClr val="3333ff"/>
                </a:solidFill>
                <a:latin typeface="Times New Roman"/>
              </a:rPr>
              <a:t>гібридне </a:t>
            </a: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схрещування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– це вид схрещування, при якому 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аналізують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успадкування 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декількох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ознак.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Основні методи генетики люди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914400" y="1066680"/>
            <a:ext cx="5562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Генеалогічний мет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Близнюковий мет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етод прийомних ді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Цитогенетичний мет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Біохімічний мет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опуляційно-генетичний мет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Дерматогліфічний мет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Генеалогічний мет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304920" y="1035000"/>
            <a:ext cx="88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Times New Roman"/>
              </a:rPr>
              <a:t>Родовід</a:t>
            </a:r>
            <a:r>
              <a:rPr b="0" lang="ru-RU" sz="2600" spc="-1" strike="noStrike">
                <a:solidFill>
                  <a:srgbClr val="333399"/>
                </a:solidFill>
                <a:latin typeface="Times New Roman"/>
              </a:rPr>
              <a:t> - схема зображення внутрішньосімейних відноше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25"/>
          <p:cNvGraphicFramePr/>
          <p:nvPr/>
        </p:nvGraphicFramePr>
        <p:xfrm>
          <a:off x="1523880" y="1752480"/>
          <a:ext cx="6486480" cy="44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648648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Проблеми при складанні родовід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304920" y="1035000"/>
            <a:ext cx="8839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ди знають мало членів своїх род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Люди необізнані щодо спадкових ознак в роди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Люди навмисно приховують соціально не схвалювані ознаки в роди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динні зв'язки заплутані по причинам усиновлення, сучасних альтернативних репродуктивних технологій, супружної зрад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4c27d"/>
                </a:solidFill>
                <a:latin typeface="Times New Roman"/>
              </a:rPr>
              <a:t>Типовий родові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6750000" y="4324320"/>
            <a:ext cx="3636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6029280" y="4325760"/>
            <a:ext cx="36360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8-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87840" y="4325760"/>
            <a:ext cx="36360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4767120" y="4325760"/>
            <a:ext cx="36360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4222800" y="4325760"/>
            <a:ext cx="36360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3503520" y="4325760"/>
            <a:ext cx="36504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963880" y="4325760"/>
            <a:ext cx="36360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5"/>
          <p:cNvSpPr/>
          <p:nvPr/>
        </p:nvSpPr>
        <p:spPr>
          <a:xfrm>
            <a:off x="2782800" y="45054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19200" y="4325760"/>
            <a:ext cx="36360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1881360" y="4325760"/>
            <a:ext cx="36324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6389640" y="3603600"/>
            <a:ext cx="3636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127480" y="3603600"/>
            <a:ext cx="3636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865680" y="3603600"/>
            <a:ext cx="3636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2422440" y="3603600"/>
            <a:ext cx="3636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5578560" y="2882880"/>
            <a:ext cx="36036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4495680" y="2882880"/>
            <a:ext cx="3636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3414600" y="2882880"/>
            <a:ext cx="3636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5"/>
          <p:cNvSpPr/>
          <p:nvPr/>
        </p:nvSpPr>
        <p:spPr>
          <a:xfrm>
            <a:off x="4495680" y="1981080"/>
            <a:ext cx="3636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4492800" y="1258920"/>
            <a:ext cx="3632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4316400" y="145260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8"/>
          <p:cNvSpPr/>
          <p:nvPr/>
        </p:nvSpPr>
        <p:spPr>
          <a:xfrm>
            <a:off x="4495680" y="18050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9"/>
          <p:cNvSpPr/>
          <p:nvPr/>
        </p:nvSpPr>
        <p:spPr>
          <a:xfrm>
            <a:off x="3417840" y="2889360"/>
            <a:ext cx="216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0"/>
          <p:cNvSpPr/>
          <p:nvPr/>
        </p:nvSpPr>
        <p:spPr>
          <a:xfrm>
            <a:off x="3414600" y="2890800"/>
            <a:ext cx="18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1"/>
          <p:cNvSpPr/>
          <p:nvPr/>
        </p:nvSpPr>
        <p:spPr>
          <a:xfrm>
            <a:off x="4495680" y="3424320"/>
            <a:ext cx="180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2"/>
          <p:cNvSpPr/>
          <p:nvPr/>
        </p:nvSpPr>
        <p:spPr>
          <a:xfrm>
            <a:off x="4495680" y="2890800"/>
            <a:ext cx="18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4316400" y="216684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4"/>
          <p:cNvSpPr/>
          <p:nvPr/>
        </p:nvSpPr>
        <p:spPr>
          <a:xfrm>
            <a:off x="4495680" y="2529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5"/>
          <p:cNvSpPr/>
          <p:nvPr/>
        </p:nvSpPr>
        <p:spPr>
          <a:xfrm>
            <a:off x="2422440" y="3603600"/>
            <a:ext cx="18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5397480" y="30733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7"/>
          <p:cNvSpPr/>
          <p:nvPr/>
        </p:nvSpPr>
        <p:spPr>
          <a:xfrm>
            <a:off x="2422440" y="4145040"/>
            <a:ext cx="180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8"/>
          <p:cNvSpPr/>
          <p:nvPr/>
        </p:nvSpPr>
        <p:spPr>
          <a:xfrm>
            <a:off x="1881360" y="4325760"/>
            <a:ext cx="1079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9"/>
          <p:cNvSpPr/>
          <p:nvPr/>
        </p:nvSpPr>
        <p:spPr>
          <a:xfrm>
            <a:off x="4044960" y="45054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0"/>
          <p:cNvSpPr/>
          <p:nvPr/>
        </p:nvSpPr>
        <p:spPr>
          <a:xfrm>
            <a:off x="3324240" y="450540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3503520" y="4325760"/>
            <a:ext cx="720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5578560" y="289080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4316400" y="307332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4"/>
          <p:cNvSpPr/>
          <p:nvPr/>
        </p:nvSpPr>
        <p:spPr>
          <a:xfrm>
            <a:off x="3233880" y="307188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5"/>
          <p:cNvSpPr/>
          <p:nvPr/>
        </p:nvSpPr>
        <p:spPr>
          <a:xfrm flipV="1">
            <a:off x="2422440" y="360360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6"/>
          <p:cNvSpPr/>
          <p:nvPr/>
        </p:nvSpPr>
        <p:spPr>
          <a:xfrm>
            <a:off x="6389640" y="3603600"/>
            <a:ext cx="18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7"/>
          <p:cNvSpPr/>
          <p:nvPr/>
        </p:nvSpPr>
        <p:spPr>
          <a:xfrm>
            <a:off x="3868560" y="3603600"/>
            <a:ext cx="18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8"/>
          <p:cNvSpPr/>
          <p:nvPr/>
        </p:nvSpPr>
        <p:spPr>
          <a:xfrm>
            <a:off x="5130720" y="3603600"/>
            <a:ext cx="18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49"/>
          <p:cNvSpPr/>
          <p:nvPr/>
        </p:nvSpPr>
        <p:spPr>
          <a:xfrm>
            <a:off x="2241720" y="378468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50"/>
          <p:cNvSpPr/>
          <p:nvPr/>
        </p:nvSpPr>
        <p:spPr>
          <a:xfrm>
            <a:off x="3684600" y="378468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51"/>
          <p:cNvSpPr/>
          <p:nvPr/>
        </p:nvSpPr>
        <p:spPr>
          <a:xfrm>
            <a:off x="4941720" y="3784680"/>
            <a:ext cx="3621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52"/>
          <p:cNvSpPr/>
          <p:nvPr/>
        </p:nvSpPr>
        <p:spPr>
          <a:xfrm>
            <a:off x="6208560" y="3784680"/>
            <a:ext cx="3621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53"/>
          <p:cNvSpPr/>
          <p:nvPr/>
        </p:nvSpPr>
        <p:spPr>
          <a:xfrm>
            <a:off x="3868560" y="4145040"/>
            <a:ext cx="180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54"/>
          <p:cNvSpPr/>
          <p:nvPr/>
        </p:nvSpPr>
        <p:spPr>
          <a:xfrm>
            <a:off x="5127480" y="4145040"/>
            <a:ext cx="180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5"/>
          <p:cNvSpPr/>
          <p:nvPr/>
        </p:nvSpPr>
        <p:spPr>
          <a:xfrm>
            <a:off x="6389640" y="4145040"/>
            <a:ext cx="180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6"/>
          <p:cNvSpPr/>
          <p:nvPr/>
        </p:nvSpPr>
        <p:spPr>
          <a:xfrm>
            <a:off x="1881360" y="4325760"/>
            <a:ext cx="144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7"/>
          <p:cNvSpPr/>
          <p:nvPr/>
        </p:nvSpPr>
        <p:spPr>
          <a:xfrm>
            <a:off x="2963880" y="4325760"/>
            <a:ext cx="144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8"/>
          <p:cNvSpPr/>
          <p:nvPr/>
        </p:nvSpPr>
        <p:spPr>
          <a:xfrm>
            <a:off x="2422440" y="4325760"/>
            <a:ext cx="180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9"/>
          <p:cNvSpPr/>
          <p:nvPr/>
        </p:nvSpPr>
        <p:spPr>
          <a:xfrm>
            <a:off x="1700280" y="4505400"/>
            <a:ext cx="3618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60"/>
          <p:cNvSpPr/>
          <p:nvPr/>
        </p:nvSpPr>
        <p:spPr>
          <a:xfrm>
            <a:off x="2241720" y="450540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1"/>
          <p:cNvSpPr/>
          <p:nvPr/>
        </p:nvSpPr>
        <p:spPr>
          <a:xfrm>
            <a:off x="3503520" y="4325760"/>
            <a:ext cx="180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62"/>
          <p:cNvSpPr/>
          <p:nvPr/>
        </p:nvSpPr>
        <p:spPr>
          <a:xfrm>
            <a:off x="4226040" y="4325760"/>
            <a:ext cx="144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63"/>
          <p:cNvSpPr/>
          <p:nvPr/>
        </p:nvSpPr>
        <p:spPr>
          <a:xfrm>
            <a:off x="4767120" y="4325760"/>
            <a:ext cx="719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4"/>
          <p:cNvSpPr/>
          <p:nvPr/>
        </p:nvSpPr>
        <p:spPr>
          <a:xfrm>
            <a:off x="4767120" y="4325760"/>
            <a:ext cx="180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5"/>
          <p:cNvSpPr/>
          <p:nvPr/>
        </p:nvSpPr>
        <p:spPr>
          <a:xfrm>
            <a:off x="5487840" y="4325760"/>
            <a:ext cx="180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66"/>
          <p:cNvSpPr/>
          <p:nvPr/>
        </p:nvSpPr>
        <p:spPr>
          <a:xfrm>
            <a:off x="4586400" y="45054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7"/>
          <p:cNvSpPr/>
          <p:nvPr/>
        </p:nvSpPr>
        <p:spPr>
          <a:xfrm>
            <a:off x="5307120" y="4505400"/>
            <a:ext cx="3618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6031080" y="4325760"/>
            <a:ext cx="718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6029280" y="4325760"/>
            <a:ext cx="180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70"/>
          <p:cNvSpPr/>
          <p:nvPr/>
        </p:nvSpPr>
        <p:spPr>
          <a:xfrm>
            <a:off x="6750000" y="4325760"/>
            <a:ext cx="180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1"/>
          <p:cNvSpPr/>
          <p:nvPr/>
        </p:nvSpPr>
        <p:spPr>
          <a:xfrm>
            <a:off x="5848200" y="45054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72"/>
          <p:cNvSpPr/>
          <p:nvPr/>
        </p:nvSpPr>
        <p:spPr>
          <a:xfrm>
            <a:off x="6570720" y="45054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3"/>
          <p:cNvSpPr/>
          <p:nvPr/>
        </p:nvSpPr>
        <p:spPr>
          <a:xfrm>
            <a:off x="7201080" y="1620720"/>
            <a:ext cx="36324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4"/>
          <p:cNvSpPr/>
          <p:nvPr/>
        </p:nvSpPr>
        <p:spPr>
          <a:xfrm>
            <a:off x="7201080" y="2341440"/>
            <a:ext cx="3632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5"/>
          <p:cNvSpPr/>
          <p:nvPr/>
        </p:nvSpPr>
        <p:spPr>
          <a:xfrm>
            <a:off x="7201080" y="3243240"/>
            <a:ext cx="3632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6"/>
          <p:cNvSpPr/>
          <p:nvPr/>
        </p:nvSpPr>
        <p:spPr>
          <a:xfrm>
            <a:off x="7201080" y="3963960"/>
            <a:ext cx="3632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7"/>
          <p:cNvSpPr/>
          <p:nvPr/>
        </p:nvSpPr>
        <p:spPr>
          <a:xfrm>
            <a:off x="7201080" y="4686480"/>
            <a:ext cx="3632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539640" y="-27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Близнюковий мет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22240" y="1643040"/>
            <a:ext cx="8093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вання близнюкової вибір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Діагностика зіготност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Розрахунок конкордантност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Розрахунок коефіцієнта успадковуваност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1"/>
          <p:cNvSpPr/>
          <p:nvPr/>
        </p:nvSpPr>
        <p:spPr>
          <a:xfrm>
            <a:off x="838080" y="571680"/>
            <a:ext cx="3505320" cy="1071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нозиготні близню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12"/>
          <p:cNvSpPr/>
          <p:nvPr/>
        </p:nvSpPr>
        <p:spPr>
          <a:xfrm>
            <a:off x="4724280" y="571680"/>
            <a:ext cx="3505320" cy="1071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зиготні близню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13"/>
          <p:cNvGraphicFramePr/>
          <p:nvPr/>
        </p:nvGraphicFramePr>
        <p:xfrm>
          <a:off x="596880" y="3286080"/>
          <a:ext cx="8318520" cy="128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3286080"/>
                    <a:ext cx="831852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 Box 2"/>
          <p:cNvSpPr/>
          <p:nvPr/>
        </p:nvSpPr>
        <p:spPr>
          <a:xfrm>
            <a:off x="357120" y="4429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Метод прийомних ді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285840" y="4881600"/>
            <a:ext cx="8786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орівняння ознак у біологічних батьків та нащадкі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орівняння ознак у прийомних нащадків та усиновлювач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. Розрахунок коефіцієнта успадковуваності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08000" y="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Біохімічний (молекулярно-генетичний) мет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8"/>
          <p:cNvGrpSpPr/>
          <p:nvPr/>
        </p:nvGrpSpPr>
        <p:grpSpPr>
          <a:xfrm>
            <a:off x="76320" y="430200"/>
            <a:ext cx="5649840" cy="2711520"/>
            <a:chOff x="76320" y="430200"/>
            <a:chExt cx="5649840" cy="2711520"/>
          </a:xfrm>
        </p:grpSpPr>
        <p:sp>
          <p:nvSpPr>
            <p:cNvPr id="227" name="Text Box 9"/>
            <p:cNvSpPr/>
            <p:nvPr/>
          </p:nvSpPr>
          <p:spPr>
            <a:xfrm>
              <a:off x="76320" y="430200"/>
              <a:ext cx="11617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Фосфатна</a:t>
              </a:r>
              <a:br>
                <a:rPr sz="1400"/>
              </a:b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груп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1066680" y="639360"/>
              <a:ext cx="217080" cy="20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3463200" y="1557360"/>
              <a:ext cx="9406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>
              <a:off x="1674360" y="2040840"/>
              <a:ext cx="49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 flipH="1" flipV="1">
              <a:off x="1384920" y="1743840"/>
              <a:ext cx="289440" cy="29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 flipH="1">
              <a:off x="1382760" y="1308960"/>
              <a:ext cx="636120" cy="44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Oval 15"/>
            <p:cNvSpPr/>
            <p:nvPr/>
          </p:nvSpPr>
          <p:spPr>
            <a:xfrm>
              <a:off x="2087640" y="1214640"/>
              <a:ext cx="159840" cy="2167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H="1">
              <a:off x="2152080" y="2040840"/>
              <a:ext cx="49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 flipV="1">
              <a:off x="2647800" y="1739880"/>
              <a:ext cx="28944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2304720" y="1297440"/>
              <a:ext cx="636120" cy="44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 flipV="1">
              <a:off x="1371600" y="1145880"/>
              <a:ext cx="293040" cy="60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0"/>
            <p:cNvSpPr/>
            <p:nvPr/>
          </p:nvSpPr>
          <p:spPr>
            <a:xfrm flipH="1" flipV="1">
              <a:off x="1249200" y="814680"/>
              <a:ext cx="415080" cy="33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1"/>
            <p:cNvSpPr/>
            <p:nvPr/>
          </p:nvSpPr>
          <p:spPr>
            <a:xfrm>
              <a:off x="2931840" y="174384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22"/>
            <p:cNvSpPr/>
            <p:nvPr/>
          </p:nvSpPr>
          <p:spPr>
            <a:xfrm>
              <a:off x="1371600" y="2063880"/>
              <a:ext cx="153144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ятивуглецевий цук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23"/>
            <p:cNvSpPr/>
            <p:nvPr/>
          </p:nvSpPr>
          <p:spPr>
            <a:xfrm>
              <a:off x="4404240" y="1584000"/>
              <a:ext cx="11617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Основ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4"/>
            <p:cNvSpPr/>
            <p:nvPr/>
          </p:nvSpPr>
          <p:spPr>
            <a:xfrm>
              <a:off x="1017360" y="2737800"/>
              <a:ext cx="470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25"/>
            <p:cNvSpPr/>
            <p:nvPr/>
          </p:nvSpPr>
          <p:spPr>
            <a:xfrm flipV="1">
              <a:off x="1017360" y="258516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26"/>
            <p:cNvSpPr/>
            <p:nvPr/>
          </p:nvSpPr>
          <p:spPr>
            <a:xfrm flipV="1">
              <a:off x="5715000" y="2574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27"/>
            <p:cNvSpPr/>
            <p:nvPr/>
          </p:nvSpPr>
          <p:spPr>
            <a:xfrm>
              <a:off x="2739240" y="2779920"/>
              <a:ext cx="11617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Нуклеоти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6" name="Object 28"/>
          <p:cNvGraphicFramePr/>
          <p:nvPr/>
        </p:nvGraphicFramePr>
        <p:xfrm>
          <a:off x="2641680" y="2438280"/>
          <a:ext cx="6197400" cy="44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1680" y="2438280"/>
                    <a:ext cx="61974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29"/>
          <p:cNvGraphicFramePr/>
          <p:nvPr/>
        </p:nvGraphicFramePr>
        <p:xfrm>
          <a:off x="457200" y="2924280"/>
          <a:ext cx="1774800" cy="2562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9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924280"/>
                    <a:ext cx="177480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30"/>
          <p:cNvSpPr/>
          <p:nvPr/>
        </p:nvSpPr>
        <p:spPr>
          <a:xfrm>
            <a:off x="302760" y="5410080"/>
            <a:ext cx="2361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4c27d"/>
                </a:solidFill>
                <a:latin typeface="Times New Roman"/>
              </a:rPr>
              <a:t>Дитина, хвор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4c27d"/>
                </a:solidFill>
                <a:latin typeface="Times New Roman"/>
              </a:rPr>
              <a:t>на фенілкетонурі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476280"/>
            <a:ext cx="3851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тніс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НК-діагнос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іагностика спадкових розладів метаболіз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6:28:55Z</dcterms:created>
  <dc:creator>DS</dc:creator>
  <dc:description/>
  <dc:language>en-US</dc:language>
  <cp:lastModifiedBy>НФаУ</cp:lastModifiedBy>
  <cp:lastPrinted>2007-09-23T10:43:29Z</cp:lastPrinted>
  <dcterms:modified xsi:type="dcterms:W3CDTF">2010-04-20T11:00:26Z</dcterms:modified>
  <cp:revision>358</cp:revision>
  <dc:subject/>
  <dc:title>Генетика антисоциальных форм поведения</dc:title>
</cp:coreProperties>
</file>