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945F-7446-4156-8E85-DA769E31C6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47DC-FCDD-4E41-8745-74A469AE28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FF6F-88ED-4E7D-B49F-B1FD3EAFE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242E-2EFE-44D4-95EF-AFA4827FF6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03E2-EB74-4131-B9FC-E19D35D313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7C3-4D0D-432E-B245-5E6B46A9D1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1D9-9454-46C8-8441-37BEB23D28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97B-4B2E-48CE-BDA5-542208ECAB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834B-329A-4779-B83C-CFF66A37E2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DA1-62CD-479B-B5BE-E1D62EC79D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EBDE-CB25-44D8-B2E9-5D69EA9084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1BC5-92E1-40FF-9162-81B01C77B9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7116-D895-4682-84EF-E17415D002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C524-77F5-4A63-B3C3-F7B3CBF1ED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3570-2829-4426-9FB6-77946E2611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D83-D0A8-4686-B501-4F6F9EDBC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B456-4FB4-4D9E-9E18-BF1923B1FF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A44-B011-4010-BF58-5B65830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6A3-1E61-423F-AADF-F0CAEF1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C7B-3A4B-4B30-8389-353879F0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B25-BC34-4B84-A9CA-102BF4E2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AC4C-DBC5-43ED-99B4-C9B96974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2564-068F-460A-8114-913D2055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540-5686-4961-BCBD-B4B5D1CD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B0C-88F6-49DC-AC4A-6612A4C6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A4D-4439-4FC7-BE6C-14B496D7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A48-4C57-4817-B867-C179B7B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415E-9120-41E4-9918-D8027E01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A3E-CE00-4958-99F0-B5D7FE2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A8C-6863-412C-849E-2D1147E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47BA-3462-4621-867D-0DD1B88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1B8F-2A54-49D3-A031-7AE506A8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064D-4F3C-4EAD-AA9D-965E16BD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3D0E-8489-4ABC-806D-D49C533B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297-07FD-45E0-8356-03E17C8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D84-6563-41F1-9D8A-4CA15D90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521-4A2C-4411-A909-779E757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F65-E2AF-419B-B3B5-11DA3EC0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9AB-28F7-4B07-9CEC-6F81543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66E-FAD6-4F9C-AB59-0CEA467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35F-A96F-4152-A8D8-95412CA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9B74-4E6F-47E3-9D1C-C6C5027BEA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873-7DF2-4064-AD1D-1C39AF2AF69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5"/>
          <p:cNvSpPr/>
          <p:nvPr/>
        </p:nvSpPr>
        <p:spPr>
          <a:xfrm>
            <a:off x="38088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Основ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гене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9640" y="260280"/>
            <a:ext cx="8305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ціональний фармацевтичний універс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b3572"/>
                </a:solidFill>
                <a:uFillTx/>
                <a:latin typeface="Times New Roman"/>
              </a:rPr>
              <a:t>Кафедра біології, фізіології та анатомії люд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Цитогенети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304920" y="914400"/>
          <a:ext cx="8610480" cy="38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8"/>
          <p:cNvSpPr/>
          <p:nvPr/>
        </p:nvSpPr>
        <p:spPr>
          <a:xfrm>
            <a:off x="5306400" y="47973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3572"/>
                </a:solidFill>
                <a:latin typeface="Times New Roman"/>
              </a:rPr>
              <a:t>Цитогенетична символі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152760" y="5105520"/>
            <a:ext cx="10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431840" y="5105520"/>
            <a:ext cx="170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6, ХХ, 2р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5013360"/>
            <a:ext cx="554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тність: аналіз каріотипу для діагностики хромосомних та геномних хвор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3572"/>
                </a:solidFill>
                <a:latin typeface="Times New Roman"/>
              </a:rPr>
              <a:t>Цитогенетична символіка (приклад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58520" y="1197000"/>
            <a:ext cx="580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Х – жінка з нормальним карі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6, ХУ – чоловік з нормальним карі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56360" y="2421000"/>
            <a:ext cx="810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У – чоловік із зайвою У-хромосомо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, ХХ+21 – жінка із зайвою хромосомою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6, ХХ, 5р- – жінка з делецією короткого плеча хромосоми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Популяційно-генети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Object 14"/>
          <p:cNvGraphicFramePr/>
          <p:nvPr/>
        </p:nvGraphicFramePr>
        <p:xfrm>
          <a:off x="1054080" y="1752480"/>
          <a:ext cx="267984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752480"/>
                    <a:ext cx="2679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5"/>
          <p:cNvSpPr/>
          <p:nvPr/>
        </p:nvSpPr>
        <p:spPr>
          <a:xfrm>
            <a:off x="610920" y="1143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яння Харді-Вайнбе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4876920" y="1066680"/>
            <a:ext cx="3429000" cy="3048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новлення част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типів, генотипі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ноз генетичних змі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пуля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колін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Дерматогліфі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Object 12"/>
          <p:cNvGraphicFramePr/>
          <p:nvPr/>
        </p:nvGraphicFramePr>
        <p:xfrm>
          <a:off x="304920" y="914400"/>
          <a:ext cx="861048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08000" y="5445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тні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іагностика спадкових ознак, в тому числі хвороб, та їхня профілактика, за малюнками пальців, долоней та сто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Дерматогліфі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901080" y="1241280"/>
            <a:ext cx="6474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актилоскопія – анал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із пальцевих малюнків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b35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3572"/>
                </a:solidFill>
                <a:latin typeface="Times New Roman"/>
              </a:rPr>
              <a:t>Пальмоскопія – аналіз малюнків долон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b35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94b6"/>
                </a:solidFill>
                <a:latin typeface="Times New Roman"/>
              </a:rPr>
              <a:t>Плантоскопія – аналіз малюнків стоп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Основні типи пальцевих візерун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6"/>
          <p:cNvGraphicFramePr/>
          <p:nvPr/>
        </p:nvGraphicFramePr>
        <p:xfrm>
          <a:off x="380880" y="1066680"/>
          <a:ext cx="2021040" cy="22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2021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7"/>
          <p:cNvSpPr/>
          <p:nvPr/>
        </p:nvSpPr>
        <p:spPr>
          <a:xfrm>
            <a:off x="2440080" y="99072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Object 8"/>
          <p:cNvGraphicFramePr/>
          <p:nvPr/>
        </p:nvGraphicFramePr>
        <p:xfrm>
          <a:off x="3149640" y="1978200"/>
          <a:ext cx="2122560" cy="228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9640" y="1978200"/>
                    <a:ext cx="212256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9"/>
          <p:cNvSpPr/>
          <p:nvPr/>
        </p:nvSpPr>
        <p:spPr>
          <a:xfrm>
            <a:off x="5285520" y="190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10"/>
          <p:cNvGraphicFramePr/>
          <p:nvPr/>
        </p:nvGraphicFramePr>
        <p:xfrm>
          <a:off x="5803920" y="3882960"/>
          <a:ext cx="2076480" cy="2289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3920" y="3882960"/>
                    <a:ext cx="207648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1"/>
          <p:cNvSpPr/>
          <p:nvPr/>
        </p:nvSpPr>
        <p:spPr>
          <a:xfrm>
            <a:off x="7857360" y="38098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и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Схема топографії доло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85680" y="838080"/>
          <a:ext cx="29908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838080"/>
                    <a:ext cx="299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Picture 13" descr="hfaaadf.jpg"/>
          <p:cNvPicPr/>
          <p:nvPr/>
        </p:nvPicPr>
        <p:blipFill>
          <a:blip r:embed="rId3"/>
          <a:stretch/>
        </p:blipFill>
        <p:spPr>
          <a:xfrm>
            <a:off x="7050240" y="4038480"/>
            <a:ext cx="2093760" cy="281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4" descr="C:\Documents and Settings\OLGA\Рабочий стол\Новая папка444\simiancreaselc6.jpg"/>
          <p:cNvPicPr/>
          <p:nvPr/>
        </p:nvPicPr>
        <p:blipFill>
          <a:blip r:embed="rId4"/>
          <a:stretch/>
        </p:blipFill>
        <p:spPr>
          <a:xfrm>
            <a:off x="3124080" y="1752480"/>
            <a:ext cx="3892680" cy="4094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5"/>
          <p:cNvSpPr/>
          <p:nvPr/>
        </p:nvSpPr>
        <p:spPr>
          <a:xfrm>
            <a:off x="2207880" y="586728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іміанська складка (при синдромі Даун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3048120" y="3506760"/>
            <a:ext cx="2743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Грегор Мендель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засновник генетики</a:t>
            </a:r>
            <a:r>
              <a:rPr b="1" lang="uk-UA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11"/>
          <p:cNvGraphicFramePr/>
          <p:nvPr/>
        </p:nvGraphicFramePr>
        <p:xfrm>
          <a:off x="3086280" y="214200"/>
          <a:ext cx="2323800" cy="30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214200"/>
                    <a:ext cx="2323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5638680" y="222120"/>
          <a:ext cx="3400560" cy="309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22120"/>
                    <a:ext cx="340056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3"/>
          <p:cNvSpPr/>
          <p:nvPr/>
        </p:nvSpPr>
        <p:spPr>
          <a:xfrm>
            <a:off x="5486400" y="34909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Джеймс Уотсон та Френсис Крик - розшифрували структуру 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15"/>
          <p:cNvGraphicFramePr/>
          <p:nvPr/>
        </p:nvGraphicFramePr>
        <p:xfrm>
          <a:off x="361800" y="290520"/>
          <a:ext cx="2610000" cy="304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290520"/>
                    <a:ext cx="261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6"/>
          <p:cNvSpPr/>
          <p:nvPr/>
        </p:nvSpPr>
        <p:spPr>
          <a:xfrm>
            <a:off x="380880" y="3490920"/>
            <a:ext cx="2743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Френсис Гальтон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</a:rPr>
              <a:t>засновник генеалогічного методу досліджень</a:t>
            </a:r>
            <a:r>
              <a:rPr b="1" lang="uk-UA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000080" y="47862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енетика – наука про спадковість та мінлив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500040" y="5286240"/>
            <a:ext cx="371484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падковість – властивість організмів передавати ознаки потомств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5000760" y="5286240"/>
            <a:ext cx="371448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інливість – властивість організмів набувати нові озна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Основні поняття гене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832320"/>
            <a:ext cx="87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ен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ділянка молекули ДНК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, яка  відповідає за синтез певного білка, який в організмі формує ознаку.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Алель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різновид певного ген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Локус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місце розташування певного гену в хромосомі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Домінантний ген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це ген, який повністю пригнічує прояв альтернативного, рецесивного гену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Рецесивний ген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це ген, прояв якого можливий лише, коли алельні гени однакові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333ff"/>
                </a:solidFill>
                <a:latin typeface="Times New Roman"/>
              </a:rPr>
              <a:t>Гомозигота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рганізм з однаковими алельними генами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333ff"/>
                </a:solidFill>
                <a:latin typeface="Times New Roman"/>
              </a:rPr>
              <a:t>Гетерозигота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рганізм з однаковими алельними генами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Генотип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сукупність усіх генів організм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Фенотип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сукупність всіх ознак організм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Геном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– сукупність всіх генів гаплоїдного набор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М</a:t>
            </a:r>
            <a:r>
              <a:rPr b="1" i="1" lang="en-US" sz="2300" spc="-1" strike="noStrike">
                <a:solidFill>
                  <a:srgbClr val="3333ff"/>
                </a:solidFill>
                <a:latin typeface="Times New Roman"/>
              </a:rPr>
              <a:t>оногібридне </a:t>
            </a: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схрещування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– це вид схрещування, при якому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аналізують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успадкування тільки однієї ознаки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Полі</a:t>
            </a:r>
            <a:r>
              <a:rPr b="1" i="1" lang="en-US" sz="2300" spc="-1" strike="noStrike">
                <a:solidFill>
                  <a:srgbClr val="3333ff"/>
                </a:solidFill>
                <a:latin typeface="Times New Roman"/>
              </a:rPr>
              <a:t>гібридне </a:t>
            </a:r>
            <a:r>
              <a:rPr b="1" i="1" lang="uk-UA" sz="2300" spc="-1" strike="noStrike">
                <a:solidFill>
                  <a:srgbClr val="3333ff"/>
                </a:solidFill>
                <a:latin typeface="Times New Roman"/>
              </a:rPr>
              <a:t>схрещування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– це вид схрещування, при якому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аналізують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успадкування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декількох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ознак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Основні методи генетики люд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914400" y="1066680"/>
            <a:ext cx="556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енеалогі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лизнюков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етод прийомних ді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Цитогенети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іохімі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пуляційно-генети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ерматогліфічний мет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Генеалогічн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304920" y="103500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</a:rPr>
              <a:t>Родовід</a:t>
            </a:r>
            <a:r>
              <a:rPr b="0" lang="ru-RU" sz="2600" spc="-1" strike="noStrike">
                <a:solidFill>
                  <a:srgbClr val="333399"/>
                </a:solidFill>
                <a:latin typeface="Times New Roman"/>
              </a:rPr>
              <a:t> - схема зображення внутрішньосімейних відноше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5"/>
          <p:cNvGraphicFramePr/>
          <p:nvPr/>
        </p:nvGraphicFramePr>
        <p:xfrm>
          <a:off x="1523880" y="1752480"/>
          <a:ext cx="648648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48648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Проблеми при складанні родовід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04920" y="1035000"/>
            <a:ext cx="8839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ди знають мало членів своїх род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юди необізнані щодо спадкових ознак в роди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юди навмисно приховують соціально не схвалювані ознаки в роди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динні зв'язки заплутані по причинам усиновлення, сучасних альтернативних репродуктивних технологій, супружної зр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9640" y="260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4c27d"/>
                </a:solidFill>
                <a:latin typeface="Times New Roman"/>
              </a:rPr>
              <a:t>Типовий родові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750000" y="432432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02928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8784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76712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22280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503520" y="4325760"/>
            <a:ext cx="3650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96388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2782800" y="45054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19200" y="4325760"/>
            <a:ext cx="3636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881360" y="4325760"/>
            <a:ext cx="3632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38964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12748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6568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2422440" y="360360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5578560" y="2882880"/>
            <a:ext cx="36036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4495680" y="288288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3414600" y="288288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4495680" y="1981080"/>
            <a:ext cx="3636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4492800" y="125892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4316400" y="145260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495680" y="18050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3417840" y="288936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>
            <a:off x="3414600" y="28908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4495680" y="3424320"/>
            <a:ext cx="18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2"/>
          <p:cNvSpPr/>
          <p:nvPr/>
        </p:nvSpPr>
        <p:spPr>
          <a:xfrm>
            <a:off x="4495680" y="28908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4316400" y="216684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495680" y="2529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242244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5397480" y="30733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>
            <a:off x="242244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1881360" y="432576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4044960" y="4505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3324240" y="450540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3503520" y="4325760"/>
            <a:ext cx="72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5578560" y="289080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4316400" y="307332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3233880" y="307188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 flipV="1">
            <a:off x="2422440" y="360360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38964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386856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5130720" y="3603600"/>
            <a:ext cx="18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9"/>
          <p:cNvSpPr/>
          <p:nvPr/>
        </p:nvSpPr>
        <p:spPr>
          <a:xfrm>
            <a:off x="2241720" y="37846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0"/>
          <p:cNvSpPr/>
          <p:nvPr/>
        </p:nvSpPr>
        <p:spPr>
          <a:xfrm>
            <a:off x="3684600" y="37846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51"/>
          <p:cNvSpPr/>
          <p:nvPr/>
        </p:nvSpPr>
        <p:spPr>
          <a:xfrm>
            <a:off x="4941720" y="3784680"/>
            <a:ext cx="3621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52"/>
          <p:cNvSpPr/>
          <p:nvPr/>
        </p:nvSpPr>
        <p:spPr>
          <a:xfrm>
            <a:off x="6208560" y="3784680"/>
            <a:ext cx="3621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386856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512748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6389640" y="4145040"/>
            <a:ext cx="18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1881360" y="4325760"/>
            <a:ext cx="14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2963880" y="4325760"/>
            <a:ext cx="14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242244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1700280" y="4505400"/>
            <a:ext cx="3618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0"/>
          <p:cNvSpPr/>
          <p:nvPr/>
        </p:nvSpPr>
        <p:spPr>
          <a:xfrm>
            <a:off x="2241720" y="450540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350352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226040" y="4325760"/>
            <a:ext cx="14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767120" y="43257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476712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48784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66"/>
          <p:cNvSpPr/>
          <p:nvPr/>
        </p:nvSpPr>
        <p:spPr>
          <a:xfrm>
            <a:off x="4586400" y="45054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7"/>
          <p:cNvSpPr/>
          <p:nvPr/>
        </p:nvSpPr>
        <p:spPr>
          <a:xfrm>
            <a:off x="5307120" y="4505400"/>
            <a:ext cx="3618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6031080" y="4325760"/>
            <a:ext cx="71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602928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6750000" y="4325760"/>
            <a:ext cx="18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5848200" y="4505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2"/>
          <p:cNvSpPr/>
          <p:nvPr/>
        </p:nvSpPr>
        <p:spPr>
          <a:xfrm>
            <a:off x="6570720" y="45054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7201080" y="1620720"/>
            <a:ext cx="3632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4"/>
          <p:cNvSpPr/>
          <p:nvPr/>
        </p:nvSpPr>
        <p:spPr>
          <a:xfrm>
            <a:off x="7201080" y="234144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5"/>
          <p:cNvSpPr/>
          <p:nvPr/>
        </p:nvSpPr>
        <p:spPr>
          <a:xfrm>
            <a:off x="7201080" y="324324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6"/>
          <p:cNvSpPr/>
          <p:nvPr/>
        </p:nvSpPr>
        <p:spPr>
          <a:xfrm>
            <a:off x="7201080" y="396396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7"/>
          <p:cNvSpPr/>
          <p:nvPr/>
        </p:nvSpPr>
        <p:spPr>
          <a:xfrm>
            <a:off x="7201080" y="4686480"/>
            <a:ext cx="363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539640" y="-27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Близнюкови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22240" y="1643040"/>
            <a:ext cx="8093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вання близнюкової вибір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іагностика зігот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озрахунок конкордант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зрахунок коефіцієнта успадковува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838080" y="571680"/>
            <a:ext cx="3505320" cy="1071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озиготні близню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4724280" y="571680"/>
            <a:ext cx="3505320" cy="1071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иготні близню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3"/>
          <p:cNvGraphicFramePr/>
          <p:nvPr/>
        </p:nvGraphicFramePr>
        <p:xfrm>
          <a:off x="596880" y="3286080"/>
          <a:ext cx="8318520" cy="128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3286080"/>
                    <a:ext cx="831852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2"/>
          <p:cNvSpPr/>
          <p:nvPr/>
        </p:nvSpPr>
        <p:spPr>
          <a:xfrm>
            <a:off x="357120" y="4429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Метод прийомних ді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85840" y="4881600"/>
            <a:ext cx="878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рівняння ознак у біологічних батьків та нащадк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рівняння ознак у прийомних нащадків та усиновлюв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Розрахунок коефіцієнта успадковуваності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f0f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08000" y="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Біохімічний (молекулярно-генетичний)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76320" y="430200"/>
            <a:ext cx="5649840" cy="2711520"/>
            <a:chOff x="76320" y="430200"/>
            <a:chExt cx="5649840" cy="2711520"/>
          </a:xfrm>
        </p:grpSpPr>
        <p:sp>
          <p:nvSpPr>
            <p:cNvPr id="227" name="Text Box 9"/>
            <p:cNvSpPr/>
            <p:nvPr/>
          </p:nvSpPr>
          <p:spPr>
            <a:xfrm>
              <a:off x="76320" y="430200"/>
              <a:ext cx="11617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Фосфатна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груп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066680" y="639360"/>
              <a:ext cx="217080" cy="20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3463200" y="1557360"/>
              <a:ext cx="9406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1674360" y="2040840"/>
              <a:ext cx="49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H="1" flipV="1">
              <a:off x="1384920" y="1743840"/>
              <a:ext cx="289440" cy="29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>
              <a:off x="1382760" y="1308960"/>
              <a:ext cx="636120" cy="44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2087640" y="1214640"/>
              <a:ext cx="159840" cy="2167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H="1">
              <a:off x="2152080" y="2040840"/>
              <a:ext cx="49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 flipV="1">
              <a:off x="2647800" y="1739880"/>
              <a:ext cx="28944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2304720" y="1297440"/>
              <a:ext cx="636120" cy="44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 flipV="1">
              <a:off x="1371600" y="1145880"/>
              <a:ext cx="29304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 flipV="1">
              <a:off x="1249200" y="814680"/>
              <a:ext cx="415080" cy="33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2931840" y="17438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1371600" y="2063880"/>
              <a:ext cx="153144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ятивуглецевий цук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4404240" y="1584000"/>
              <a:ext cx="1161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Осно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1017360" y="2737800"/>
              <a:ext cx="47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5"/>
            <p:cNvSpPr/>
            <p:nvPr/>
          </p:nvSpPr>
          <p:spPr>
            <a:xfrm flipV="1">
              <a:off x="1017360" y="258516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 flipV="1">
              <a:off x="5715000" y="2574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2739240" y="2779920"/>
              <a:ext cx="1161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уклеоти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6" name="Object 28"/>
          <p:cNvGraphicFramePr/>
          <p:nvPr/>
        </p:nvGraphicFramePr>
        <p:xfrm>
          <a:off x="2641680" y="2438280"/>
          <a:ext cx="6197400" cy="44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1680" y="2438280"/>
                    <a:ext cx="61974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9"/>
          <p:cNvGraphicFramePr/>
          <p:nvPr/>
        </p:nvGraphicFramePr>
        <p:xfrm>
          <a:off x="457200" y="2924280"/>
          <a:ext cx="1774800" cy="2562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924280"/>
                    <a:ext cx="1774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30"/>
          <p:cNvSpPr/>
          <p:nvPr/>
        </p:nvSpPr>
        <p:spPr>
          <a:xfrm>
            <a:off x="302760" y="5410080"/>
            <a:ext cx="236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4c27d"/>
                </a:solidFill>
                <a:latin typeface="Times New Roman"/>
              </a:rPr>
              <a:t>Дитина, хво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4c27d"/>
                </a:solidFill>
                <a:latin typeface="Times New Roman"/>
              </a:rPr>
              <a:t>на фенілкетонурі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476280"/>
            <a:ext cx="3851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тні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НК-ді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іагностика спадкових розладів метаболіз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6:28:55Z</dcterms:created>
  <dc:creator>DS</dc:creator>
  <dc:description/>
  <dc:language>en-US</dc:language>
  <cp:lastModifiedBy>НФаУ</cp:lastModifiedBy>
  <cp:lastPrinted>2007-09-23T10:43:29Z</cp:lastPrinted>
  <dcterms:modified xsi:type="dcterms:W3CDTF">2010-04-20T11:00:26Z</dcterms:modified>
  <cp:revision>358</cp:revision>
  <dc:subject/>
  <dc:title>Генетика антисоциальных форм поведения</dc:title>
</cp:coreProperties>
</file>