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5A4-0BCE-4DDF-8D50-1D662327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264-3D2D-447D-A41F-D3D92262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72A-6271-49BA-9D2C-D9BBC85A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225-23B3-47B4-BFC0-A8BFA133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336E-49D4-4F12-8924-F7FAD74B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F84C-2A0F-4E66-9A9F-8E17280E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5428-AF36-4088-92F7-939A3C4F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895-73F4-410F-B07A-F048D7BF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C2E9-035A-4280-BA1E-C9AC45A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20AB-F543-4EB9-BC31-570CC2D9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D22E-3384-4407-AAA0-A863C09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16E-6F59-465D-97A7-867E0A71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1E32-25EE-47C4-889D-BB5685D9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2DA0-8DA8-4510-B2D2-E0A71E63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9335-8EDD-46C1-B574-70EC59C4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44B2-B697-4EAA-86FA-0118E450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5AEE-11A2-4301-80EF-78855699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BD4-313C-47AC-AC96-B15CF0EB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8B9-CDCE-44F1-871A-0B87524E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00F-6281-4A86-BE33-8DE2F53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DE8-7FF1-4A2E-ADF6-2E787EC9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1B8-A486-41EF-89EA-4168FE38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990-921B-4919-A458-C84204E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2C3-4676-4C10-B7ED-30780AE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97D2-F099-43E0-B4A7-3F4E6D309A2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2D0-D2DC-47E5-9427-C2F597DD9C4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369800"/>
            <a:ext cx="7921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7d47d"/>
                </a:solidFill>
                <a:latin typeface="Monotype Corsiva"/>
              </a:rPr>
              <a:t>ВСТУП ДО БІОЛОГІЇ КЛІТИН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63160" y="333360"/>
            <a:ext cx="74041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6. Спадковість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Молекула ДНК як носій спадкової інформації здатна зберігати і передавати її наступним поколінням завдяки реплікації (самоподвоєнню), яка здійснюється за матричним принципом, забезпечуючи безперервність життєвих процесів у ряді поколін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7. Мінливість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При передачі спадкової інформації іноді під дією зовнішніх або внутрішніх чинників виникають різні відхилення, що приводять до зміни ознак і властивостей у нащадків. Якщо ці зміни сприяють підвищенню життєздатності, вони можуть закріпитися відбор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8. Ріст і розвиток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Клітини або організми успадковують певну генетичну інформацію про можливість розвитку тих або інших ознак. Реалізація інформації відбувається під час індивідуального розвитку – онтогенезу. В онтогенезі здійснюється ріст організму, пов'язаний з репродукцією молекул, клітин і інших біологічних структур. </a:t>
            </a: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Ріст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– це збільшення розмірів і (або) маси клітини або організму. Ріст обумовлює </a:t>
            </a: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розвиток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,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тобто поступове ускладнення організації організм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63520" y="333360"/>
            <a:ext cx="73864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9. Подразливість і збудливість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Подразливість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– здатність клітини або організму сприймати дію чинників зовнішнього і внутрішнього середовища (сигнали). 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Збудливість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– це здатність живих систем відповідати на зміни біологічних, фізичних і хімічних чинників навколишнього середовища зміною стану або діяльності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10. Рух.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Це</a:t>
            </a: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здатність клітин або організмів переміщатися в навколишньому просторі. Всі рухи в живих системах енергозалежні. Рух клітин і внутрішньоклітинних молекул забезпечує всі метаболічні і фізіологічні процес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ТЕОРІЇ ПОХОДЖЕННЯ ЖИТТ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764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1) біблейська теорія, або креаціоніз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2) теорія самозародження житт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3) теорія стаціонарного стан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4) космогенна теорія, або гіпотеза панспермії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5) теорія біопоез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РІВНІ ОРГАНІЗАЦІЇ ЖИВОЇ</a:t>
            </a:r>
            <a:br>
              <a:rPr sz="3600"/>
            </a:b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МАТЕРІЇ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1. Елементарний рівень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В різних кількостях і комбінаціях протони, нейтрони, електрони утворюють атоми різних елементі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2. Атомарний рівень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Атоми об'єднуються між собою в різній кількості та комбінаціях і утворюють молекул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7386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3. Молекулярно – генетичний рівень.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На цьому рівні вивчають фізико-хімічні процеси, що відбуваються в організмі. Спостерігається одноманітність дискретних одиниць, що входять до складу полімерів: чотири азотисті (нітратні) основи входять до складу нуклеїнових кислот; двадцять амінокислот утворюють молекули білка. Елементарна одиниця – ген – ділянка молекули ДНК, що містить генетичну інформацію про синтез білка або іншу функці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028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4. Клітинн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Елементарною структурно-функціональною одиницею всіх живих організмів є клітина. На клітинному рівні вивчають будову і функції клітин і клітинних компонентів. В клітині здійснюється реалізація спадкової інформації, обмін речовин і енергії, тобто пластичний і енергетичний рівень та і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5. Тканинн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Сукупність клітин з однаковим типом організації і функцій складає тканину. Сотні різних видів клітин входять до складу тіл різноманітних багатоклітинних організмів. Різноманітні клітини тварин утворюють 4 типа тканин: нервову, сполучну, епітеліальну та м'язов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6. Органний рівень.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Органи – це високодиференційовані частини тіла, розташовані в певних місцях і виконують спеціальні функції. Вони утворюються в процесі розвитку з клітин різних ткани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7. Системи органів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 -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це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групи різних органів, які колективно функціонують для виконання загальної для організму функції. У людини є такі системи органів: травна, дихальна, серцево-судинна, нервова, секреторна, видільна, репродуктивна, ендокринна, м'язова, скелетна і система покривних ткани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8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8. Організмов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На цьому рівні вивчають процеси, що відбуваються в організмі, починаючи з моменту його зародження і до припинення житт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9. Популяційно–видов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Популяція – сукупність особин одного виду, що населяють певну територію, здатних схрещуватися між собою і давати плідне потомство, частково або повністю ізольованих від інших популяцій того ж виду. До складу виду може входити декілька популяцій. Популяція є елементарною одиницею еволюції. В цій системі здійснюються елементарні еволюційні процеси, зміна частот генів, природний відбір, мутаційний процес та і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10. Біоценотичний і біосферн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Елементарна структура цього рівня – біогеоценоз. Біогеоценоз – це система стійких угруповань рослин, тварин і мікроорганізмів, що історично склалися і знаходяться в постійній взаємодії з компонентами атмосфери, гідросфери і літосфери і між собою (наприклад: ліс, ставок, поле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7d47d"/>
                </a:solidFill>
                <a:latin typeface="Arial"/>
              </a:rPr>
              <a:t>Мета вивчення</a:t>
            </a: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сформувати знання про предмет і завдання біології клітини та її значення для медицини та фармації; про основи структурно-функціональної організації живої матерії; ознайомитися з основними методами біології, зокрема з біології рослинної та тваринної клітини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ФОРМИ ЖИТТ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4000" y="1484280"/>
            <a:ext cx="7488000" cy="4320720"/>
            <a:chOff x="324000" y="1484280"/>
            <a:chExt cx="7488000" cy="4320720"/>
          </a:xfrm>
        </p:grpSpPr>
        <p:sp>
          <p:nvSpPr>
            <p:cNvPr id="243" name=""/>
            <p:cNvSpPr/>
            <p:nvPr/>
          </p:nvSpPr>
          <p:spPr>
            <a:xfrm>
              <a:off x="2507760" y="1484280"/>
              <a:ext cx="218412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f1311"/>
                  </a:solidFill>
                  <a:latin typeface="Times New Roman"/>
                </a:rPr>
                <a:t>Живі організм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000" y="2466360"/>
              <a:ext cx="218376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f1311"/>
                  </a:solidFill>
                  <a:latin typeface="Times New Roman"/>
                </a:rPr>
                <a:t>Неклітинні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91880" y="2466360"/>
              <a:ext cx="218376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f1311"/>
                  </a:solidFill>
                  <a:latin typeface="Times New Roman"/>
                </a:rPr>
                <a:t>Клітинні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9880" y="3841200"/>
              <a:ext cx="1872000" cy="19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пріон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вірус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віріон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віроїд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бактеріофаги.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0000" y="3841200"/>
              <a:ext cx="1872000" cy="19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f1311"/>
                  </a:solidFill>
                  <a:latin typeface="Times New Roman"/>
                </a:rPr>
                <a:t>прокаріот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бактерії.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0000" y="3841200"/>
              <a:ext cx="1872000" cy="19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f1311"/>
                  </a:solidFill>
                  <a:latin typeface="Times New Roman"/>
                </a:rPr>
                <a:t>еукаріот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слизовик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гриб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рослин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тварини.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415520" y="2073240"/>
              <a:ext cx="2184120" cy="39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00000" y="2073240"/>
              <a:ext cx="2340000" cy="39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15880" y="305532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536000" y="3055320"/>
              <a:ext cx="124776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760" y="3055320"/>
              <a:ext cx="124776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7d47d"/>
                </a:solidFill>
                <a:latin typeface="Arial"/>
              </a:rPr>
              <a:t>Предмет вивчення біології</a:t>
            </a: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всі прояви життя: будова і функції живих істот на різних рівнях організації та їх природних угрупувань, поширення, походження і розвиток, їхні взаємозв’язки між собою та з неживою природою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7d47d"/>
                </a:solidFill>
                <a:latin typeface="Arial"/>
              </a:rPr>
              <a:t>Завдання біології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дослідження та вивчення всіх біологічних закономірностей, розкритті сутності життя з метою пізнання, управління ними та використання для потреб людства, а також дбайливого, раціонального використання ресурсів оточуючого світу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Arial"/>
              </a:rPr>
              <a:t>Цитологія </a:t>
            </a: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(грец. kytos – ячейка, клітина і logos – наука) – наука про будову, життєдіяльність клітин будь-яких організмів (одно- або багатоклітинні, про- або еукаріотичні клітини)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200480" cy="4362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721400" y="2133720"/>
            <a:ext cx="44226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50920" y="606600"/>
            <a:ext cx="8569080" cy="5701680"/>
            <a:chOff x="250920" y="606600"/>
            <a:chExt cx="8569080" cy="5701680"/>
          </a:xfrm>
        </p:grpSpPr>
        <p:sp>
          <p:nvSpPr>
            <p:cNvPr id="203" name=""/>
            <p:cNvSpPr/>
            <p:nvPr/>
          </p:nvSpPr>
          <p:spPr>
            <a:xfrm>
              <a:off x="3216960" y="2854440"/>
              <a:ext cx="280152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БІОЛОГІ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606600"/>
              <a:ext cx="2801520" cy="11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Цитологія 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–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наука про будову та функціонування клітин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6560" y="606600"/>
              <a:ext cx="269136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Генетика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– наука про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2f1311"/>
                  </a:solidFill>
                  <a:latin typeface="Times New Roman"/>
                </a:rPr>
                <a:t>спадковість та мінливі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5400" y="1820520"/>
              <a:ext cx="2696760" cy="13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Молекулярна біолог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- вивчає закономірності життєдіяльності на молекулярному рівні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920" y="3423960"/>
              <a:ext cx="2735280" cy="11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Біохім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– вивчає хімічний склад організмів та процеси метаболізму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83360" y="606600"/>
              <a:ext cx="263664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Гістолог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вивчає будову та функціонування тканин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83360" y="1730520"/>
              <a:ext cx="2636640" cy="111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Анатом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вивчає внутрішню будову організмів або клітин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83360" y="4428000"/>
              <a:ext cx="2636640" cy="15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Мікробіолог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вивчає різноманіття, особливості будови та життєдіяльності мікроорганізмів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83360" y="3079440"/>
              <a:ext cx="2636640" cy="11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Фізіологія 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вивчає особливості життєдіяльності організму або клітин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81840" y="4652640"/>
              <a:ext cx="2636640" cy="11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Зоолог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вивчає будову та функції тварин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0920" y="4652640"/>
              <a:ext cx="2754720" cy="165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Ботаніка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– вивчає різноманіття рослинного світу, особливості будови та функцій рослин, їх лікарські властивості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535280" y="1730520"/>
              <a:ext cx="0" cy="11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5280" y="3528720"/>
              <a:ext cx="0" cy="11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7560" y="1505520"/>
              <a:ext cx="1153440" cy="13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194440" y="1505520"/>
              <a:ext cx="988560" cy="13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1960" y="2468520"/>
              <a:ext cx="389880" cy="61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978280" y="3303720"/>
              <a:ext cx="40356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005640" y="3528360"/>
              <a:ext cx="1035360" cy="14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194440" y="3528360"/>
              <a:ext cx="988560" cy="89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853240" y="2180160"/>
              <a:ext cx="329400" cy="89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5853240" y="3303360"/>
              <a:ext cx="3294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ОСНОВНІ МЕТОДИ ДОСЛІДЖЕННЯ КЛІТ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ікроскоп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цитоспектрофотометр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Радіоавтограф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цейтраферна мікрокінозйом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ікрург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культивування клітин і ткан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гісто- й імунохімічні метод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біохімічні метод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кристалографія й рентгенівська дифракц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атистичний мето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етоди генети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олекулярної біології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7d47d"/>
                </a:solidFill>
                <a:latin typeface="Arial"/>
              </a:rPr>
              <a:t>Властивості живого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160" y="1196640"/>
            <a:ext cx="7621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1. Особливості хімічного складу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Живі істоти складаються з тих же хімічних елементів, що і неживі, але в їх клітинах переважають молекули речовин, характерних тільки для живого (нуклеїнові кислоти, білки, ліпіди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2. Дискретність і цілісність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Будь–яка біологічна система (клітина, організм, вид і т. п.) складається з окремих частин, тобто дискретна. Взаємодія цих частин утворює цілісну систему (наприклад: клітина містить органели, до складу організму входять окремі органи, зв'язані структурно і функціонально в єдине ціле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7488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3. Структурна організація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Живі системи здатні до самовпорядкування з хаотичного руху молекул, утворюючи певні структури. Для живого характерна впорядкованість у просторі та часі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4. Обмін речовин і енергії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Живі клітини та організми – відкриті системи, що здійснюють постійний обмін речовинами і енергією в середині себе та з навколишнім середовище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5. Здатність до самовідтворення і самооновлення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Час існування будь-якої біологічної системи обмежений. Для підтримки життя у часі відбувається самовідтворення, що пов'язано з синтезом нових молекул і структу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38:51Z</dcterms:created>
  <dc:creator>comp</dc:creator>
  <dc:description/>
  <dc:language>en-US</dc:language>
  <cp:lastModifiedBy>comp</cp:lastModifiedBy>
  <dcterms:modified xsi:type="dcterms:W3CDTF">2010-04-07T10:30:05Z</dcterms:modified>
  <cp:revision>3</cp:revision>
  <dc:subject/>
  <dc:title>ВСТУП ДО БІОЛОГІЇ КЛІТИНИ. ЗНАЧЕННЯ БІОЛОГІЇ ДЛЯ МЕДИЦИНИ ТА ФАРМАЦІЇ. ОСНОВНІ МЕТОДИ БІОЛОГІЧНИХ ДОСЛІДЖЕНЬ</dc:title>
</cp:coreProperties>
</file>