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062-2E4A-43AD-85B0-5E24826B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943-C720-4228-976E-C78CD329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6B2F-0DAF-4FF8-9875-6AF9532E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60D-BBF9-4EA8-A75E-0F0FBCBC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6D9B-FBA6-432D-9A53-AC9938B9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4167-A7B8-4EA0-B30D-AD23CF05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EC23-A8AA-4085-8564-6A2C4824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66BE-F8AC-4EF8-8B93-5F9FE87B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BE45-DA79-459E-B725-3C0E7E7A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1480-8569-4F8E-9A72-A6B33E3F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ECB0-E0FD-41B1-ACEF-EE1970BB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E3FF-3CC9-4DFE-94E1-0E507CE0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4F7A-CD0B-471C-BFF6-8B4179B5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6A84-9C6B-4634-AE0E-8908033D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9CBE-3D97-4802-93EB-81AD55E8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38FC-B5A3-4647-898A-3F382701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D8CC-3BB5-4BA7-BA39-3D1726ED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1BB-6FD8-4939-8089-889350C8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433-2A98-4AC9-9E28-9C389290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F36-E0F2-4EA1-9F1A-07C0F891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0E1-1905-412A-9CF3-13EFA455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786-38C8-4BA2-A6C4-C911B898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91C-D4DC-4FBD-AB7F-81B3677D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291-499D-40F5-86D3-8E26514C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61DE-A6CB-4CF0-8272-93B98E2F14B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53CE-D1D0-495F-A09A-7EBC586A595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1369800"/>
            <a:ext cx="7921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7d47d"/>
                </a:solidFill>
                <a:latin typeface="Monotype Corsiva"/>
              </a:rPr>
              <a:t>ВСТУП ДО БІОЛОГІЇ КЛІТИНИ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63160" y="333360"/>
            <a:ext cx="74041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6. Спадковість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Молекула ДНК як носій спадкової інформації здатна зберігати і передавати її наступним поколінням завдяки реплікації (самоподвоєнню), яка здійснюється за матричним принципом, забезпечуючи безперервність життєвих процесів у ряді поколін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7. Мінливість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При передачі спадкової інформації іноді під дією зовнішніх або внутрішніх чинників виникають різні відхилення, що приводять до зміни ознак і властивостей у нащадків. Якщо ці зміни сприяють підвищенню життєздатності, вони можуть закріпитися відбор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8. Ріст і розвиток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Клітини або організми успадковують певну генетичну інформацію про можливість розвитку тих або інших ознак. Реалізація інформації відбувається під час індивідуального розвитку – онтогенезу. В онтогенезі здійснюється ріст організму, пов'язаний з репродукцією молекул, клітин і інших біологічних структур. </a:t>
            </a: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Ріст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– це збільшення розмірів і (або) маси клітини або організму. Ріст обумовлює </a:t>
            </a: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розвиток</a:t>
            </a:r>
            <a:r>
              <a:rPr b="0" i="1" lang="uk-UA" sz="2800" spc="-1" strike="noStrike">
                <a:solidFill>
                  <a:srgbClr val="2f1311"/>
                </a:solidFill>
                <a:latin typeface="Times New Roman"/>
              </a:rPr>
              <a:t>,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тобто поступове ускладнення організації організм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63520" y="333360"/>
            <a:ext cx="73864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9. Подразливість і збудливість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i="1" lang="uk-UA" sz="2800" spc="-1" strike="noStrike">
                <a:solidFill>
                  <a:srgbClr val="2f1311"/>
                </a:solidFill>
                <a:latin typeface="Times New Roman"/>
              </a:rPr>
              <a:t>Подразливість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– здатність клітини або організму сприймати дію чинників зовнішнього і внутрішнього середовища (сигнали). </a:t>
            </a:r>
            <a:r>
              <a:rPr b="0" i="1" lang="uk-UA" sz="2800" spc="-1" strike="noStrike">
                <a:solidFill>
                  <a:srgbClr val="2f1311"/>
                </a:solidFill>
                <a:latin typeface="Times New Roman"/>
              </a:rPr>
              <a:t>Збудливість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– це здатність живих систем відповідати на зміни біологічних, фізичних і хімічних чинників навколишнього середовища зміною стану або діяльності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10. Рух.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Це</a:t>
            </a: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здатність клітин або організмів переміщатися в навколишньому просторі. Всі рухи в живих системах енергозалежні. Рух клітин і внутрішньоклітинних молекул забезпечує всі метаболічні і фізіологічні процес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d47d"/>
                </a:solidFill>
                <a:latin typeface="Arial"/>
              </a:rPr>
              <a:t>ТЕОРІЇ ПОХОДЖЕННЯ ЖИТТ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764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1) біблейська теорія, або креаціоніз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2) теорія самозародження житт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3) теорія стаціонарного стан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4) космогенна теорія, або гіпотеза панспермії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5) теорія біопоез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d47d"/>
                </a:solidFill>
                <a:latin typeface="Arial"/>
              </a:rPr>
              <a:t>РІВНІ ОРГАНІЗАЦІЇ ЖИВОЇ</a:t>
            </a:r>
            <a:br>
              <a:rPr sz="3600"/>
            </a:br>
            <a:r>
              <a:rPr b="1" lang="uk-UA" sz="3600" spc="-1" strike="noStrike">
                <a:solidFill>
                  <a:srgbClr val="f7d47d"/>
                </a:solidFill>
                <a:latin typeface="Arial"/>
              </a:rPr>
              <a:t>МАТЕРІЇ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1. Елементарний рівень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В різних кількостях і комбінаціях протони, нейтрони, електрони утворюють атоми різних елементі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2. Атомарний рівень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Атоми об'єднуються між собою в різній кількості та комбінаціях і утворюють молекул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73864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3. Молекулярно – генетичний рівень.</a:t>
            </a:r>
            <a:r>
              <a:rPr b="0" i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На цьому рівні вивчають фізико-хімічні процеси, що відбуваються в організмі. Спостерігається одноманітність дискретних одиниць, що входять до складу полімерів: чотири азотисті (нітратні) основи входять до складу нуклеїнових кислот; двадцять амінокислот утворюють молекули білка. Елементарна одиниця – ген – ділянка молекули ДНК, що містить генетичну інформацію про синтез білка або іншу функці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0280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4. Клітинний рівень.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Елементарною структурно-функціональною одиницею всіх живих організмів є клітина. На клітинному рівні вивчають будову і функції клітин і клітинних компонентів. В клітині здійснюється реалізація спадкової інформації, обмін речовин і енергії, тобто пластичний і енергетичний рівень та і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5. Тканинний рівень.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Сукупність клітин з однаковим типом організації і функцій складає тканину. Сотні різних видів клітин входять до складу тіл різноманітних багатоклітинних організмів. Різноманітні клітини тварин утворюють 4 типа тканин: нервову, сполучну, епітеліальну та м'язову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63520" y="476280"/>
            <a:ext cx="73864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6. Органний рівень.</a:t>
            </a:r>
            <a:r>
              <a:rPr b="0" i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Органи – це високодиференційовані частини тіла, розташовані в певних місцях і виконують спеціальні функції. Вони утворюються в процесі розвитку з клітин різних ткани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7. Системи органів</a:t>
            </a:r>
            <a:r>
              <a:rPr b="0" i="1" lang="uk-UA" sz="2800" spc="-1" strike="noStrike">
                <a:solidFill>
                  <a:srgbClr val="2f1311"/>
                </a:solidFill>
                <a:latin typeface="Times New Roman"/>
              </a:rPr>
              <a:t> -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це</a:t>
            </a:r>
            <a:r>
              <a:rPr b="0" i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групи різних органів, які колективно функціонують для виконання загальної для організму функції. У людини є такі системи органів: травна, дихальна, серцево-судинна, нервова, секреторна, видільна, репродуктивна, ендокринна, м'язова, скелетна і система покривних тканин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885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8. Організмовий рівень.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На цьому рівні вивчають процеси, що відбуваються в організмі, починаючи з моменту його зародження і до припинення житт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9. Популяційно–видовий рівень.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Популяція – сукупність особин одного виду, що населяють певну територію, здатних схрещуватися між собою і давати плідне потомство, частково або повністю ізольованих від інших популяцій того ж виду. До складу виду може входити декілька популяцій. Популяція є елементарною одиницею еволюції. В цій системі здійснюються елементарні еволюційні процеси, зміна частот генів, природний відбір, мутаційний процес та ін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10. Біоценотичний і біосферний рівень.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 Елементарна структура цього рівня – біогеоценоз. Біогеоценоз – це система стійких угруповань рослин, тварин і мікроорганізмів, що історично склалися і знаходяться в постійній взаємодії з компонентами атмосфери, гідросфери і літосфери і між собою (наприклад: ліс, ставок, поле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7d47d"/>
                </a:solidFill>
                <a:latin typeface="Arial"/>
              </a:rPr>
              <a:t>Мета вивчення</a:t>
            </a:r>
            <a:r>
              <a:rPr b="1" lang="uk-UA" sz="4000" spc="-1" strike="noStrike">
                <a:solidFill>
                  <a:srgbClr val="f7d47d"/>
                </a:solidFill>
                <a:latin typeface="Arial"/>
              </a:rPr>
              <a:t>:</a:t>
            </a: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сформувати знання про предмет і завдання біології клітини та її значення для медицини та фармації; про основи структурно-функціональної організації живої матерії; ознайомитися з основними методами біології, зокрема з біології рослинної та тваринної клітини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7d47d"/>
                </a:solidFill>
                <a:latin typeface="Arial"/>
              </a:rPr>
              <a:t>ФОРМИ ЖИТТ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4000" y="1484280"/>
            <a:ext cx="7488000" cy="4320720"/>
            <a:chOff x="324000" y="1484280"/>
            <a:chExt cx="7488000" cy="4320720"/>
          </a:xfrm>
        </p:grpSpPr>
        <p:sp>
          <p:nvSpPr>
            <p:cNvPr id="243" name=""/>
            <p:cNvSpPr/>
            <p:nvPr/>
          </p:nvSpPr>
          <p:spPr>
            <a:xfrm>
              <a:off x="2507760" y="1484280"/>
              <a:ext cx="2184120" cy="58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f1311"/>
                  </a:solidFill>
                  <a:latin typeface="Times New Roman"/>
                </a:rPr>
                <a:t>Живі організм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000" y="2466360"/>
              <a:ext cx="2183760" cy="58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f1311"/>
                  </a:solidFill>
                  <a:latin typeface="Times New Roman"/>
                </a:rPr>
                <a:t>Неклітинні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91880" y="2466360"/>
              <a:ext cx="2183760" cy="58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f1311"/>
                  </a:solidFill>
                  <a:latin typeface="Times New Roman"/>
                </a:rPr>
                <a:t>Клітинні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9880" y="3841200"/>
              <a:ext cx="1872000" cy="196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пріони;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віруси;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віріони;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віроїди;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бактеріофаги.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00000" y="3841200"/>
              <a:ext cx="1872000" cy="196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2f1311"/>
                  </a:solidFill>
                  <a:latin typeface="Times New Roman"/>
                </a:rPr>
                <a:t>прокаріот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бактерії.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40000" y="3841200"/>
              <a:ext cx="1872000" cy="196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2f1311"/>
                  </a:solidFill>
                  <a:latin typeface="Times New Roman"/>
                </a:rPr>
                <a:t>еукаріот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слизовики;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гриби;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рослини;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‑ 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тварини.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415520" y="2073240"/>
              <a:ext cx="2184120" cy="39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00000" y="2073240"/>
              <a:ext cx="2340000" cy="39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15880" y="3055320"/>
              <a:ext cx="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536000" y="3055320"/>
              <a:ext cx="124776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83760" y="3055320"/>
              <a:ext cx="124776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7d47d"/>
                </a:solidFill>
                <a:latin typeface="Arial"/>
              </a:rPr>
              <a:t>Предмет вивчення біології</a:t>
            </a: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:</a:t>
            </a: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всі прояви життя: будова і функції живих істот на різних рівнях організації та їх природних угрупувань, поширення, походження і розвиток, їхні взаємозв’язки між собою та з неживою природою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7d47d"/>
                </a:solidFill>
                <a:latin typeface="Arial"/>
              </a:rPr>
              <a:t>Завдання біології</a:t>
            </a: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дослідження та вивчення всіх біологічних закономірностей, розкритті сутності життя з метою пізнання, управління ними та використання для потреб людства, а також дбайливого, раціонального використання ресурсів оточуючого світу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Arial"/>
              </a:rPr>
              <a:t>Цитологія </a:t>
            </a:r>
            <a:r>
              <a:rPr b="1" lang="uk-UA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(грец. kytos – ячейка, клітина і logos – наука) – наука про будову, життєдіяльність клітин будь-яких організмів (одно- або багатоклітинні, про- або еукаріотичні клітини)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4200480" cy="4362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721400" y="2133720"/>
            <a:ext cx="44226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250920" y="606600"/>
            <a:ext cx="8569080" cy="5701680"/>
            <a:chOff x="250920" y="606600"/>
            <a:chExt cx="8569080" cy="5701680"/>
          </a:xfrm>
        </p:grpSpPr>
        <p:sp>
          <p:nvSpPr>
            <p:cNvPr id="203" name=""/>
            <p:cNvSpPr/>
            <p:nvPr/>
          </p:nvSpPr>
          <p:spPr>
            <a:xfrm>
              <a:off x="3216960" y="2854440"/>
              <a:ext cx="2801520" cy="67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Times New Roman"/>
                </a:rPr>
                <a:t>БІОЛОГІ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16960" y="606600"/>
              <a:ext cx="2801520" cy="11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Цитологія 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–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наука про будову та функціонування клітин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6560" y="606600"/>
              <a:ext cx="2691360" cy="89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Генетика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 – наука про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2f1311"/>
                  </a:solidFill>
                  <a:latin typeface="Times New Roman"/>
                </a:rPr>
                <a:t>спадковість та мінливі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5400" y="1820520"/>
              <a:ext cx="2696760" cy="137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Молекулярна біологія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 - вивчає закономірності життєдіяльності на молекулярному рівні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0920" y="3423960"/>
              <a:ext cx="2735280" cy="11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Біохімія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 – вивчає хімічний склад організмів та процеси метаболізму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83360" y="606600"/>
              <a:ext cx="2636640" cy="89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Гістологія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 вивчає будову та функціонування тканин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83360" y="1730520"/>
              <a:ext cx="2636640" cy="111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Анатомія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 вивчає внутрішню будову організмів або клітин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83360" y="4428000"/>
              <a:ext cx="2636640" cy="15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Мікробіологія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 вивчає різноманіття, особливості будови та життєдіяльності мікроорганізмів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83360" y="3079440"/>
              <a:ext cx="2636640" cy="11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Фізіологія 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вивчає особливості життєдіяльності організму або клітин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81840" y="4652640"/>
              <a:ext cx="2636640" cy="11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Зоологія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 вивчає будову та функції тварин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0920" y="4652640"/>
              <a:ext cx="2754720" cy="165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f1311"/>
                  </a:solidFill>
                  <a:latin typeface="Times New Roman"/>
                </a:rPr>
                <a:t>Ботаніка</a:t>
              </a:r>
              <a:r>
                <a:rPr b="0" lang="ru-RU" sz="1800" spc="-1" strike="noStrike">
                  <a:solidFill>
                    <a:srgbClr val="2f1311"/>
                  </a:solidFill>
                  <a:latin typeface="Times New Roman"/>
                </a:rPr>
                <a:t> – вивчає різноманіття рослинного світу, особливості будови та функцій рослин, їх лікарські властивості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535280" y="1730520"/>
              <a:ext cx="0" cy="11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5280" y="3528720"/>
              <a:ext cx="0" cy="11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87560" y="1505520"/>
              <a:ext cx="1153440" cy="134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194440" y="1505520"/>
              <a:ext cx="988560" cy="134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91960" y="2468520"/>
              <a:ext cx="389880" cy="61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978280" y="3303720"/>
              <a:ext cx="403560" cy="83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005640" y="3528360"/>
              <a:ext cx="1035360" cy="14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5194440" y="3528360"/>
              <a:ext cx="988560" cy="89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853240" y="2180160"/>
              <a:ext cx="329400" cy="89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5853240" y="3303360"/>
              <a:ext cx="3294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d47d"/>
                </a:solidFill>
                <a:latin typeface="Arial"/>
              </a:rPr>
              <a:t>ОСНОВНІ МЕТОДИ ДОСЛІДЖЕННЯ КЛІТИН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Мікроскопі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цитоспектрофотометрі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Радіоавтографі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цейтраферна мікрокінозйом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Мікрургі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культивування клітин і ткан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гісто- й імунохімічні метод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біохімічні метод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кристалографія й рентгенівська дифракці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статистичний метод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методи генетик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молекулярної біології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7d47d"/>
                </a:solidFill>
                <a:latin typeface="Arial"/>
              </a:rPr>
              <a:t>Властивості живого</a:t>
            </a: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160" y="1196640"/>
            <a:ext cx="76215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1. Особливості хімічного складу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Живі істоти складаються з тих же хімічних елементів, що і неживі, але в їх клітинах переважають молекули речовин, характерних тільки для живого (нуклеїнові кислоти, білки, ліпіди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2. Дискретність і цілісність</a:t>
            </a:r>
            <a:r>
              <a:rPr b="0" i="1" lang="uk-UA" sz="28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Будь–яка біологічна система (клітина, організм, вид і т. п.) складається з окремих частин, тобто дискретна. Взаємодія цих частин утворює цілісну систему (наприклад: клітина містить органели, до складу організму входять окремі органи, зв'язані структурно і функціонально в єдине ціле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7488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3. Структурна організація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Живі системи здатні до самовпорядкування з хаотичного руху молекул, утворюючи певні структури. Для живого характерна впорядкованість у просторі та часі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4. Обмін речовин і енергії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Живі клітини та організми – відкриті системи, що здійснюють постійний обмін речовинами і енергією в середині себе та з навколишнім середовищем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f1311"/>
                </a:solidFill>
                <a:latin typeface="Times New Roman"/>
              </a:rPr>
              <a:t>5. Здатність до самовідтворення і самооновлення.</a:t>
            </a:r>
            <a:r>
              <a:rPr b="1" lang="uk-UA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Times New Roman"/>
              </a:rPr>
              <a:t>Час існування будь-якої біологічної системи обмежений. Для підтримки життя у часі відбувається самовідтворення, що пов'язано з синтезом нових молекул і структу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6:38:51Z</dcterms:created>
  <dc:creator>comp</dc:creator>
  <dc:description/>
  <dc:language>en-US</dc:language>
  <cp:lastModifiedBy>comp</cp:lastModifiedBy>
  <dcterms:modified xsi:type="dcterms:W3CDTF">2010-04-07T10:30:05Z</dcterms:modified>
  <cp:revision>3</cp:revision>
  <dc:subject/>
  <dc:title>ВСТУП ДО БІОЛОГІЇ КЛІТИНИ. ЗНАЧЕННЯ БІОЛОГІЇ ДЛЯ МЕДИЦИНИ ТА ФАРМАЦІЇ. ОСНОВНІ МЕТОДИ БІОЛОГІЧНИХ ДОСЛІДЖЕНЬ</dc:title>
</cp:coreProperties>
</file>