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3A39-65E1-423C-9F22-1F20958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CB16-B2E7-4FC6-BE96-1CC637E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24DA-CD10-4A4B-BE01-A704398D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54B6-177A-4672-90D6-EE80AE07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A69-0530-4D27-AEE1-DFA8C67E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B77D-DB83-440E-9CBD-A901B217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7C42-BC81-4203-A330-AAD9CEBB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C45-AF09-422E-99DE-FCF0533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C392-1DB1-4DAC-9AFA-D03547D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B9BF-E9DF-40CA-BDED-F2BEA80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9EC-F259-45CB-8916-4588FA6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CF01-C3ED-4BFD-97D0-6D802C5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52C7-C48C-4616-9A82-5E44BF3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89CB-0B39-457D-8DCC-486E20E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A19D-9AE8-4C8B-9301-8EF60912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BFB6-0ED5-4C17-BCEC-29C8B6D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8CB4-4038-478C-910D-3B32BE4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F680-E7F8-4C70-AC31-EA9920D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CA52-6465-4E77-A67D-511979D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8822-8710-4ED3-BE77-8E29DCC9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5932-6131-40BA-AC8F-B9E5A64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AF02-D748-4A9B-A030-4BEAA43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2D13-711E-4193-B84C-C53D617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949D-84A3-4C3C-B442-30CA095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B68E-5900-4966-BA2A-619F9447B1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E0A4-9044-4C29-BA0F-0A4B38070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300" spc="-1" strike="noStrike">
                <a:solidFill>
                  <a:srgbClr val="eeee12"/>
                </a:solidFill>
                <a:latin typeface="Arial"/>
              </a:rPr>
              <a:t>КРОВ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00000" y="4508280"/>
            <a:ext cx="75614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Рідка сполучна тканина, складова частина внутрішнього середовищ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Еритроцити – </a:t>
            </a:r>
            <a:r>
              <a:rPr b="1" lang="uk-UA" sz="3600" spc="-1" strike="noStrike">
                <a:solidFill>
                  <a:srgbClr val="990000"/>
                </a:solidFill>
                <a:latin typeface="Arial"/>
              </a:rPr>
              <a:t>двоввігнуті безядерні клітини</a:t>
            </a: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88000" y="1366920"/>
            <a:ext cx="2376720" cy="2020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533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60093"/>
                </a:solidFill>
                <a:latin typeface="Arial"/>
              </a:rPr>
              <a:t>Утворюютьс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червоному кістковому мо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Руйнуютьс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печін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3,5 міся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ff"/>
                </a:solidFill>
                <a:latin typeface="Arial"/>
              </a:rPr>
              <a:t>Функції</a:t>
            </a:r>
            <a:r>
              <a:rPr b="1" lang="uk-UA" sz="2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их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иві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хи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ермент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56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гуляція рН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35600" y="3870360"/>
            <a:ext cx="30243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Arial"/>
              </a:rPr>
              <a:t>Кількість</a:t>
            </a:r>
            <a:r>
              <a:rPr b="0" lang="uk-UA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лові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4,0-5,1 х 10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Жін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3,7-4,7 х 10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Гемоглобін (Н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1" lang="uk-UA" sz="4000" spc="-1" strike="noStrike">
                <a:solidFill>
                  <a:srgbClr val="990000"/>
                </a:solidFill>
                <a:latin typeface="Arial"/>
              </a:rPr>
              <a:t>– </a:t>
            </a:r>
            <a:r>
              <a:rPr b="1" lang="uk-UA" sz="3600" spc="-1" strike="noStrike">
                <a:solidFill>
                  <a:srgbClr val="990000"/>
                </a:solidFill>
                <a:latin typeface="Arial"/>
              </a:rPr>
              <a:t>хромопротеїд, міститься в еритроцитах, обумовлює червоний кол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5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95280" y="3141720"/>
            <a:ext cx="30956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ількість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лові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40-160 г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жі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20-140 г/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Гемоліз еритр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35290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Осмоти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Arial"/>
              </a:rPr>
              <a:t>Хі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cc"/>
                </a:solidFill>
                <a:latin typeface="Arial"/>
              </a:rPr>
              <a:t>Тер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33ff"/>
                </a:solidFill>
                <a:latin typeface="Arial"/>
              </a:rPr>
              <a:t>Біолог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92360" y="1980720"/>
            <a:ext cx="54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99"/>
                </a:solidFill>
                <a:latin typeface="Arial"/>
              </a:rPr>
              <a:t>Механ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80"/>
                </a:solidFill>
                <a:latin typeface="Arial"/>
              </a:rPr>
              <a:t>Внутрішньосуди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Внутрішньокліти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Види лейк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Arial"/>
              </a:rPr>
              <a:t>Гранул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йтр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озин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зофі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Агранул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н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мфо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506920" y="5086440"/>
            <a:ext cx="1200240" cy="1222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5435640" y="3068640"/>
            <a:ext cx="1185840" cy="1112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>
            <a:lum bright="18000"/>
          </a:blip>
          <a:srcRect l="0" t="71851" r="0" b="3341"/>
          <a:stretch/>
        </p:blipFill>
        <p:spPr>
          <a:xfrm>
            <a:off x="1258920" y="5670720"/>
            <a:ext cx="965160" cy="903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rcRect l="0" t="71702" r="0" b="3414"/>
          <a:stretch/>
        </p:blipFill>
        <p:spPr>
          <a:xfrm>
            <a:off x="1116000" y="4102200"/>
            <a:ext cx="1244520" cy="898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>
            <a:lum bright="6000"/>
          </a:blip>
          <a:srcRect l="0" t="72290" r="0" b="4928"/>
          <a:stretch/>
        </p:blipFill>
        <p:spPr>
          <a:xfrm>
            <a:off x="1123920" y="2513160"/>
            <a:ext cx="1092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7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Нейтр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50-75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атні швидко мігрувати в осередок за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По формі ядр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юні, паличкоядерні, сегментояде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8 годин – 2 д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гоци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креція лізосомних біл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креція інтерфе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36872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Еозин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0,5-5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атні швидко мігрувати в осередок за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8-12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гоцитоз (незнач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ешкодження і руйнування токсинів білкового походження, чужорідних білків і комплексів антиген-антит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уйнують гістам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ьмують виділення гістаміну базофі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асть у фібринолізі (вироблення плазміноге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499520" y="587520"/>
            <a:ext cx="1149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Базофіл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0,5-1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ують у тканини, де дозрівають у тучні клі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8-12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нтез гістаміну (посилює кровоток в ураженній ділянц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нтез гепарину (для відновлення ушкодженних суд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0644" t="11280" r="10644" b="0"/>
          <a:stretch/>
        </p:blipFill>
        <p:spPr>
          <a:xfrm>
            <a:off x="7446960" y="549360"/>
            <a:ext cx="11494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Моноцити </a:t>
            </a: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(3-11%)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творюються в нерухомі клітини – тканинні макроф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99"/>
                </a:solidFill>
                <a:latin typeface="Arial"/>
              </a:rPr>
              <a:t>Тривалість житт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50-60 д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гоцитоз чужорідних частинок, макромолекул, колагену, клітин у кислому 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типухлинна д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вірусна активність (секреція інтерферо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силення процесів регене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13683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Види лімфоци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Т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19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cc"/>
                </a:solidFill>
                <a:latin typeface="Arial"/>
              </a:rPr>
              <a:t>В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4149720"/>
            <a:ext cx="4284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Нульові-лі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852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у тиму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852640"/>
            <a:ext cx="345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в плаценті, печінці плоду, селезінці, лімфоїдній ткани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4896000"/>
            <a:ext cx="41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творюються при необхідності у Т- чи В-лімфоц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3320" y="4005360"/>
            <a:ext cx="2236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4026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Лейкоцитарна формула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це співвідношення різних видів лейкоцитів, виражене у відсотках від загальної кільк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4000" y="2924280"/>
          <a:ext cx="8569080" cy="2665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1080"/>
                <a:gridCol w="1714680"/>
                <a:gridCol w="1714320"/>
              </a:tblGrid>
              <a:tr h="133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озін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ф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ц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імфоц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4764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С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к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л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а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д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к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р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о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в</a:t>
            </a:r>
            <a:br>
              <a:rPr sz="3200"/>
            </a:b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85560" y="549360"/>
            <a:ext cx="5049720" cy="5897880"/>
            <a:chOff x="3085560" y="549360"/>
            <a:chExt cx="5049720" cy="5897880"/>
          </a:xfrm>
        </p:grpSpPr>
        <p:sp>
          <p:nvSpPr>
            <p:cNvPr id="111" name=""/>
            <p:cNvSpPr/>
            <p:nvPr/>
          </p:nvSpPr>
          <p:spPr>
            <a:xfrm>
              <a:off x="5433840" y="472140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7960" y="549360"/>
              <a:ext cx="147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Еритр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4,5–5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61920" y="3138480"/>
              <a:ext cx="3008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19360" y="4560480"/>
              <a:ext cx="15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Плазма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   (55-6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5348520"/>
              <a:ext cx="9338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65" y="3"/>
                  </a:moveTo>
                  <a:arcTo wR="10800" hR="10800" stAng="-5474722" swAng="19507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65" y="3"/>
                  </a:moveTo>
                  <a:arcTo wR="10800" hR="10800" stAng="-5474722" swAng="19507561"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5560" y="5194440"/>
              <a:ext cx="934920" cy="107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34" y="2076"/>
                  </a:moveTo>
                  <a:arcTo wR="10800" hR="10800" stAng="-7567160" swAng="2092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434" y="2076"/>
                  </a:moveTo>
                  <a:arcTo wR="10800" hR="10800" stAng="-7567160" swAng="2092439"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70360" y="6172560"/>
              <a:ext cx="153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Вода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(90-91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576800">
              <a:off x="4533120" y="3690000"/>
              <a:ext cx="1932480" cy="167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6" y="0"/>
                  </a:moveTo>
                  <a:arcTo wR="10800" hR="10800" stAng="-5423647" swAng="13015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6" y="0"/>
                  </a:moveTo>
                  <a:arcTo wR="10800" hR="10800" stAng="-5423647" swAng="13015467"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576200">
              <a:off x="4539600" y="3588480"/>
              <a:ext cx="1932840" cy="167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1" y="19478"/>
                  </a:moveTo>
                  <a:arcTo wR="10800" hR="10800" stAng="7591820" swAng="8584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1" y="19478"/>
                  </a:moveTo>
                  <a:arcTo wR="10800" hR="10800" stAng="7591820" swAng="8584533"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28840" y="4878360"/>
              <a:ext cx="1208160" cy="82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9440" y="4245120"/>
              <a:ext cx="7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4513320" y="2476440"/>
              <a:ext cx="823680" cy="145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4520" y="2476080"/>
              <a:ext cx="137160" cy="13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749200" y="3013560"/>
              <a:ext cx="851400" cy="85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85360" y="736560"/>
              <a:ext cx="1236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Лейк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4–9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9440" y="1625400"/>
              <a:ext cx="1725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800000"/>
                  </a:solidFill>
                  <a:latin typeface="Tahoma"/>
                </a:rPr>
                <a:t>Тромбоцити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(250–400)× 10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ahoma"/>
                </a:rPr>
                <a:t>/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6628320" y="2206440"/>
              <a:ext cx="1178640" cy="1186560"/>
            </a:xfrm>
            <a:prstGeom prst="rect">
              <a:avLst/>
            </a:prstGeom>
            <a:ln w="28440">
              <a:solidFill>
                <a:srgbClr val="0000ff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952880" y="1364040"/>
              <a:ext cx="1208520" cy="1034280"/>
            </a:xfrm>
            <a:prstGeom prst="rect">
              <a:avLst/>
            </a:prstGeom>
            <a:ln w="28440">
              <a:solidFill>
                <a:srgbClr val="3366ff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552120" y="1191240"/>
              <a:ext cx="1126080" cy="1228680"/>
            </a:xfrm>
            <a:prstGeom prst="rect">
              <a:avLst/>
            </a:prstGeom>
            <a:ln w="28440">
              <a:solidFill>
                <a:srgbClr val="3366ff"/>
              </a:solidFill>
              <a:miter/>
            </a:ln>
          </p:spPr>
        </p:pic>
      </p:grpSp>
      <p:sp>
        <p:nvSpPr>
          <p:cNvPr id="130" name=""/>
          <p:cNvSpPr/>
          <p:nvPr/>
        </p:nvSpPr>
        <p:spPr>
          <a:xfrm>
            <a:off x="1979640" y="2997360"/>
            <a:ext cx="280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Формені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елемент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0-4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486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Суха </a:t>
            </a:r>
            <a:r>
              <a:rPr b="0" lang="uk-UA" sz="1800" spc="-1" strike="noStrike">
                <a:solidFill>
                  <a:srgbClr val="333300"/>
                </a:solidFill>
                <a:latin typeface="Tahoma"/>
              </a:rPr>
              <a:t>речов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-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ізіологічні властивості тромбоциті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Адгезивніст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датність прилипати до чужорідної та пошкодженої поверх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Arial"/>
              </a:rPr>
              <a:t>Агрега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датність утворювати скуп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Аглютина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склеювання тромбоцитів один з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Групи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сутність антител і антигенів в різних групах к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хема переливання к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897280"/>
          <a:ext cx="3600360" cy="362736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  <a:gridCol w="1295280"/>
              </a:tblGrid>
              <a:tr h="12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гени (аглютино-гени) в еритроци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тіла (аглютиніни) в пла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І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ІІ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 (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 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6251400" y="3054240"/>
            <a:ext cx="50508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4278240"/>
            <a:ext cx="505080" cy="504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278240"/>
            <a:ext cx="504720" cy="504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5359320"/>
            <a:ext cx="50472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3127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4351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51800" y="4325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3040" y="54309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510160" y="3429000"/>
            <a:ext cx="64944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892920" y="4781520"/>
            <a:ext cx="722160" cy="719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15160" y="3405240"/>
            <a:ext cx="72072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18080" y="4773600"/>
            <a:ext cx="720720" cy="79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2708280"/>
            <a:ext cx="936360" cy="419040"/>
          </a:xfrm>
          <a:custGeom>
            <a:avLst/>
            <a:gdLst>
              <a:gd name="textAreaLeft" fmla="*/ 0 w 936360"/>
              <a:gd name="textAreaRight" fmla="*/ 936720 w 9363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550400" y="4258080"/>
            <a:ext cx="792360" cy="546120"/>
          </a:xfrm>
          <a:custGeom>
            <a:avLst/>
            <a:gdLst>
              <a:gd name="textAreaLeft" fmla="*/ 0 w 792360"/>
              <a:gd name="textAreaRight" fmla="*/ 792720 w 79236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4529400">
            <a:off x="7790400" y="4207320"/>
            <a:ext cx="934920" cy="647640"/>
          </a:xfrm>
          <a:custGeom>
            <a:avLst/>
            <a:gdLst>
              <a:gd name="textAreaLeft" fmla="*/ 0 w 934920"/>
              <a:gd name="textAreaRight" fmla="*/ 935280 w 934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6004080" y="5574960"/>
            <a:ext cx="1079280" cy="57636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27880" y="3692520"/>
            <a:ext cx="0" cy="158436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РЕЗУС-ФАКТОР (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глютиноген, що не входить до системи АВ0, не має аглютининів у плаз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15% людей – відсутні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85% людей – присутні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60360" y="1677960"/>
            <a:ext cx="8459640" cy="4703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68320" y="590220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Резус-конфлі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Зсідання крові (гемостаз)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анцюг біохімічних перетворень, спрямованих на зупинку кровоте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истема зсі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ативна  система пла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енні елементи кров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ки кровоносних су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и  ткан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РОЦЕС ЗСІДА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міст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ПРЕДФАЗ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инно-тромбоцитарний гемоста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cc"/>
                </a:solidFill>
                <a:latin typeface="Arial"/>
              </a:rPr>
              <a:t>ТРИ ФАЗИ ГЕМОКОАГУЛЯ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Утворення протромбін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Утворення тромбі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Утвор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ібр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3399ff"/>
                </a:solidFill>
                <a:latin typeface="Arial"/>
              </a:rPr>
              <a:t>ПІСЛЯФАЗ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етракція і фібринолі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0" t="0" r="0" b="7510"/>
          <a:stretch/>
        </p:blipFill>
        <p:spPr>
          <a:xfrm>
            <a:off x="1258920" y="465120"/>
            <a:ext cx="7273800" cy="6132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58920" y="2708280"/>
            <a:ext cx="698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6253200"/>
            <a:ext cx="4824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472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6230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5080" y="6230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21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Коагуляційний гемостаз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ативне перетворення розчинного фібриногена у нерозчинний фібрин у великих судинах з високим АТ і швидкістю кровот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7812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ba313"/>
                </a:solidFill>
                <a:latin typeface="Arial"/>
              </a:rPr>
              <a:t>1. Утворення протромбін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c8a04"/>
                </a:solidFill>
                <a:latin typeface="Arial"/>
              </a:rPr>
              <a:t>2. Утворення тромбі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d6c03"/>
                </a:solidFill>
                <a:latin typeface="Arial"/>
              </a:rPr>
              <a:t>3. Утворення фіб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3243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435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ерментативна система плаз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фібрино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тромбі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тканинний тромбоплас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ходить до складу пдазматичних мемб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они Са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акцел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кцел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конвер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нтигемофільний глобулі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антигемофільний глобулін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Стюарта-Прау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лазмовий попередник тромбоплас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Хаге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фібринстабілізую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кініно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рокаллікреї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истема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ериферична кро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в судин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ргани кровоутвор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червоний кістковий мозок, лімфатичні вузли, селезі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грани кроворуйн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печінка, селезі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ейрогуморальна регулююч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34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ісляфаза: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ретракція і фібринолі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Ретракц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ущільнення згустку (25-50% об’єму) та закріплення його в судині, за рахунок тромбостеніна тромбоцитів (2-3 години після утворення тромб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Фібринолі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ферментативний гідроліз фібрину на розчинні компоненти для відновлення просвіту суд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ba313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чинається одночасно з ретракцією під дією плазмі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ba313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тікає в 3 фа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творення к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ого та тканниного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ктиватор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лазміногену з проактиваторів (під дією адреналіну, стрептокінази, лізокіназ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иватори стимулюють перетворення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лазміногену на плазмі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тромбін, урокіназа,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, XV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лазмін розщеплює фібрин до пептидів і амінокис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Підтримці рідкого стану крові сприяють: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ладка поверхня судин, що запобігає активаці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інки судин і формені елементи мають «-» заряди і відштовху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інки судин вкриті шаром розчинного фібрину, який адсорбує активні фактори згортання (тромбі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лика швидкість кровотоку перешкоджає концентрації факторів гемокоагуляції в одному міс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явність у крові антикоагулянт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9900"/>
                </a:solidFill>
                <a:latin typeface="Arial"/>
              </a:rPr>
              <a:t>первинни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що присутні завжди ( гепарін,антитромбін та інш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9966"/>
                </a:solidFill>
                <a:latin typeface="Arial"/>
              </a:rPr>
              <a:t>вторинни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що утворюються  під час зсідння та фібрінолізу (фібрин, продукти деструкції фибри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Функції кро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ранспор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хальна (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С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офічна (перенос поживних реч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креторна (перенос продуктів метаболізму до органів виділе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моральна (перенос Б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рморегуляторна (доставка тепла від органів, де утворюється до органів, де втрачаєть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хи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и імуніт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сідання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ідтримка параметрів гомеостаз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рН, осмотичний, онкотичний ти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езпечення креаторних 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к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передача інформації за допомогою макро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Фізико-хімічні властивості крові</a:t>
            </a:r>
            <a:br>
              <a:rPr sz="40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визначаються хімічним складом плаз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к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изначається кількістю білків та формених елементів)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носна щільн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изначається вмістом формених елементів) -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,050-1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мотичний тиск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,6 а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нкотичний тиск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/3 атм. (30-40 мм рт.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тивна реакція крові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Н)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,35-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клад плаз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289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ода (90-91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15145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уха речовина (9-10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708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6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357720"/>
            <a:ext cx="1368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аті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7280" y="3357720"/>
            <a:ext cx="1368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ні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384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50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4581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79564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04020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842920" y="1989000"/>
            <a:ext cx="237636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1989000"/>
            <a:ext cx="12240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15640" y="3083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58920" y="3068640"/>
            <a:ext cx="504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63880" y="306072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Онкотичний тиск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(30-40 мм рт.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мотичний тиск органічних речовин плазми (глюкоза, білки). Забезпечує обмін води між к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і ткан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Активна реакція крові (р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умовлена співвідношенням Н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 ОН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о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 артеріальної крові – 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 венозної крові – 7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80"/>
                </a:solidFill>
                <a:latin typeface="Arial"/>
              </a:rPr>
              <a:t>Підтримку рН на фізіологічному рівні забезпечую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и виділ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ферні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8cd"/>
            </a:gs>
            <a:gs pos="50000">
              <a:srgbClr val="fff3f3"/>
            </a:gs>
            <a:gs pos="100000">
              <a:srgbClr val="fdd8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Білки плаз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95640" y="1553400"/>
            <a:ext cx="4890960" cy="3263400"/>
            <a:chOff x="3995640" y="1553400"/>
            <a:chExt cx="4890960" cy="3263400"/>
          </a:xfrm>
        </p:grpSpPr>
        <p:cxnSp>
          <p:nvCxnSpPr>
            <p:cNvPr id="163" name="_s34864"/>
            <p:cNvCxnSpPr>
              <a:stCxn id="164" idx="1"/>
              <a:endCxn id="165" idx="2"/>
            </p:cNvCxnSpPr>
            <p:nvPr/>
          </p:nvCxnSpPr>
          <p:spPr>
            <a:xfrm rot="10800000">
              <a:off x="6973560" y="2367720"/>
              <a:ext cx="249840" cy="22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34862"/>
            <p:cNvCxnSpPr>
              <a:stCxn id="167" idx="1"/>
              <a:endCxn id="165" idx="2"/>
            </p:cNvCxnSpPr>
            <p:nvPr/>
          </p:nvCxnSpPr>
          <p:spPr>
            <a:xfrm rot="10800000">
              <a:off x="6973560" y="2367720"/>
              <a:ext cx="249840" cy="17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34860"/>
            <p:cNvCxnSpPr>
              <a:stCxn id="169" idx="1"/>
              <a:endCxn id="165" idx="2"/>
            </p:cNvCxnSpPr>
            <p:nvPr/>
          </p:nvCxnSpPr>
          <p:spPr>
            <a:xfrm rot="10800000">
              <a:off x="6973560" y="2367720"/>
              <a:ext cx="249840" cy="129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58"/>
            <p:cNvCxnSpPr>
              <a:stCxn id="171" idx="1"/>
              <a:endCxn id="165" idx="2"/>
            </p:cNvCxnSpPr>
            <p:nvPr/>
          </p:nvCxnSpPr>
          <p:spPr>
            <a:xfrm rot="10800000">
              <a:off x="6973560" y="2367720"/>
              <a:ext cx="249840" cy="81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34856"/>
            <p:cNvCxnSpPr>
              <a:stCxn id="173" idx="1"/>
              <a:endCxn id="165" idx="2"/>
            </p:cNvCxnSpPr>
            <p:nvPr/>
          </p:nvCxnSpPr>
          <p:spPr>
            <a:xfrm rot="10800000">
              <a:off x="6973560" y="2367720"/>
              <a:ext cx="249840" cy="3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34854"/>
            <p:cNvCxnSpPr>
              <a:stCxn id="165" idx="0"/>
              <a:endCxn id="175" idx="2"/>
            </p:cNvCxnSpPr>
            <p:nvPr/>
          </p:nvCxnSpPr>
          <p:spPr>
            <a:xfrm flipV="1" rot="16200000">
              <a:off x="6634080" y="1694160"/>
              <a:ext cx="148320" cy="532800"/>
            </a:xfrm>
            <a:prstGeom prst="bentConnector3">
              <a:avLst>
                <a:gd name="adj1" fmla="val 493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34852"/>
            <p:cNvCxnSpPr>
              <a:stCxn id="177" idx="0"/>
              <a:endCxn id="175" idx="2"/>
            </p:cNvCxnSpPr>
            <p:nvPr/>
          </p:nvCxnSpPr>
          <p:spPr>
            <a:xfrm flipH="1" flipV="1" rot="5400000">
              <a:off x="5599440" y="1192320"/>
              <a:ext cx="148320" cy="1537200"/>
            </a:xfrm>
            <a:prstGeom prst="bentConnector3">
              <a:avLst>
                <a:gd name="adj1" fmla="val 493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34848"/>
            <p:cNvSpPr/>
            <p:nvPr/>
          </p:nvSpPr>
          <p:spPr>
            <a:xfrm>
              <a:off x="5627520" y="1553400"/>
              <a:ext cx="162648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000000"/>
                  </a:solidFill>
                  <a:latin typeface="Arial"/>
                </a:rPr>
                <a:t>БІЛКИ ПЛАЗ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4849"/>
            <p:cNvSpPr/>
            <p:nvPr/>
          </p:nvSpPr>
          <p:spPr>
            <a:xfrm>
              <a:off x="3995640" y="2034720"/>
              <a:ext cx="181728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Альбуміни (60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4851"/>
            <p:cNvSpPr/>
            <p:nvPr/>
          </p:nvSpPr>
          <p:spPr>
            <a:xfrm>
              <a:off x="6064560" y="2034720"/>
              <a:ext cx="1816920" cy="333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Глобуліни (40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4855"/>
            <p:cNvSpPr/>
            <p:nvPr/>
          </p:nvSpPr>
          <p:spPr>
            <a:xfrm>
              <a:off x="7223760" y="2516400"/>
              <a:ext cx="1662840" cy="341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4857"/>
            <p:cNvSpPr/>
            <p:nvPr/>
          </p:nvSpPr>
          <p:spPr>
            <a:xfrm>
              <a:off x="7223760" y="30060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4859"/>
            <p:cNvSpPr/>
            <p:nvPr/>
          </p:nvSpPr>
          <p:spPr>
            <a:xfrm>
              <a:off x="7223760" y="34956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4861"/>
            <p:cNvSpPr/>
            <p:nvPr/>
          </p:nvSpPr>
          <p:spPr>
            <a:xfrm>
              <a:off x="7223760" y="3985200"/>
              <a:ext cx="1662840" cy="342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Фібриног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4863"/>
            <p:cNvSpPr/>
            <p:nvPr/>
          </p:nvSpPr>
          <p:spPr>
            <a:xfrm>
              <a:off x="7223760" y="4475160"/>
              <a:ext cx="1662840" cy="341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глобулі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00000" y="2852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313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0:21:51Z</dcterms:created>
  <dc:creator>А</dc:creator>
  <dc:description/>
  <dc:language>en-US</dc:language>
  <cp:lastModifiedBy>Your User Name</cp:lastModifiedBy>
  <dcterms:modified xsi:type="dcterms:W3CDTF">2010-04-09T09:41:59Z</dcterms:modified>
  <cp:revision>64</cp:revision>
  <dc:subject/>
  <dc:title>КРОВ</dc:title>
</cp:coreProperties>
</file>