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80-8489-40B8-AFF6-CD01FD21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400-7860-47A2-9F69-E28881EC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9D9-0602-441E-87C3-5CF43BA5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A71-3E1E-4171-A771-2222334A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A52-3E84-4F47-A913-EC4D60B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3A8-71A3-4E67-ADBA-551B73B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EB9-EF91-4A17-8EAB-30CBB9B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EDE-8E6E-4594-868F-6AD3FCB1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F50-B007-43EA-B554-88C0B40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81E-A0C6-4D95-A18C-1FAF964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B09-22DB-425A-85B0-981C980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50E-75D6-46F0-A684-331CD65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B421-10BE-4535-BE82-1825C260F0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2417760"/>
            <a:ext cx="88394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Вища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нервова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Times New Roman"/>
              </a:rPr>
              <a:t>діяльність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63840" y="98424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ам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720" y="2184480"/>
            <a:ext cx="8291520" cy="17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ам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ять -</a:t>
            </a: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це властивість нервової системи на коротки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або тривалий час зберігати відбитки, що утворюютьс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 результаті сприйняття предметів і явищ об'єктивног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віту після припинення їх дії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44480" y="401760"/>
            <a:ext cx="572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6600"/>
                </a:solidFill>
                <a:latin typeface="Times New Roman"/>
              </a:rPr>
              <a:t>Процеси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 пам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’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ят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0560" y="1442880"/>
            <a:ext cx="7534440" cy="93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пам'ятовува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– це закріплення інформації шлях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кріплення її з придбаною раніше інформаціє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7320" y="2887560"/>
            <a:ext cx="7543800" cy="9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береження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значається ступенем участі інформації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людини, тобто важливістю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1480" y="4435560"/>
            <a:ext cx="7612200" cy="61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ідтворення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тягання інформації з систем або блоків пам'яті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5442120"/>
            <a:ext cx="7611840" cy="61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був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7680" y="2336760"/>
            <a:ext cx="8709120" cy="199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Тип висшої нервої діяльності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 –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купність індивідуальни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востей нервової системи, що обумовлені спадковим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ливостями індивідуума й його життєвим досві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5760" y="135396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Тип висшої нервої діяльності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94040" y="21420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Типи ВНД за І.П. Павлови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36880" y="1251000"/>
            <a:ext cx="2906640" cy="744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Силь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86640" y="1247760"/>
            <a:ext cx="1935000" cy="744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Times New Roman"/>
              </a:rPr>
              <a:t>Слабк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ccff"/>
                </a:solidFill>
                <a:latin typeface="Times New Roman"/>
              </a:rPr>
              <a:t>(меланхолі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5400000">
            <a:off x="1757520" y="2113560"/>
            <a:ext cx="990360" cy="780840"/>
          </a:xfrm>
          <a:custGeom>
            <a:avLst/>
            <a:gdLst>
              <a:gd name="textAreaLeft" fmla="*/ 154800 w 990360"/>
              <a:gd name="textAreaRight" fmla="*/ 866880 w 990360"/>
              <a:gd name="textAreaTop" fmla="*/ 195120 h 780840"/>
              <a:gd name="textAreaBottom" fmla="*/ 585720 h 780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4246560" y="2046240"/>
            <a:ext cx="990720" cy="7812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2400" y="3178080"/>
            <a:ext cx="2792520" cy="784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рівноваж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70440" y="3098880"/>
            <a:ext cx="2914560" cy="78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Неврівноваж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Times New Roman"/>
              </a:rPr>
              <a:t>(холер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 rot="5400000">
            <a:off x="509760" y="4104360"/>
            <a:ext cx="990360" cy="780840"/>
          </a:xfrm>
          <a:custGeom>
            <a:avLst/>
            <a:gdLst>
              <a:gd name="textAreaLeft" fmla="*/ 154800 w 990360"/>
              <a:gd name="textAreaRight" fmla="*/ 866880 w 990360"/>
              <a:gd name="textAreaTop" fmla="*/ 195120 h 780840"/>
              <a:gd name="textAreaBottom" fmla="*/ 585720 h 780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5400000">
            <a:off x="2824200" y="4097160"/>
            <a:ext cx="990720" cy="7812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240" y="5176800"/>
            <a:ext cx="1763640" cy="7844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ухливи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cc99"/>
                </a:solidFill>
                <a:latin typeface="Times New Roman"/>
              </a:rPr>
              <a:t>(сангвін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6520" y="5202360"/>
            <a:ext cx="1927080" cy="784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Інерт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cc99"/>
                </a:solidFill>
                <a:latin typeface="Times New Roman"/>
              </a:rPr>
              <a:t>(флегмати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25760" y="458640"/>
            <a:ext cx="572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Характеристики типі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исшої нервової діяльност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" y="1739880"/>
            <a:ext cx="3668760" cy="1647720"/>
          </a:xfrm>
          <a:prstGeom prst="rect">
            <a:avLst/>
          </a:prstGeom>
          <a:solidFill>
            <a:srgbClr val="ffe26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Сильний, врівноважени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рухливий (жвав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8800" y="1703520"/>
            <a:ext cx="3694320" cy="1635120"/>
          </a:xfrm>
          <a:prstGeom prst="rect">
            <a:avLst/>
          </a:prstGeom>
          <a:solidFill>
            <a:srgbClr val="a6e2c4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ильний, врівноважени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нертний (спокій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0560" y="4002120"/>
            <a:ext cx="3795840" cy="1685880"/>
          </a:xfrm>
          <a:prstGeom prst="rect">
            <a:avLst/>
          </a:prstGeom>
          <a:solidFill>
            <a:srgbClr val="ff96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льний неврівноважени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 переважанням збудж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д гальмуванн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нестрим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1280" y="3962520"/>
            <a:ext cx="3808440" cy="1736640"/>
          </a:xfrm>
          <a:prstGeom prst="rect">
            <a:avLst/>
          </a:prstGeom>
          <a:solidFill>
            <a:srgbClr val="d1e8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лабкий (гальмівний тип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519120"/>
          <a:ext cx="182520" cy="4633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800" y="51512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0"/>
          <a:ext cx="182520" cy="4562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800" y="4560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3640" y="255600"/>
            <a:ext cx="75945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2571"/>
                </a:solidFill>
                <a:latin typeface="Times New Roman"/>
              </a:rPr>
              <a:t>Типологічні особливості ВНД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57480" y="728640"/>
            <a:ext cx="4813200" cy="612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0" y="0"/>
          <a:ext cx="182520" cy="4562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800" y="4560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7840" y="1119240"/>
            <a:ext cx="8737560" cy="17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ища нервова діяльність (ВНД)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об'єднана функці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 і найближчої підкірки головного мозку, що забезпечу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тосування людини до навколишнього середовища, тоб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ає поведінк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019400"/>
            <a:ext cx="1828800" cy="1238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атеріальн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а ВН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3040" y="441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5840" y="4014720"/>
            <a:ext cx="1793880" cy="1238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Times New Roman"/>
              </a:rPr>
              <a:t>Кора великих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Times New Roman"/>
              </a:rPr>
              <a:t>півкул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15960" y="44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51480" y="4010040"/>
            <a:ext cx="1982520" cy="12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Підкоркові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ядра переднь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2480" y="43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35680" y="3987720"/>
            <a:ext cx="2130480" cy="12384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Утворенн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проміжн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4f"/>
                </a:solidFill>
                <a:latin typeface="Times New Roman"/>
              </a:rPr>
              <a:t>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96920" y="189000"/>
            <a:ext cx="71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Будова кори головного моз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2577960"/>
            <a:ext cx="7224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6080" y="2006640"/>
            <a:ext cx="7224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520" y="976320"/>
            <a:ext cx="606744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Молекуляр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ає мало нейронів, в основному це скупчення дендритів, нижче лежачих шарі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2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Зовнішній зернист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істить дрібні клітини різної форми: овальної, трикутної, багатокутної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3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Зовнішній пірамід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клітини різної величини – це найширший шар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4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Внутрішній зернист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утворений дрібними зірчастими клітинам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5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Внутрішній пірамід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великі пірамідні клітини Беца – їх дендрити йдуть до верхніх шарів кори, аксони до ядер головного  і спинного мозк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9194b"/>
                </a:solidFill>
                <a:latin typeface="Times New Roman"/>
              </a:rPr>
              <a:t>6. </a:t>
            </a:r>
            <a:r>
              <a:rPr b="1" i="1" lang="uk-UA" sz="2100" spc="-1" strike="noStrike">
                <a:solidFill>
                  <a:srgbClr val="19194b"/>
                </a:solidFill>
                <a:latin typeface="Times New Roman"/>
              </a:rPr>
              <a:t>Мультиформний шар</a:t>
            </a:r>
            <a:r>
              <a:rPr b="0" lang="uk-UA" sz="2100" spc="-1" strike="noStrike">
                <a:solidFill>
                  <a:srgbClr val="19194b"/>
                </a:solidFill>
                <a:latin typeface="Times New Roman"/>
              </a:rPr>
              <a:t> – містить круглі, веретеноподібні і трикутні клітини.</a:t>
            </a:r>
            <a:r>
              <a:rPr b="0" lang="ru-RU" sz="2100" spc="-1" strike="noStrike">
                <a:solidFill>
                  <a:srgbClr val="19194b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2200" y="1119240"/>
            <a:ext cx="2514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5760" y="2085840"/>
            <a:ext cx="83772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Times New Roman"/>
              </a:rPr>
              <a:t>Умовні рефлекси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якісно нові рефлекторні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реакції для узгодження організму з навколишнім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середовищем залежно від характеру і умов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зовнішніх ді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360" y="474840"/>
            <a:ext cx="79120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87640" y="81432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Умовні рефлекс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92080" y="-31680"/>
            <a:ext cx="75297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Утворення тимчасового зв</a:t>
            </a:r>
            <a:r>
              <a:rPr b="1" lang="en-US" sz="3600" spc="-1" strike="noStrike">
                <a:solidFill>
                  <a:srgbClr val="924900"/>
                </a:solidFill>
                <a:latin typeface="Times New Roman"/>
              </a:rPr>
              <a:t>’</a:t>
            </a: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язку по шлях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4900"/>
                </a:solidFill>
                <a:latin typeface="Times New Roman"/>
              </a:rPr>
              <a:t>«кора-кора» за І.П. Павлови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44640" y="1030320"/>
            <a:ext cx="7391160" cy="565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03240" y="1117440"/>
            <a:ext cx="5080320" cy="5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 великих пів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5880" y="5308560"/>
            <a:ext cx="1143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зво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2040" y="5245200"/>
            <a:ext cx="990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27880" y="2616120"/>
            <a:ext cx="1701720" cy="9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лино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діл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20840" y="6083280"/>
            <a:ext cx="22734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рієнтов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ф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1680" y="5816520"/>
            <a:ext cx="1600200" cy="69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діле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ли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5160" y="2590920"/>
            <a:ext cx="12193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Цен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лух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92080" y="317520"/>
            <a:ext cx="7529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Times New Roman"/>
              </a:rPr>
              <a:t>Класифікація умовних рефлекс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000" y="1068480"/>
            <a:ext cx="3502080" cy="4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походженн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02160" y="861840"/>
            <a:ext cx="581040" cy="79560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600"/>
              <a:gd name="textAreaBottom" fmla="*/ 596880 h 79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6960" y="1033560"/>
            <a:ext cx="4782960" cy="4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атуральні та штучн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20" y="1639800"/>
            <a:ext cx="350208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умовн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ідкріпленн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97120" y="179964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02280" y="1622520"/>
            <a:ext cx="478296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Харчові, захис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тев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60" y="2895480"/>
            <a:ext cx="3511440" cy="70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овного сигнал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610080" y="2841480"/>
            <a:ext cx="581040" cy="79560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600"/>
              <a:gd name="textAreaBottom" fmla="*/ 596880 h 79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4880" y="2878200"/>
            <a:ext cx="4782960" cy="70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ветлові, звукові, тактиль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нюхові, температурні та інш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4167360"/>
            <a:ext cx="350208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характер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цепторі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622680" y="411408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84640" y="4086360"/>
            <a:ext cx="47833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Екстероцептивні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інтероцептивні, проприоцептивн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8120" y="5392800"/>
            <a:ext cx="3502080" cy="425520"/>
          </a:xfrm>
          <a:prstGeom prst="rect">
            <a:avLst/>
          </a:prstGeom>
          <a:solidFill>
            <a:srgbClr val="ffff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ступенем складнос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60840" y="5228640"/>
            <a:ext cx="581040" cy="795240"/>
          </a:xfrm>
          <a:custGeom>
            <a:avLst/>
            <a:gdLst>
              <a:gd name="textAreaLeft" fmla="*/ 90720 w 581040"/>
              <a:gd name="textAreaRight" fmla="*/ 508680 w 581040"/>
              <a:gd name="textAreaTop" fmla="*/ 198720 h 795240"/>
              <a:gd name="textAreaBottom" fmla="*/ 596520 h 79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7240" y="5400720"/>
            <a:ext cx="4783320" cy="425520"/>
          </a:xfrm>
          <a:prstGeom prst="rect">
            <a:avLst/>
          </a:prstGeom>
          <a:solidFill>
            <a:srgbClr val="ffff4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1, 2, 3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о порядк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92080" y="320760"/>
            <a:ext cx="75297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58"/>
                </a:solidFill>
                <a:latin typeface="Times New Roman"/>
              </a:rPr>
              <a:t>Види гальмува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58"/>
                </a:solidFill>
                <a:latin typeface="Times New Roman"/>
              </a:rPr>
              <a:t>умовних рефлексі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3280" y="1917720"/>
            <a:ext cx="3872160" cy="863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зумовне (зовнішнє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альм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4640" y="3041640"/>
            <a:ext cx="3459240" cy="631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Позамежне галь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040" y="3975120"/>
            <a:ext cx="3065400" cy="631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Зовнішнє галь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1917720"/>
            <a:ext cx="3706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овне (внутрішнє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ьмув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8800" y="304164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гасаю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1400" y="458460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ференційо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26200" y="379728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пізні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8800" y="5403960"/>
            <a:ext cx="296388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ловне галь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1720" y="1620720"/>
            <a:ext cx="572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С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12680" y="2639880"/>
            <a:ext cx="7444080" cy="1649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imes New Roman"/>
              </a:rPr>
              <a:t>Сон </a:t>
            </a:r>
            <a:r>
              <a:rPr b="1" lang="ru-RU" sz="26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внутрішнє гальмування кори 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йближчої підкір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979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5a58"/>
                </a:solidFill>
                <a:latin typeface="Times New Roman"/>
              </a:rPr>
              <a:t>Механізм сн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452600"/>
          <a:ext cx="182520" cy="1616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800" y="3067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760" y="1935000"/>
            <a:ext cx="4246560" cy="3370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13200" y="1946160"/>
            <a:ext cx="4098960" cy="340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7720" y="4640400"/>
            <a:ext cx="1268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f6f6f"/>
                </a:solidFill>
                <a:latin typeface="Times New Roman"/>
              </a:rPr>
              <a:t>Центр сн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7720" y="5062680"/>
            <a:ext cx="18828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f6f6f"/>
                </a:solidFill>
                <a:latin typeface="Times New Roman"/>
              </a:rPr>
              <a:t>Бодрий ст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2:24:24Z</dcterms:created>
  <dc:creator>user 4</dc:creator>
  <dc:description/>
  <dc:language>en-US</dc:language>
  <cp:lastModifiedBy>Your User Name</cp:lastModifiedBy>
  <dcterms:modified xsi:type="dcterms:W3CDTF">2010-04-09T09:33:08Z</dcterms:modified>
  <cp:revision>123</cp:revision>
  <dc:subject/>
  <dc:title>Презентация PowerPoint</dc:title>
</cp:coreProperties>
</file>