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B5AD-8811-42BB-8C98-429188B71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E001-BF77-4637-A8B3-CFCA972ED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6279-ACD9-4F7C-A9B1-CB52186D0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F246-9F2F-45AA-8C3C-0591D804A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1FCF-6823-46F4-B079-36961A64B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05FE-8624-473F-874A-CAC9E2032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F996-DD16-4610-8806-43E35D9D9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DF4A-5AFD-4B26-BFD8-50E10C23C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9A4B-9A32-4689-BDA3-73691B5FD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D7E5-2F9E-4574-A4C5-425EA967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4706-183B-45B4-B781-BF711C5C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90BE-671B-43CD-A04E-B66DFCF0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7979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12C5D-6647-48AE-B4FE-F1DD94AFBCE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7979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1520" y="2417760"/>
            <a:ext cx="8839440" cy="15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200" spc="-1" strike="noStrike">
                <a:solidFill>
                  <a:srgbClr val="000066"/>
                </a:solidFill>
                <a:latin typeface="Times New Roman"/>
              </a:rPr>
              <a:t>Вища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200" spc="-1" strike="noStrike">
                <a:solidFill>
                  <a:srgbClr val="000066"/>
                </a:solidFill>
                <a:latin typeface="Times New Roman"/>
              </a:rPr>
              <a:t>нервова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200" spc="-1" strike="noStrike">
                <a:solidFill>
                  <a:srgbClr val="000066"/>
                </a:solidFill>
                <a:latin typeface="Times New Roman"/>
              </a:rPr>
              <a:t>діяльність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7979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563840" y="984240"/>
            <a:ext cx="5727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imes New Roman"/>
              </a:rPr>
              <a:t>Пам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’</a:t>
            </a:r>
            <a:r>
              <a:rPr b="1" lang="ru-RU" sz="4400" spc="-1" strike="noStrike">
                <a:solidFill>
                  <a:srgbClr val="000066"/>
                </a:solidFill>
                <a:latin typeface="Times New Roman"/>
              </a:rPr>
              <a:t>я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58720" y="2184480"/>
            <a:ext cx="8291520" cy="1766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66"/>
                </a:solidFill>
                <a:latin typeface="Times New Roman"/>
              </a:rPr>
              <a:t>Пам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’</a:t>
            </a:r>
            <a:r>
              <a:rPr b="1" lang="ru-RU" sz="2600" spc="-1" strike="noStrike">
                <a:solidFill>
                  <a:srgbClr val="000066"/>
                </a:solidFill>
                <a:latin typeface="Times New Roman"/>
              </a:rPr>
              <a:t>ять -</a:t>
            </a:r>
            <a:r>
              <a:rPr b="1" lang="ru-RU" sz="26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це властивість нервової системи на короткий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або тривалий час зберігати відбитки, що утворюються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в результаті сприйняття предметів і явищ об'єктивного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світу після припинення їх дії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7979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644480" y="401760"/>
            <a:ext cx="5727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c6600"/>
                </a:solidFill>
                <a:latin typeface="Times New Roman"/>
              </a:rPr>
              <a:t>Процеси</a:t>
            </a:r>
            <a:r>
              <a:rPr b="1" lang="ru-RU" sz="3600" spc="-1" strike="noStrike">
                <a:solidFill>
                  <a:srgbClr val="cc6600"/>
                </a:solidFill>
                <a:latin typeface="Times New Roman"/>
              </a:rPr>
              <a:t> пам</a:t>
            </a: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’</a:t>
            </a:r>
            <a:r>
              <a:rPr b="1" lang="ru-RU" sz="3600" spc="-1" strike="noStrike">
                <a:solidFill>
                  <a:srgbClr val="cc6600"/>
                </a:solidFill>
                <a:latin typeface="Times New Roman"/>
              </a:rPr>
              <a:t>ят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90560" y="1442880"/>
            <a:ext cx="7534440" cy="939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Запам'ятовування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– це закріплення інформації шляхо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скріплення її з придбаною раніше інформацією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87320" y="2887560"/>
            <a:ext cx="7543800" cy="925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Збереження –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визначається ступенем участі інформації 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діяльності людини, тобто важливістю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71480" y="4435560"/>
            <a:ext cx="7612200" cy="612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Відтворення –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витягання інформації з систем або блоків пам'яті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24040" y="5442120"/>
            <a:ext cx="7611840" cy="612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Забуванн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7979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47680" y="2336760"/>
            <a:ext cx="8709120" cy="1990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cc"/>
                </a:solidFill>
                <a:latin typeface="Times New Roman"/>
              </a:rPr>
              <a:t>Тип висшої нервої діяльності</a:t>
            </a:r>
            <a:r>
              <a:rPr b="1" lang="ru-RU" sz="2600" spc="-1" strike="noStrike">
                <a:solidFill>
                  <a:srgbClr val="cc6600"/>
                </a:solidFill>
                <a:latin typeface="Times New Roman"/>
              </a:rPr>
              <a:t> –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укупність індивідуальних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ластивостей нервової системи, що обумовлені спадковими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собливостями індивідуума й його життєвим досвідом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25760" y="1353960"/>
            <a:ext cx="5727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Тип висшої нервої діяльності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7979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994040" y="214200"/>
            <a:ext cx="5727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Типи ВНД за І.П. Павлови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036880" y="1251000"/>
            <a:ext cx="2906640" cy="7444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c00"/>
                </a:solidFill>
                <a:latin typeface="Times New Roman"/>
              </a:rPr>
              <a:t>Сильни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86640" y="1247760"/>
            <a:ext cx="1935000" cy="7444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c00"/>
                </a:solidFill>
                <a:latin typeface="Times New Roman"/>
              </a:rPr>
              <a:t>Слабки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ccccff"/>
                </a:solidFill>
                <a:latin typeface="Times New Roman"/>
              </a:rPr>
              <a:t>(меланхолік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 rot="5400000">
            <a:off x="1757520" y="2113560"/>
            <a:ext cx="990360" cy="780840"/>
          </a:xfrm>
          <a:custGeom>
            <a:avLst/>
            <a:gdLst>
              <a:gd name="textAreaLeft" fmla="*/ 154800 w 990360"/>
              <a:gd name="textAreaRight" fmla="*/ 866880 w 990360"/>
              <a:gd name="textAreaTop" fmla="*/ 195120 h 780840"/>
              <a:gd name="textAreaBottom" fmla="*/ 585720 h 780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 rot="5400000">
            <a:off x="4246560" y="2046240"/>
            <a:ext cx="990720" cy="781200"/>
          </a:xfrm>
          <a:custGeom>
            <a:avLst/>
            <a:gdLst>
              <a:gd name="textAreaLeft" fmla="*/ 154800 w 990720"/>
              <a:gd name="textAreaRight" fmla="*/ 866880 w 990720"/>
              <a:gd name="textAreaTop" fmla="*/ 195120 h 781200"/>
              <a:gd name="textAreaBottom" fmla="*/ 586080 h 781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52400" y="3178080"/>
            <a:ext cx="2792520" cy="784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Врівноважени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70440" y="3098880"/>
            <a:ext cx="2914560" cy="784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Неврівноважени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3333cc"/>
                </a:solidFill>
                <a:latin typeface="Times New Roman"/>
              </a:rPr>
              <a:t>(холерик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 rot="5400000">
            <a:off x="509760" y="4104360"/>
            <a:ext cx="990360" cy="780840"/>
          </a:xfrm>
          <a:custGeom>
            <a:avLst/>
            <a:gdLst>
              <a:gd name="textAreaLeft" fmla="*/ 154800 w 990360"/>
              <a:gd name="textAreaRight" fmla="*/ 866880 w 990360"/>
              <a:gd name="textAreaTop" fmla="*/ 195120 h 780840"/>
              <a:gd name="textAreaBottom" fmla="*/ 585720 h 780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 rot="5400000">
            <a:off x="2824200" y="4097160"/>
            <a:ext cx="990720" cy="781200"/>
          </a:xfrm>
          <a:custGeom>
            <a:avLst/>
            <a:gdLst>
              <a:gd name="textAreaLeft" fmla="*/ 154800 w 990720"/>
              <a:gd name="textAreaRight" fmla="*/ 866880 w 990720"/>
              <a:gd name="textAreaTop" fmla="*/ 195120 h 781200"/>
              <a:gd name="textAreaBottom" fmla="*/ 586080 h 781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9240" y="5176800"/>
            <a:ext cx="1763640" cy="7844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Рухливий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cc99"/>
                </a:solidFill>
                <a:latin typeface="Times New Roman"/>
              </a:rPr>
              <a:t>(сангвіник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76520" y="5202360"/>
            <a:ext cx="1927080" cy="78408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Інертни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cc99"/>
                </a:solidFill>
                <a:latin typeface="Times New Roman"/>
              </a:rPr>
              <a:t>(флегматик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7979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625760" y="458640"/>
            <a:ext cx="5727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Характеристики типів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висшої нервової діяльності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88960" y="1739880"/>
            <a:ext cx="3668760" cy="1647720"/>
          </a:xfrm>
          <a:prstGeom prst="rect">
            <a:avLst/>
          </a:prstGeom>
          <a:solidFill>
            <a:srgbClr val="ffe26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Times New Roman"/>
              </a:rPr>
              <a:t>Сильний, врівноважений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Times New Roman"/>
              </a:rPr>
              <a:t>рухливий (жвавий тип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068800" y="1703520"/>
            <a:ext cx="3694320" cy="1635120"/>
          </a:xfrm>
          <a:prstGeom prst="rect">
            <a:avLst/>
          </a:prstGeom>
          <a:solidFill>
            <a:srgbClr val="a6e2c4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Сильний, врівноважений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66"/>
                </a:solidFill>
                <a:latin typeface="Times New Roman"/>
              </a:rPr>
              <a:t>і</a:t>
            </a: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нертний (спокійний тип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20560" y="4002120"/>
            <a:ext cx="3795840" cy="1685880"/>
          </a:xfrm>
          <a:prstGeom prst="rect">
            <a:avLst/>
          </a:prstGeom>
          <a:solidFill>
            <a:srgbClr val="ff964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ильний неврівноважений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з переважанням збудженн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ад гальмуванням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(нестримний тип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21280" y="3962520"/>
            <a:ext cx="3808440" cy="1736640"/>
          </a:xfrm>
          <a:prstGeom prst="rect">
            <a:avLst/>
          </a:prstGeom>
          <a:solidFill>
            <a:srgbClr val="d1e8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лабкий (гальмівний тип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51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0" y="519120"/>
          <a:ext cx="182520" cy="46339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63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1800" y="515124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0" y="0"/>
          <a:ext cx="182520" cy="45626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6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1800" y="456084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7979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63640" y="255600"/>
            <a:ext cx="759456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252571"/>
                </a:solidFill>
                <a:latin typeface="Times New Roman"/>
              </a:rPr>
              <a:t>Типологічні особливості ВНД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157480" y="728640"/>
            <a:ext cx="4813200" cy="612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6" name=""/>
          <p:cNvGraphicFramePr/>
          <p:nvPr/>
        </p:nvGraphicFramePr>
        <p:xfrm>
          <a:off x="0" y="0"/>
          <a:ext cx="182520" cy="45626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6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1800" y="456084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7979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77840" y="1119240"/>
            <a:ext cx="8737560" cy="1781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Times New Roman"/>
              </a:rPr>
              <a:t>Вища нервова діяльність (ВНД)</a:t>
            </a:r>
            <a:r>
              <a:rPr b="1" lang="ru-RU" sz="2600" spc="-1" strike="noStrike">
                <a:solidFill>
                  <a:srgbClr val="cc6600"/>
                </a:solidFill>
                <a:latin typeface="Times New Roman"/>
              </a:rPr>
              <a:t> 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це об'єднана функці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кори і найближчої підкірки головного мозку, що забезпечує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пристосування людини до навколишнього середовища, тобт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визначає поведінку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4019400"/>
            <a:ext cx="1828800" cy="1238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Матеріальн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основа ВНД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03040" y="4417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55840" y="4014720"/>
            <a:ext cx="1793880" cy="1238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8000"/>
                </a:solidFill>
                <a:latin typeface="Times New Roman"/>
              </a:rPr>
              <a:t>Кора великих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8000"/>
                </a:solidFill>
                <a:latin typeface="Times New Roman"/>
              </a:rPr>
              <a:t>півкуль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15960" y="4413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51480" y="4010040"/>
            <a:ext cx="1982520" cy="1238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Times New Roman"/>
              </a:rPr>
              <a:t>Підкоркові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Times New Roman"/>
              </a:rPr>
              <a:t>ядра переднього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Times New Roman"/>
              </a:rPr>
              <a:t>мозку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522480" y="4390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35680" y="3987720"/>
            <a:ext cx="2130480" cy="123840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4f"/>
                </a:solidFill>
                <a:latin typeface="Times New Roman"/>
              </a:rPr>
              <a:t>Утворення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4f"/>
                </a:solidFill>
                <a:latin typeface="Times New Roman"/>
              </a:rPr>
              <a:t>проміжного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4f"/>
                </a:solidFill>
                <a:latin typeface="Times New Roman"/>
              </a:rPr>
              <a:t>мозку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7979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96920" y="189000"/>
            <a:ext cx="71010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imes New Roman"/>
              </a:rPr>
              <a:t>Будова кори головного мозк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46280" y="2577960"/>
            <a:ext cx="72244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6080" y="2006640"/>
            <a:ext cx="72244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520" y="976320"/>
            <a:ext cx="6067440" cy="54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uk-UA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uk-UA" sz="2100" spc="-1" strike="noStrike">
                <a:solidFill>
                  <a:srgbClr val="19194b"/>
                </a:solidFill>
                <a:latin typeface="Times New Roman"/>
              </a:rPr>
              <a:t>Молекулярний шар</a:t>
            </a:r>
            <a:r>
              <a:rPr b="0" lang="uk-UA" sz="2100" spc="-1" strike="noStrike">
                <a:solidFill>
                  <a:srgbClr val="19194b"/>
                </a:solidFill>
                <a:latin typeface="Times New Roman"/>
              </a:rPr>
              <a:t> – має мало нейронів, в основному це скупчення дендритів, нижче лежачих шарів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19194b"/>
                </a:solidFill>
                <a:latin typeface="Times New Roman"/>
              </a:rPr>
              <a:t>2. </a:t>
            </a:r>
            <a:r>
              <a:rPr b="1" i="1" lang="uk-UA" sz="2100" spc="-1" strike="noStrike">
                <a:solidFill>
                  <a:srgbClr val="19194b"/>
                </a:solidFill>
                <a:latin typeface="Times New Roman"/>
              </a:rPr>
              <a:t>Зовнішній зернистий шар</a:t>
            </a:r>
            <a:r>
              <a:rPr b="0" lang="uk-UA" sz="2100" spc="-1" strike="noStrike">
                <a:solidFill>
                  <a:srgbClr val="19194b"/>
                </a:solidFill>
                <a:latin typeface="Times New Roman"/>
              </a:rPr>
              <a:t> – містить дрібні клітини різної форми: овальної, трикутної, багатокутної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19194b"/>
                </a:solidFill>
                <a:latin typeface="Times New Roman"/>
              </a:rPr>
              <a:t>3. </a:t>
            </a:r>
            <a:r>
              <a:rPr b="1" i="1" lang="uk-UA" sz="2100" spc="-1" strike="noStrike">
                <a:solidFill>
                  <a:srgbClr val="19194b"/>
                </a:solidFill>
                <a:latin typeface="Times New Roman"/>
              </a:rPr>
              <a:t>Зовнішній пірамідний шар</a:t>
            </a:r>
            <a:r>
              <a:rPr b="0" lang="uk-UA" sz="2100" spc="-1" strike="noStrike">
                <a:solidFill>
                  <a:srgbClr val="19194b"/>
                </a:solidFill>
                <a:latin typeface="Times New Roman"/>
              </a:rPr>
              <a:t> – клітини різної величини – це найширший шар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19194b"/>
                </a:solidFill>
                <a:latin typeface="Times New Roman"/>
              </a:rPr>
              <a:t>4. </a:t>
            </a:r>
            <a:r>
              <a:rPr b="1" i="1" lang="uk-UA" sz="2100" spc="-1" strike="noStrike">
                <a:solidFill>
                  <a:srgbClr val="19194b"/>
                </a:solidFill>
                <a:latin typeface="Times New Roman"/>
              </a:rPr>
              <a:t>Внутрішній зернистий шар</a:t>
            </a:r>
            <a:r>
              <a:rPr b="0" lang="uk-UA" sz="2100" spc="-1" strike="noStrike">
                <a:solidFill>
                  <a:srgbClr val="19194b"/>
                </a:solidFill>
                <a:latin typeface="Times New Roman"/>
              </a:rPr>
              <a:t> – утворений дрібними зірчастими клітинами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19194b"/>
                </a:solidFill>
                <a:latin typeface="Times New Roman"/>
              </a:rPr>
              <a:t>5. </a:t>
            </a:r>
            <a:r>
              <a:rPr b="1" i="1" lang="uk-UA" sz="2100" spc="-1" strike="noStrike">
                <a:solidFill>
                  <a:srgbClr val="19194b"/>
                </a:solidFill>
                <a:latin typeface="Times New Roman"/>
              </a:rPr>
              <a:t>Внутрішній пірамідний шар</a:t>
            </a:r>
            <a:r>
              <a:rPr b="0" lang="uk-UA" sz="2100" spc="-1" strike="noStrike">
                <a:solidFill>
                  <a:srgbClr val="19194b"/>
                </a:solidFill>
                <a:latin typeface="Times New Roman"/>
              </a:rPr>
              <a:t> – великі пірамідні клітини Беца – їх дендрити йдуть до верхніх шарів кори, аксони до ядер головного  і спинного мозку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19194b"/>
                </a:solidFill>
                <a:latin typeface="Times New Roman"/>
              </a:rPr>
              <a:t>6. </a:t>
            </a:r>
            <a:r>
              <a:rPr b="1" i="1" lang="uk-UA" sz="2100" spc="-1" strike="noStrike">
                <a:solidFill>
                  <a:srgbClr val="19194b"/>
                </a:solidFill>
                <a:latin typeface="Times New Roman"/>
              </a:rPr>
              <a:t>Мультиформний шар</a:t>
            </a:r>
            <a:r>
              <a:rPr b="0" lang="uk-UA" sz="2100" spc="-1" strike="noStrike">
                <a:solidFill>
                  <a:srgbClr val="19194b"/>
                </a:solidFill>
                <a:latin typeface="Times New Roman"/>
              </a:rPr>
              <a:t> – містить круглі, веретеноподібні і трикутні клітини.</a:t>
            </a:r>
            <a:r>
              <a:rPr b="0" lang="ru-RU" sz="2100" spc="-1" strike="noStrike">
                <a:solidFill>
                  <a:srgbClr val="19194b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442200" y="1119240"/>
            <a:ext cx="251460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7979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5760" y="2085840"/>
            <a:ext cx="8377200" cy="27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66"/>
                </a:solidFill>
                <a:latin typeface="Times New Roman"/>
              </a:rPr>
              <a:t>Умовні рефлекси</a:t>
            </a:r>
            <a:r>
              <a:rPr b="1" lang="ru-RU" sz="3000" spc="-1" strike="noStrike">
                <a:solidFill>
                  <a:srgbClr val="000066"/>
                </a:solidFill>
                <a:latin typeface="Times New Roman"/>
              </a:rPr>
              <a:t> - </a:t>
            </a:r>
            <a:r>
              <a:rPr b="1" lang="uk-UA" sz="2900" spc="-1" strike="noStrike">
                <a:solidFill>
                  <a:srgbClr val="000000"/>
                </a:solidFill>
                <a:latin typeface="Times New Roman"/>
              </a:rPr>
              <a:t>якісно нові рефлекторні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Times New Roman"/>
              </a:rPr>
              <a:t>реакції для узгодження організму з навколишнім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Times New Roman"/>
              </a:rPr>
              <a:t>середовищем залежно від характеру і умов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Times New Roman"/>
              </a:rPr>
              <a:t>зовнішніх дій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9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3360" y="474840"/>
            <a:ext cx="791208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87640" y="814320"/>
            <a:ext cx="50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Умовні рефлекс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7979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92080" y="-31680"/>
            <a:ext cx="752976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4900"/>
                </a:solidFill>
                <a:latin typeface="Times New Roman"/>
              </a:rPr>
              <a:t>Утворення тимчасового зв</a:t>
            </a:r>
            <a:r>
              <a:rPr b="1" lang="en-US" sz="3600" spc="-1" strike="noStrike">
                <a:solidFill>
                  <a:srgbClr val="924900"/>
                </a:solidFill>
                <a:latin typeface="Times New Roman"/>
              </a:rPr>
              <a:t>’</a:t>
            </a:r>
            <a:r>
              <a:rPr b="1" lang="ru-RU" sz="3600" spc="-1" strike="noStrike">
                <a:solidFill>
                  <a:srgbClr val="924900"/>
                </a:solidFill>
                <a:latin typeface="Times New Roman"/>
              </a:rPr>
              <a:t>язку по шлях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4900"/>
                </a:solidFill>
                <a:latin typeface="Times New Roman"/>
              </a:rPr>
              <a:t>«кора-кора» за І.П. Павлови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44640" y="1030320"/>
            <a:ext cx="7391160" cy="5657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03240" y="1117440"/>
            <a:ext cx="5080320" cy="50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ра великих півку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55880" y="5308560"/>
            <a:ext cx="1143000" cy="3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Дзвони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32040" y="5245200"/>
            <a:ext cx="990720" cy="39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Їж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527880" y="2616120"/>
            <a:ext cx="1701720" cy="97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Центр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слино-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виділенн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20840" y="6083280"/>
            <a:ext cx="227340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Орієнтовн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рефлек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711680" y="5816520"/>
            <a:ext cx="1600200" cy="698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Виділенн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слин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65160" y="2590920"/>
            <a:ext cx="121932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Центр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слуху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7979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892080" y="317520"/>
            <a:ext cx="75297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80"/>
                </a:solidFill>
                <a:latin typeface="Times New Roman"/>
              </a:rPr>
              <a:t>Класифікація умовних рефлексі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000" y="1068480"/>
            <a:ext cx="3502080" cy="425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За походження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602160" y="861840"/>
            <a:ext cx="581040" cy="795600"/>
          </a:xfrm>
          <a:custGeom>
            <a:avLst/>
            <a:gdLst>
              <a:gd name="textAreaLeft" fmla="*/ 90720 w 581040"/>
              <a:gd name="textAreaRight" fmla="*/ 508680 w 581040"/>
              <a:gd name="textAreaTop" fmla="*/ 198720 h 795600"/>
              <a:gd name="textAreaBottom" fmla="*/ 596880 h 795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206960" y="1033560"/>
            <a:ext cx="4782960" cy="425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Натуральні та штучні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320" y="1639800"/>
            <a:ext cx="3502080" cy="10540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За характером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безумовного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ідкріпленн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597120" y="1799640"/>
            <a:ext cx="581040" cy="795240"/>
          </a:xfrm>
          <a:custGeom>
            <a:avLst/>
            <a:gdLst>
              <a:gd name="textAreaLeft" fmla="*/ 90720 w 581040"/>
              <a:gd name="textAreaRight" fmla="*/ 508680 w 581040"/>
              <a:gd name="textAreaTop" fmla="*/ 198720 h 795240"/>
              <a:gd name="textAreaBottom" fmla="*/ 596520 h 795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202280" y="1622520"/>
            <a:ext cx="4782960" cy="10540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Харчові, захисні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статеві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560" y="2895480"/>
            <a:ext cx="3511440" cy="701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За характеро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умовного сигналу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3610080" y="2841480"/>
            <a:ext cx="581040" cy="795600"/>
          </a:xfrm>
          <a:custGeom>
            <a:avLst/>
            <a:gdLst>
              <a:gd name="textAreaLeft" fmla="*/ 90720 w 581040"/>
              <a:gd name="textAreaRight" fmla="*/ 508680 w 581040"/>
              <a:gd name="textAreaTop" fmla="*/ 198720 h 795600"/>
              <a:gd name="textAreaBottom" fmla="*/ 596880 h 795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214880" y="2878200"/>
            <a:ext cx="4782960" cy="701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Светлові, звукові, тактильні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нюхові, температурні та інш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8760" y="4167360"/>
            <a:ext cx="3502080" cy="755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За характеро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ецепторі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622680" y="4114080"/>
            <a:ext cx="581040" cy="795240"/>
          </a:xfrm>
          <a:custGeom>
            <a:avLst/>
            <a:gdLst>
              <a:gd name="textAreaLeft" fmla="*/ 90720 w 581040"/>
              <a:gd name="textAreaRight" fmla="*/ 508680 w 581040"/>
              <a:gd name="textAreaTop" fmla="*/ 198720 h 795240"/>
              <a:gd name="textAreaBottom" fmla="*/ 596520 h 795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84640" y="4086360"/>
            <a:ext cx="4783320" cy="755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Екстероцептивні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інтероцептивні, проприоцептивні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8120" y="5392800"/>
            <a:ext cx="3502080" cy="425520"/>
          </a:xfrm>
          <a:prstGeom prst="rect">
            <a:avLst/>
          </a:prstGeom>
          <a:solidFill>
            <a:srgbClr val="ffff4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За ступенем складності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60840" y="5228640"/>
            <a:ext cx="581040" cy="795240"/>
          </a:xfrm>
          <a:custGeom>
            <a:avLst/>
            <a:gdLst>
              <a:gd name="textAreaLeft" fmla="*/ 90720 w 581040"/>
              <a:gd name="textAreaRight" fmla="*/ 508680 w 581040"/>
              <a:gd name="textAreaTop" fmla="*/ 198720 h 795240"/>
              <a:gd name="textAreaBottom" fmla="*/ 596520 h 795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97240" y="5400720"/>
            <a:ext cx="4783320" cy="425520"/>
          </a:xfrm>
          <a:prstGeom prst="rect">
            <a:avLst/>
          </a:prstGeom>
          <a:solidFill>
            <a:srgbClr val="ffff4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1, 2, 3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го порядку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7979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892080" y="320760"/>
            <a:ext cx="752976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a58"/>
                </a:solidFill>
                <a:latin typeface="Times New Roman"/>
              </a:rPr>
              <a:t>Види гальмуванн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a58"/>
                </a:solidFill>
                <a:latin typeface="Times New Roman"/>
              </a:rPr>
              <a:t>умовних рефлексі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33280" y="1917720"/>
            <a:ext cx="3872160" cy="86364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Безумовне (зовнішнє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альмуванн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4640" y="3041640"/>
            <a:ext cx="3459240" cy="63180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66"/>
                </a:solidFill>
                <a:latin typeface="Times New Roman"/>
              </a:rPr>
              <a:t>Позамежне гальмуванн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8040" y="3975120"/>
            <a:ext cx="3065400" cy="63180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66"/>
                </a:solidFill>
                <a:latin typeface="Times New Roman"/>
              </a:rPr>
              <a:t>Зовнішнє гальмуванн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900680" y="1917720"/>
            <a:ext cx="3706920" cy="863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мовне (внутрішнє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альмуванн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8800" y="3041640"/>
            <a:ext cx="2963880" cy="631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Згасаюч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51400" y="4584600"/>
            <a:ext cx="2963880" cy="631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Диференційова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26200" y="3797280"/>
            <a:ext cx="2963880" cy="631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Запізніл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8800" y="5403960"/>
            <a:ext cx="2963880" cy="631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Условне гальм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7979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701720" y="1620720"/>
            <a:ext cx="5727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80"/>
                </a:solidFill>
                <a:latin typeface="Times New Roman"/>
              </a:rPr>
              <a:t>Со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12680" y="2639880"/>
            <a:ext cx="7444080" cy="16495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80"/>
                </a:solidFill>
                <a:latin typeface="Times New Roman"/>
              </a:rPr>
              <a:t>Сон </a:t>
            </a:r>
            <a:r>
              <a:rPr b="1" lang="ru-RU" sz="26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це внутрішнє гальмування кори і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найближчої підкірки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7979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5a58"/>
                </a:solidFill>
                <a:latin typeface="Times New Roman"/>
              </a:rPr>
              <a:t>Механізм сн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0" y="1452600"/>
          <a:ext cx="182520" cy="16160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61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1800" y="3067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66760" y="1935000"/>
            <a:ext cx="4246560" cy="33703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813200" y="1946160"/>
            <a:ext cx="4098960" cy="34038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77720" y="4640400"/>
            <a:ext cx="1268640" cy="31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f6f6f"/>
                </a:solidFill>
                <a:latin typeface="Times New Roman"/>
              </a:rPr>
              <a:t>Центр сну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77720" y="5062680"/>
            <a:ext cx="1882800" cy="24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f6f6f"/>
                </a:solidFill>
                <a:latin typeface="Times New Roman"/>
              </a:rPr>
              <a:t>Бодрий стан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1T12:24:24Z</dcterms:created>
  <dc:creator>user 4</dc:creator>
  <dc:description/>
  <dc:language>en-US</dc:language>
  <cp:lastModifiedBy>Your User Name</cp:lastModifiedBy>
  <dcterms:modified xsi:type="dcterms:W3CDTF">2010-04-09T09:33:08Z</dcterms:modified>
  <cp:revision>123</cp:revision>
  <dc:subject/>
  <dc:title>Презентация PowerPoint</dc:title>
</cp:coreProperties>
</file>